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5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3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5.png" ContentType="image/png"/>
  <Override PartName="/ppt/media/image29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22AD-C6DA-422A-8086-7BD0B20C57D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04E4-3992-4B5C-82E7-BA66F7713B1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Відзначено Всесвітній день протидії торгівлі людьми та Європейський день боротьби з торгівлею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Проведено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26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тренінгів для понад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680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спеціалістів з виявлення, ідентифікації та надання допомоги особам, які постраждали від торгівлі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Розповсюджено понад 10 тис. друкованої продукції, розміщено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25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білбордів та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50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сіті-лайтів, виготовлено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300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брелоків та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1000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зошиті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Використано з обласного та місцевих бюджетів використано 35 тис. гр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1DB-F01C-41EA-9551-41F274D8B93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направлений на емоційно-інтелектуальний розвиток, вироблення лідерських якостей та патріотичне виховання дітей.За 3 дні тіим візьмуть участь у тренінгах з особистого розвитку, лекціях з лідерства, у них будуть майстер-класи, квести, вікторини, перегляди фільмі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відбувається у Таборі відпочинку, оздоровлення та патріотичного виховання дітей та молоді в Карпатах «Соколята», що у м. Хирів Старосамбірського району. Навчання в школі є інтерактивним, тому з дітьми працюватимуть як індивідуально, так і за допомогою групових з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ід час школи з дітьми працюватимуть, педагоги, тренери по розвитку та фотографи. Школа буде діяти і в наступному році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реалізується департаментом соціального захисту населення облдержадміністрації спільно з благодійним товариством  «Мережа» м. Львів»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69FD-7B49-40ED-93F5-31C1DF9E8F0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FDC-28F2-4EF0-BE13-07739838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435-19CC-41F2-87B0-2B5B7BC4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55A-FADC-49A2-BA79-D38A6265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233-B126-4F07-96F6-D51A890F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D62-986B-4369-AA71-D7E23652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770-73B7-464D-802B-A8D2BD4D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328-49C3-4E09-8C1A-D7395C7D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F27-C9AC-4FCA-8162-5314D3B4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17E-7628-4ED9-89B9-1A76952F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99C-BE2C-4675-B93D-58F00E8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909-98AA-4F18-A798-92BEECE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4C7-AB2A-4E7F-BAAE-B2899587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94C0-DD58-44F8-AA66-5E8D7128820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ОСІБ З ІНВАЛІДНІСТ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2"/>
          <p:cNvSpPr/>
          <p:nvPr/>
        </p:nvSpPr>
        <p:spPr>
          <a:xfrm>
            <a:off x="539640" y="206064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НАТОР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УРОРТНЕ ЛІК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Штриховая стрелка вправо 13"/>
          <p:cNvSpPr/>
          <p:nvPr/>
        </p:nvSpPr>
        <p:spPr>
          <a:xfrm>
            <a:off x="5580000" y="2133720"/>
            <a:ext cx="785880" cy="207720"/>
          </a:xfrm>
          <a:custGeom>
            <a:avLst/>
            <a:gdLst/>
            <a:ahLst/>
            <a:rect l="l" t="t" r="r" b="b"/>
            <a:pathLst>
              <a:path w="785812" h="207963">
                <a:moveTo>
                  <a:pt x="0" y="67835"/>
                </a:moveTo>
                <a:lnTo>
                  <a:pt x="6499" y="67835"/>
                </a:lnTo>
                <a:lnTo>
                  <a:pt x="6499" y="140128"/>
                </a:lnTo>
                <a:lnTo>
                  <a:pt x="0" y="140128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8"/>
                </a:lnTo>
                <a:lnTo>
                  <a:pt x="12998" y="140128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681831" y="67835"/>
                </a:lnTo>
                <a:lnTo>
                  <a:pt x="681831" y="0"/>
                </a:lnTo>
                <a:lnTo>
                  <a:pt x="785812" y="103982"/>
                </a:lnTo>
                <a:lnTo>
                  <a:pt x="681831" y="207963"/>
                </a:lnTo>
                <a:lnTo>
                  <a:pt x="681831" y="140128"/>
                </a:lnTo>
                <a:lnTo>
                  <a:pt x="32494" y="140128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5"/>
          <p:cNvSpPr/>
          <p:nvPr/>
        </p:nvSpPr>
        <p:spPr>
          <a:xfrm>
            <a:off x="539640" y="24922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ХНІЧНІ ЗАСОБИ РЕАБІЛІТ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Штриховая стрелка вправо 16"/>
          <p:cNvSpPr/>
          <p:nvPr/>
        </p:nvSpPr>
        <p:spPr>
          <a:xfrm>
            <a:off x="5580000" y="2637000"/>
            <a:ext cx="785880" cy="207720"/>
          </a:xfrm>
          <a:custGeom>
            <a:avLst/>
            <a:gdLst/>
            <a:ahLst/>
            <a:rect l="l" t="t" r="r" b="b"/>
            <a:pathLst>
              <a:path w="785812" h="207962">
                <a:moveTo>
                  <a:pt x="0" y="67835"/>
                </a:moveTo>
                <a:lnTo>
                  <a:pt x="6499" y="67835"/>
                </a:lnTo>
                <a:lnTo>
                  <a:pt x="6499" y="140127"/>
                </a:lnTo>
                <a:lnTo>
                  <a:pt x="0" y="140127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7"/>
                </a:lnTo>
                <a:lnTo>
                  <a:pt x="12998" y="140127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681831" y="67835"/>
                </a:lnTo>
                <a:lnTo>
                  <a:pt x="681831" y="0"/>
                </a:lnTo>
                <a:lnTo>
                  <a:pt x="785812" y="103981"/>
                </a:lnTo>
                <a:lnTo>
                  <a:pt x="681831" y="207962"/>
                </a:lnTo>
                <a:lnTo>
                  <a:pt x="681831" y="140127"/>
                </a:lnTo>
                <a:lnTo>
                  <a:pt x="32494" y="140127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9"/>
          <p:cNvSpPr/>
          <p:nvPr/>
        </p:nvSpPr>
        <p:spPr>
          <a:xfrm>
            <a:off x="684360" y="1197000"/>
            <a:ext cx="785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У Львівській області налічуєтьс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mbria"/>
              </a:rPr>
              <a:t>183,5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тисяч осіб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з інвалідніст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0"/>
          <p:cNvSpPr/>
          <p:nvPr/>
        </p:nvSpPr>
        <p:spPr>
          <a:xfrm>
            <a:off x="6588000" y="206064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mbria"/>
              </a:rPr>
              <a:t>730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осі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1"/>
          <p:cNvSpPr/>
          <p:nvPr/>
        </p:nvSpPr>
        <p:spPr>
          <a:xfrm>
            <a:off x="6804000" y="249228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mbria"/>
              </a:rPr>
              <a:t>1631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ос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об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25"/>
          <p:cNvSpPr/>
          <p:nvPr/>
        </p:nvSpPr>
        <p:spPr>
          <a:xfrm>
            <a:off x="3203640" y="4005360"/>
            <a:ext cx="3024000" cy="1800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289 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осіб з інвалідніст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здобули професію під час проходження комплексної реабіліт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34"/>
          <p:cNvSpPr/>
          <p:nvPr/>
        </p:nvSpPr>
        <p:spPr>
          <a:xfrm>
            <a:off x="250920" y="400536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21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агентів з організації туриз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35"/>
          <p:cNvSpPr/>
          <p:nvPr/>
        </p:nvSpPr>
        <p:spPr>
          <a:xfrm>
            <a:off x="250920" y="46530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64 </a:t>
            </a: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водіїв транспортних засобів (Б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6"/>
          <p:cNvSpPr/>
          <p:nvPr/>
        </p:nvSpPr>
        <p:spPr>
          <a:xfrm>
            <a:off x="250920" y="530064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9 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обліковців з реєстрації бухг. да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7"/>
          <p:cNvSpPr/>
          <p:nvPr/>
        </p:nvSpPr>
        <p:spPr>
          <a:xfrm>
            <a:off x="1000080" y="3284640"/>
            <a:ext cx="21319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16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живопис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38"/>
          <p:cNvSpPr/>
          <p:nvPr/>
        </p:nvSpPr>
        <p:spPr>
          <a:xfrm>
            <a:off x="4788000" y="3284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15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касирів в ба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39"/>
          <p:cNvSpPr/>
          <p:nvPr/>
        </p:nvSpPr>
        <p:spPr>
          <a:xfrm>
            <a:off x="6767640" y="400536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29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операторів комп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ютерного наб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40"/>
          <p:cNvSpPr/>
          <p:nvPr/>
        </p:nvSpPr>
        <p:spPr>
          <a:xfrm>
            <a:off x="6767640" y="46530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39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операторів комп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ютерної верс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41"/>
          <p:cNvSpPr/>
          <p:nvPr/>
        </p:nvSpPr>
        <p:spPr>
          <a:xfrm>
            <a:off x="6767640" y="530064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19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операторів котель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42"/>
          <p:cNvSpPr/>
          <p:nvPr/>
        </p:nvSpPr>
        <p:spPr>
          <a:xfrm>
            <a:off x="1692360" y="6165720"/>
            <a:ext cx="136692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5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перука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43"/>
          <p:cNvSpPr/>
          <p:nvPr/>
        </p:nvSpPr>
        <p:spPr>
          <a:xfrm>
            <a:off x="3203640" y="616572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23 </a:t>
            </a: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флористі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44"/>
          <p:cNvSpPr/>
          <p:nvPr/>
        </p:nvSpPr>
        <p:spPr>
          <a:xfrm>
            <a:off x="4788000" y="6165720"/>
            <a:ext cx="136836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9  </a:t>
            </a: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візажисті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45"/>
          <p:cNvSpPr/>
          <p:nvPr/>
        </p:nvSpPr>
        <p:spPr>
          <a:xfrm>
            <a:off x="3348000" y="3284640"/>
            <a:ext cx="129528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ліфте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46"/>
          <p:cNvSpPr/>
          <p:nvPr/>
        </p:nvSpPr>
        <p:spPr>
          <a:xfrm>
            <a:off x="6804000" y="328464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11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манікюрниц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47"/>
          <p:cNvSpPr/>
          <p:nvPr/>
        </p:nvSpPr>
        <p:spPr>
          <a:xfrm>
            <a:off x="6300720" y="6165720"/>
            <a:ext cx="129564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9 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куха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6"/>
          <p:cNvSpPr/>
          <p:nvPr/>
        </p:nvSpPr>
        <p:spPr>
          <a:xfrm>
            <a:off x="-192240" y="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БЛАСНІ КОМПЛЕКСНІ ПРОГ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2"/>
          <p:cNvSpPr/>
          <p:nvPr/>
        </p:nvSpPr>
        <p:spPr>
          <a:xfrm>
            <a:off x="428760" y="1708200"/>
            <a:ext cx="50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КОМПЛЕКСНА ПРОГРАМА СОЦІАЛЬНО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ІДТРИМКИ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У ЛЬВІВСЬКІЙ ОБЛАСТІ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УЧАСНИКІВ АТО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ТА ЇХНІХ РОДИН, А ТАКОЖ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РОДИН ГЕРОЇВ НЕБЕСНОЇ СОТНІ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НА 2016-2019 РО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Штриховая стрелка вправо 13"/>
          <p:cNvSpPr/>
          <p:nvPr/>
        </p:nvSpPr>
        <p:spPr>
          <a:xfrm>
            <a:off x="5572080" y="1994040"/>
            <a:ext cx="714600" cy="500040"/>
          </a:xfrm>
          <a:custGeom>
            <a:avLst/>
            <a:gdLst/>
            <a:ahLst/>
            <a:rect l="l" t="t" r="r" b="b"/>
            <a:pathLst>
              <a:path w="714375" h="500063">
                <a:moveTo>
                  <a:pt x="0" y="163116"/>
                </a:moveTo>
                <a:lnTo>
                  <a:pt x="15627" y="163116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6"/>
                </a:lnTo>
                <a:close/>
                <a:moveTo>
                  <a:pt x="31254" y="163116"/>
                </a:moveTo>
                <a:lnTo>
                  <a:pt x="62508" y="163116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6"/>
                </a:lnTo>
                <a:close/>
                <a:moveTo>
                  <a:pt x="78135" y="163116"/>
                </a:moveTo>
                <a:lnTo>
                  <a:pt x="464344" y="163116"/>
                </a:lnTo>
                <a:lnTo>
                  <a:pt x="464344" y="0"/>
                </a:lnTo>
                <a:lnTo>
                  <a:pt x="714375" y="250032"/>
                </a:lnTo>
                <a:lnTo>
                  <a:pt x="464344" y="500063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4"/>
          <p:cNvSpPr/>
          <p:nvPr/>
        </p:nvSpPr>
        <p:spPr>
          <a:xfrm>
            <a:off x="428760" y="3286080"/>
            <a:ext cx="50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КОМПЛЕКСНА ПРОГРАМА СОЦІАЛЬНО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ІДТРИМКИ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КРЕМИХ КАТЕГОРІЙ ГРОМАДЯН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ЛЬВІВСЬКОЇ ОБЛАСТІ НА 2014 – 2017 РО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Штриховая стрелка вправо 15"/>
          <p:cNvSpPr/>
          <p:nvPr/>
        </p:nvSpPr>
        <p:spPr>
          <a:xfrm>
            <a:off x="5572080" y="3500280"/>
            <a:ext cx="714600" cy="500400"/>
          </a:xfrm>
          <a:custGeom>
            <a:avLst/>
            <a:gdLst/>
            <a:ahLst/>
            <a:rect l="l" t="t" r="r" b="b"/>
            <a:pathLst>
              <a:path w="714375" h="500062">
                <a:moveTo>
                  <a:pt x="0" y="163115"/>
                </a:moveTo>
                <a:lnTo>
                  <a:pt x="15627" y="163115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5"/>
                </a:lnTo>
                <a:close/>
                <a:moveTo>
                  <a:pt x="31254" y="163115"/>
                </a:moveTo>
                <a:lnTo>
                  <a:pt x="62508" y="163115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5"/>
                </a:lnTo>
                <a:close/>
                <a:moveTo>
                  <a:pt x="78135" y="163115"/>
                </a:moveTo>
                <a:lnTo>
                  <a:pt x="464344" y="163115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6"/>
          <p:cNvSpPr/>
          <p:nvPr/>
        </p:nvSpPr>
        <p:spPr>
          <a:xfrm>
            <a:off x="428760" y="4708440"/>
            <a:ext cx="50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РОГРАМА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КОМПЕНСАЦІЇ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ПЕРЕВІЗНИКАМ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ЗА ПІЛЬГОВИЙ</a:t>
            </a: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 ПРОЇЗД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ОКРЕМИХ КАТЕГОРІЙ ГРОМАДЯН АВТОМОБІЛЬНИМ ТА ЗАЛІЗНИЧНИМ ТРАНСПОРТОМ У ЛЬВІВСЬКІЙ ОБЛАСТІ НА 2017 РІ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Штриховая стрелка вправо 17"/>
          <p:cNvSpPr/>
          <p:nvPr/>
        </p:nvSpPr>
        <p:spPr>
          <a:xfrm>
            <a:off x="5572080" y="4923000"/>
            <a:ext cx="714600" cy="500040"/>
          </a:xfrm>
          <a:custGeom>
            <a:avLst/>
            <a:gdLst/>
            <a:ahLst/>
            <a:rect l="l" t="t" r="r" b="b"/>
            <a:pathLst>
              <a:path w="714375" h="500062">
                <a:moveTo>
                  <a:pt x="0" y="163115"/>
                </a:moveTo>
                <a:lnTo>
                  <a:pt x="15627" y="163115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5"/>
                </a:lnTo>
                <a:close/>
                <a:moveTo>
                  <a:pt x="31254" y="163115"/>
                </a:moveTo>
                <a:lnTo>
                  <a:pt x="62508" y="163115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5"/>
                </a:lnTo>
                <a:close/>
                <a:moveTo>
                  <a:pt x="78135" y="163115"/>
                </a:moveTo>
                <a:lnTo>
                  <a:pt x="464344" y="163115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8"/>
          <p:cNvSpPr/>
          <p:nvPr/>
        </p:nvSpPr>
        <p:spPr>
          <a:xfrm>
            <a:off x="6429240" y="171468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15,7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00"/>
                </a:solidFill>
                <a:latin typeface="Cambria"/>
              </a:rPr>
              <a:t>2016 р. – 36,1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1"/>
          <p:cNvSpPr/>
          <p:nvPr/>
        </p:nvSpPr>
        <p:spPr>
          <a:xfrm>
            <a:off x="6429240" y="335772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31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00"/>
                </a:solidFill>
                <a:latin typeface="Cambria"/>
              </a:rPr>
              <a:t>2016 р. – 23,5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2"/>
          <p:cNvSpPr/>
          <p:nvPr/>
        </p:nvSpPr>
        <p:spPr>
          <a:xfrm>
            <a:off x="6429240" y="478620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16,7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00"/>
                </a:solidFill>
                <a:latin typeface="Cambria"/>
              </a:rPr>
              <a:t>2016 р. – 13,5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2"/>
          <p:cNvSpPr/>
          <p:nvPr/>
        </p:nvSpPr>
        <p:spPr>
          <a:xfrm>
            <a:off x="1357200" y="1428840"/>
            <a:ext cx="65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РОГРАМА СОЦІАЛЬНО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ІДТРИМКИ УЧАСНИКІВ АТО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ТА ЇХНІХ РОДИН, А ТАКОЖ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РОДИН ГЕРОЇВ НЕБЕСНОЇ СОТ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1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БЛАСНІ КОМПЛЕКСНІ ПРОГ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5"/>
          <p:cNvSpPr/>
          <p:nvPr/>
        </p:nvSpPr>
        <p:spPr>
          <a:xfrm>
            <a:off x="571680" y="2190600"/>
            <a:ext cx="257148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помога родинам, родичі яких загинули під час проведення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26"/>
          <p:cNvSpPr/>
          <p:nvPr/>
        </p:nvSpPr>
        <p:spPr>
          <a:xfrm>
            <a:off x="3429000" y="2190600"/>
            <a:ext cx="257184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опомога демобілізованим воїнам, АТО і звільненим особ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6215040" y="2190600"/>
            <a:ext cx="257184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mbria"/>
              </a:rPr>
              <a:t>Виплата дітям, учасників АТО, які загинули  під час участі в АТО та Героїв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Cambria"/>
              </a:rPr>
              <a:t>Небесної Сотн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28"/>
          <p:cNvSpPr/>
          <p:nvPr/>
        </p:nvSpPr>
        <p:spPr>
          <a:xfrm>
            <a:off x="571680" y="4214880"/>
            <a:ext cx="257148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льги на ЖКП родинам Героїв Небесної Сот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29"/>
          <p:cNvSpPr/>
          <p:nvPr/>
        </p:nvSpPr>
        <p:spPr>
          <a:xfrm>
            <a:off x="3429000" y="4214880"/>
            <a:ext cx="257184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тановлення пам’ятників на могилах загиблих під час А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30"/>
          <p:cNvSpPr/>
          <p:nvPr/>
        </p:nvSpPr>
        <p:spPr>
          <a:xfrm>
            <a:off x="6215040" y="4214880"/>
            <a:ext cx="2571840" cy="1857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Cambria"/>
              </a:rPr>
              <a:t>Допомога на реабілітацію особам з інвалідніст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1700" spc="-1" strike="noStrike">
                <a:solidFill>
                  <a:srgbClr val="000000"/>
                </a:solidFill>
                <a:latin typeface="Cambria"/>
              </a:rPr>
              <a:t>АТО І-ІІІ гру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5"/>
          <p:cNvSpPr/>
          <p:nvPr/>
        </p:nvSpPr>
        <p:spPr>
          <a:xfrm>
            <a:off x="7786800" y="1500120"/>
            <a:ext cx="1143000" cy="5000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6"/>
          <p:cNvSpPr/>
          <p:nvPr/>
        </p:nvSpPr>
        <p:spPr>
          <a:xfrm>
            <a:off x="7858080" y="155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38"/>
          <p:cNvSpPr/>
          <p:nvPr/>
        </p:nvSpPr>
        <p:spPr>
          <a:xfrm>
            <a:off x="2000160" y="359100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9"/>
          <p:cNvSpPr/>
          <p:nvPr/>
        </p:nvSpPr>
        <p:spPr>
          <a:xfrm>
            <a:off x="2071800" y="35798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40"/>
          <p:cNvSpPr/>
          <p:nvPr/>
        </p:nvSpPr>
        <p:spPr>
          <a:xfrm>
            <a:off x="214200" y="1441440"/>
            <a:ext cx="1285920" cy="50004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1"/>
          <p:cNvSpPr/>
          <p:nvPr/>
        </p:nvSpPr>
        <p:spPr>
          <a:xfrm>
            <a:off x="214200" y="14875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-сть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44"/>
          <p:cNvSpPr/>
          <p:nvPr/>
        </p:nvSpPr>
        <p:spPr>
          <a:xfrm>
            <a:off x="642960" y="360828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5"/>
          <p:cNvSpPr/>
          <p:nvPr/>
        </p:nvSpPr>
        <p:spPr>
          <a:xfrm>
            <a:off x="714240" y="358452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46"/>
          <p:cNvSpPr/>
          <p:nvPr/>
        </p:nvSpPr>
        <p:spPr>
          <a:xfrm>
            <a:off x="4857840" y="360828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7"/>
          <p:cNvSpPr/>
          <p:nvPr/>
        </p:nvSpPr>
        <p:spPr>
          <a:xfrm>
            <a:off x="4929120" y="35971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38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48"/>
          <p:cNvSpPr/>
          <p:nvPr/>
        </p:nvSpPr>
        <p:spPr>
          <a:xfrm>
            <a:off x="3500280" y="362736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49"/>
          <p:cNvSpPr/>
          <p:nvPr/>
        </p:nvSpPr>
        <p:spPr>
          <a:xfrm>
            <a:off x="3571920" y="360216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2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50"/>
          <p:cNvSpPr/>
          <p:nvPr/>
        </p:nvSpPr>
        <p:spPr>
          <a:xfrm>
            <a:off x="7572240" y="3632040"/>
            <a:ext cx="1143000" cy="41616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1"/>
          <p:cNvSpPr/>
          <p:nvPr/>
        </p:nvSpPr>
        <p:spPr>
          <a:xfrm>
            <a:off x="7643880" y="36194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62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52"/>
          <p:cNvSpPr/>
          <p:nvPr/>
        </p:nvSpPr>
        <p:spPr>
          <a:xfrm>
            <a:off x="6215040" y="364320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3"/>
          <p:cNvSpPr/>
          <p:nvPr/>
        </p:nvSpPr>
        <p:spPr>
          <a:xfrm>
            <a:off x="6286680" y="36259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54"/>
          <p:cNvSpPr/>
          <p:nvPr/>
        </p:nvSpPr>
        <p:spPr>
          <a:xfrm>
            <a:off x="2000160" y="559116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5"/>
          <p:cNvSpPr/>
          <p:nvPr/>
        </p:nvSpPr>
        <p:spPr>
          <a:xfrm>
            <a:off x="2071800" y="55800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56"/>
          <p:cNvSpPr/>
          <p:nvPr/>
        </p:nvSpPr>
        <p:spPr>
          <a:xfrm>
            <a:off x="642960" y="5608800"/>
            <a:ext cx="1143000" cy="41724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7"/>
          <p:cNvSpPr/>
          <p:nvPr/>
        </p:nvSpPr>
        <p:spPr>
          <a:xfrm>
            <a:off x="714240" y="558468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58"/>
          <p:cNvSpPr/>
          <p:nvPr/>
        </p:nvSpPr>
        <p:spPr>
          <a:xfrm>
            <a:off x="4857840" y="5608800"/>
            <a:ext cx="1143000" cy="4172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59"/>
          <p:cNvSpPr/>
          <p:nvPr/>
        </p:nvSpPr>
        <p:spPr>
          <a:xfrm>
            <a:off x="4929120" y="55976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4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60"/>
          <p:cNvSpPr/>
          <p:nvPr/>
        </p:nvSpPr>
        <p:spPr>
          <a:xfrm>
            <a:off x="3500280" y="562752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1"/>
          <p:cNvSpPr/>
          <p:nvPr/>
        </p:nvSpPr>
        <p:spPr>
          <a:xfrm>
            <a:off x="3571920" y="56023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62"/>
          <p:cNvSpPr/>
          <p:nvPr/>
        </p:nvSpPr>
        <p:spPr>
          <a:xfrm>
            <a:off x="7572240" y="5632560"/>
            <a:ext cx="1143000" cy="4158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3"/>
          <p:cNvSpPr/>
          <p:nvPr/>
        </p:nvSpPr>
        <p:spPr>
          <a:xfrm>
            <a:off x="7643880" y="56196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6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64"/>
          <p:cNvSpPr/>
          <p:nvPr/>
        </p:nvSpPr>
        <p:spPr>
          <a:xfrm>
            <a:off x="6215040" y="564984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5"/>
          <p:cNvSpPr/>
          <p:nvPr/>
        </p:nvSpPr>
        <p:spPr>
          <a:xfrm>
            <a:off x="6286680" y="562608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2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2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3"/>
          <p:cNvSpPr/>
          <p:nvPr/>
        </p:nvSpPr>
        <p:spPr>
          <a:xfrm>
            <a:off x="6072120" y="6357960"/>
            <a:ext cx="3071880" cy="474840"/>
          </a:xfrm>
          <a:prstGeom prst="rect">
            <a:avLst/>
          </a:prstGeom>
          <a:solidFill>
            <a:srgbClr val="ffc0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∑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ru-RU" sz="2500" spc="-1" strike="noStrike">
                <a:solidFill>
                  <a:srgbClr val="ff0000"/>
                </a:solidFill>
                <a:latin typeface="Cambria"/>
              </a:rPr>
              <a:t>15,7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4"/>
          <p:cNvSpPr/>
          <p:nvPr/>
        </p:nvSpPr>
        <p:spPr>
          <a:xfrm>
            <a:off x="571680" y="135720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РОГРАМА СОЦІАЛЬНО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ІДТРИМ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КРЕМИХ КАТЕГОРІЙ ГРОМАДЯН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ЛЬВІВСЬКОЇ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БЛАСНІ КОМПЛЕКСНІ ПРОГ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23"/>
          <p:cNvSpPr/>
          <p:nvPr/>
        </p:nvSpPr>
        <p:spPr>
          <a:xfrm>
            <a:off x="571680" y="2190600"/>
            <a:ext cx="257148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помоги учасникам УПА та реабілітова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24"/>
          <p:cNvSpPr/>
          <p:nvPr/>
        </p:nvSpPr>
        <p:spPr>
          <a:xfrm>
            <a:off x="3429000" y="2190600"/>
            <a:ext cx="257184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Фінансова підтримка громадських організа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5"/>
          <p:cNvSpPr/>
          <p:nvPr/>
        </p:nvSpPr>
        <p:spPr>
          <a:xfrm>
            <a:off x="6215040" y="2190600"/>
            <a:ext cx="257184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mbria"/>
              </a:rPr>
              <a:t>Надання матеріальних допомо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26"/>
          <p:cNvSpPr/>
          <p:nvPr/>
        </p:nvSpPr>
        <p:spPr>
          <a:xfrm>
            <a:off x="571680" y="4357800"/>
            <a:ext cx="257148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дтримка багатодітних сі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27"/>
          <p:cNvSpPr/>
          <p:nvPr/>
        </p:nvSpPr>
        <p:spPr>
          <a:xfrm>
            <a:off x="3429000" y="4357800"/>
            <a:ext cx="257184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помога постраждалим від надзвичайних ситуа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28"/>
          <p:cNvSpPr/>
          <p:nvPr/>
        </p:nvSpPr>
        <p:spPr>
          <a:xfrm>
            <a:off x="6215040" y="4357800"/>
            <a:ext cx="2571840" cy="1857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абезпечення осіб з інвалідністю по зору засобами реабіліт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29"/>
          <p:cNvSpPr/>
          <p:nvPr/>
        </p:nvSpPr>
        <p:spPr>
          <a:xfrm>
            <a:off x="2000160" y="359100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0"/>
          <p:cNvSpPr/>
          <p:nvPr/>
        </p:nvSpPr>
        <p:spPr>
          <a:xfrm>
            <a:off x="2071800" y="35798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12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31"/>
          <p:cNvSpPr/>
          <p:nvPr/>
        </p:nvSpPr>
        <p:spPr>
          <a:xfrm>
            <a:off x="642960" y="360828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2"/>
          <p:cNvSpPr/>
          <p:nvPr/>
        </p:nvSpPr>
        <p:spPr>
          <a:xfrm>
            <a:off x="714240" y="358452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39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33"/>
          <p:cNvSpPr/>
          <p:nvPr/>
        </p:nvSpPr>
        <p:spPr>
          <a:xfrm>
            <a:off x="4857840" y="360828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4"/>
          <p:cNvSpPr/>
          <p:nvPr/>
        </p:nvSpPr>
        <p:spPr>
          <a:xfrm>
            <a:off x="4929120" y="35971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34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35"/>
          <p:cNvSpPr/>
          <p:nvPr/>
        </p:nvSpPr>
        <p:spPr>
          <a:xfrm>
            <a:off x="3500280" y="362736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6"/>
          <p:cNvSpPr/>
          <p:nvPr/>
        </p:nvSpPr>
        <p:spPr>
          <a:xfrm>
            <a:off x="3571920" y="360216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37"/>
          <p:cNvSpPr/>
          <p:nvPr/>
        </p:nvSpPr>
        <p:spPr>
          <a:xfrm>
            <a:off x="7572240" y="3632040"/>
            <a:ext cx="1143000" cy="41616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8"/>
          <p:cNvSpPr/>
          <p:nvPr/>
        </p:nvSpPr>
        <p:spPr>
          <a:xfrm>
            <a:off x="7643880" y="36194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48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39"/>
          <p:cNvSpPr/>
          <p:nvPr/>
        </p:nvSpPr>
        <p:spPr>
          <a:xfrm>
            <a:off x="6215040" y="364968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0"/>
          <p:cNvSpPr/>
          <p:nvPr/>
        </p:nvSpPr>
        <p:spPr>
          <a:xfrm>
            <a:off x="6286680" y="36259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81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1"/>
          <p:cNvSpPr/>
          <p:nvPr/>
        </p:nvSpPr>
        <p:spPr>
          <a:xfrm>
            <a:off x="2000160" y="573408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2"/>
          <p:cNvSpPr/>
          <p:nvPr/>
        </p:nvSpPr>
        <p:spPr>
          <a:xfrm>
            <a:off x="2071800" y="57229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3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43"/>
          <p:cNvSpPr/>
          <p:nvPr/>
        </p:nvSpPr>
        <p:spPr>
          <a:xfrm>
            <a:off x="642960" y="575136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44"/>
          <p:cNvSpPr/>
          <p:nvPr/>
        </p:nvSpPr>
        <p:spPr>
          <a:xfrm>
            <a:off x="714240" y="572760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1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45"/>
          <p:cNvSpPr/>
          <p:nvPr/>
        </p:nvSpPr>
        <p:spPr>
          <a:xfrm>
            <a:off x="4857840" y="575136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6"/>
          <p:cNvSpPr/>
          <p:nvPr/>
        </p:nvSpPr>
        <p:spPr>
          <a:xfrm>
            <a:off x="4929120" y="574056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8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47"/>
          <p:cNvSpPr/>
          <p:nvPr/>
        </p:nvSpPr>
        <p:spPr>
          <a:xfrm>
            <a:off x="3500280" y="577044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8"/>
          <p:cNvSpPr/>
          <p:nvPr/>
        </p:nvSpPr>
        <p:spPr>
          <a:xfrm>
            <a:off x="3571920" y="57452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49"/>
          <p:cNvSpPr/>
          <p:nvPr/>
        </p:nvSpPr>
        <p:spPr>
          <a:xfrm>
            <a:off x="7572240" y="5775480"/>
            <a:ext cx="1143000" cy="4158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0"/>
          <p:cNvSpPr/>
          <p:nvPr/>
        </p:nvSpPr>
        <p:spPr>
          <a:xfrm>
            <a:off x="7643880" y="57625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1"/>
          <p:cNvSpPr/>
          <p:nvPr/>
        </p:nvSpPr>
        <p:spPr>
          <a:xfrm>
            <a:off x="6215040" y="579276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52"/>
          <p:cNvSpPr/>
          <p:nvPr/>
        </p:nvSpPr>
        <p:spPr>
          <a:xfrm>
            <a:off x="6286680" y="57690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55"/>
          <p:cNvSpPr/>
          <p:nvPr/>
        </p:nvSpPr>
        <p:spPr>
          <a:xfrm>
            <a:off x="7786800" y="1500120"/>
            <a:ext cx="1143000" cy="5000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6"/>
          <p:cNvSpPr/>
          <p:nvPr/>
        </p:nvSpPr>
        <p:spPr>
          <a:xfrm>
            <a:off x="7858080" y="155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7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8"/>
          <p:cNvSpPr/>
          <p:nvPr/>
        </p:nvSpPr>
        <p:spPr>
          <a:xfrm>
            <a:off x="6072120" y="6357960"/>
            <a:ext cx="3071880" cy="474840"/>
          </a:xfrm>
          <a:prstGeom prst="rect">
            <a:avLst/>
          </a:prstGeom>
          <a:solidFill>
            <a:srgbClr val="ffc0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∑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ru-RU" sz="2500" spc="-1" strike="noStrike">
                <a:solidFill>
                  <a:srgbClr val="ff0000"/>
                </a:solidFill>
                <a:latin typeface="Cambria"/>
              </a:rPr>
              <a:t>31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60"/>
          <p:cNvSpPr/>
          <p:nvPr/>
        </p:nvSpPr>
        <p:spPr>
          <a:xfrm>
            <a:off x="214200" y="1441440"/>
            <a:ext cx="1285920" cy="50004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61"/>
          <p:cNvSpPr/>
          <p:nvPr/>
        </p:nvSpPr>
        <p:spPr>
          <a:xfrm>
            <a:off x="214200" y="14875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-сть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214200" y="500040"/>
            <a:ext cx="892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СПІВПРАЦЯ З ГРОМАДСЬКИМ СЕКТОР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280" y="28584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21"/>
          <p:cNvSpPr/>
          <p:nvPr/>
        </p:nvSpPr>
        <p:spPr>
          <a:xfrm>
            <a:off x="642960" y="157176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КОНКУРС МІКРОПРОЕК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373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2"/>
          <p:cNvSpPr/>
          <p:nvPr/>
        </p:nvSpPr>
        <p:spPr>
          <a:xfrm>
            <a:off x="714240" y="32162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ІДТРИМКА СТАТУТН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452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3"/>
          <p:cNvSpPr/>
          <p:nvPr/>
        </p:nvSpPr>
        <p:spPr>
          <a:xfrm>
            <a:off x="785880" y="47163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АКУПІВ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СОЦІАЛЬНИХ ПО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518,5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Штриховая стрелка вправо 24"/>
          <p:cNvSpPr/>
          <p:nvPr/>
        </p:nvSpPr>
        <p:spPr>
          <a:xfrm rot="21160800">
            <a:off x="3719160" y="192096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Штриховая стрелка вправо 25"/>
          <p:cNvSpPr/>
          <p:nvPr/>
        </p:nvSpPr>
        <p:spPr>
          <a:xfrm rot="657600">
            <a:off x="3719160" y="209376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7"/>
          <p:cNvSpPr/>
          <p:nvPr/>
        </p:nvSpPr>
        <p:spPr>
          <a:xfrm>
            <a:off x="4429080" y="164304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14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громадських організац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8"/>
          <p:cNvSpPr/>
          <p:nvPr/>
        </p:nvSpPr>
        <p:spPr>
          <a:xfrm>
            <a:off x="4286160" y="20718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5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реалізованих проек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Штриховая стрелка вправо 30"/>
          <p:cNvSpPr/>
          <p:nvPr/>
        </p:nvSpPr>
        <p:spPr>
          <a:xfrm>
            <a:off x="3719520" y="359244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2"/>
          <p:cNvSpPr/>
          <p:nvPr/>
        </p:nvSpPr>
        <p:spPr>
          <a:xfrm>
            <a:off x="4643280" y="342900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32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громадські організ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34"/>
          <p:cNvSpPr/>
          <p:nvPr/>
        </p:nvSpPr>
        <p:spPr>
          <a:xfrm>
            <a:off x="5000760" y="442908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620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осіб, яких торкнулась епідемія ВІЛ/СНІД,отримали соціальні послу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Штриховая стрелка вправо 35"/>
          <p:cNvSpPr/>
          <p:nvPr/>
        </p:nvSpPr>
        <p:spPr>
          <a:xfrm rot="21160800">
            <a:off x="3719160" y="507996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Штриховая стрелка вправо 36"/>
          <p:cNvSpPr/>
          <p:nvPr/>
        </p:nvSpPr>
        <p:spPr>
          <a:xfrm rot="657600">
            <a:off x="3719160" y="526428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7"/>
          <p:cNvSpPr/>
          <p:nvPr/>
        </p:nvSpPr>
        <p:spPr>
          <a:xfrm>
            <a:off x="5000760" y="542916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Вперше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в Україні через систему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zor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8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Овал 15"/>
          <p:cNvSpPr/>
          <p:nvPr/>
        </p:nvSpPr>
        <p:spPr>
          <a:xfrm>
            <a:off x="1928880" y="1571760"/>
            <a:ext cx="1000080" cy="571320"/>
          </a:xfrm>
          <a:prstGeom prst="ellipse">
            <a:avLst/>
          </a:pr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13"/>
          <p:cNvSpPr/>
          <p:nvPr/>
        </p:nvSpPr>
        <p:spPr>
          <a:xfrm>
            <a:off x="1928880" y="4714920"/>
            <a:ext cx="1000080" cy="571320"/>
          </a:xfrm>
          <a:prstGeom prst="ellipse">
            <a:avLst/>
          </a:pr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7867800" y="71280"/>
            <a:ext cx="1276200" cy="14576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22"/>
          <p:cNvSpPr/>
          <p:nvPr/>
        </p:nvSpPr>
        <p:spPr>
          <a:xfrm>
            <a:off x="357120" y="642960"/>
            <a:ext cx="892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ЗАКЛАДИ ПОСТІЙНОГО ПРОЖИ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4" descr="інтернати+стацвідділення.jpg"/>
          <p:cNvPicPr/>
          <p:nvPr/>
        </p:nvPicPr>
        <p:blipFill>
          <a:blip r:embed="rId3"/>
          <a:stretch/>
        </p:blipFill>
        <p:spPr>
          <a:xfrm>
            <a:off x="5037120" y="2500200"/>
            <a:ext cx="4106880" cy="413856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16"/>
          <p:cNvSpPr/>
          <p:nvPr/>
        </p:nvSpPr>
        <p:spPr>
          <a:xfrm>
            <a:off x="571680" y="1571760"/>
            <a:ext cx="364320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установ системи соціального захист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Штриховая стрелка вправо 18"/>
          <p:cNvSpPr/>
          <p:nvPr/>
        </p:nvSpPr>
        <p:spPr>
          <a:xfrm>
            <a:off x="4357800" y="2000160"/>
            <a:ext cx="1071360" cy="214560"/>
          </a:xfrm>
          <a:custGeom>
            <a:avLst/>
            <a:gdLst/>
            <a:ahLst/>
            <a:rect l="l" t="t" r="r" b="b"/>
            <a:pathLst>
              <a:path w="1071562" h="214313">
                <a:moveTo>
                  <a:pt x="0" y="69907"/>
                </a:moveTo>
                <a:lnTo>
                  <a:pt x="6697" y="69907"/>
                </a:lnTo>
                <a:lnTo>
                  <a:pt x="6697" y="144406"/>
                </a:lnTo>
                <a:lnTo>
                  <a:pt x="0" y="144406"/>
                </a:lnTo>
                <a:lnTo>
                  <a:pt x="0" y="69907"/>
                </a:lnTo>
                <a:close/>
                <a:moveTo>
                  <a:pt x="13395" y="69907"/>
                </a:moveTo>
                <a:lnTo>
                  <a:pt x="26789" y="69907"/>
                </a:lnTo>
                <a:lnTo>
                  <a:pt x="26789" y="144406"/>
                </a:lnTo>
                <a:lnTo>
                  <a:pt x="13395" y="144406"/>
                </a:lnTo>
                <a:lnTo>
                  <a:pt x="13395" y="69907"/>
                </a:lnTo>
                <a:close/>
                <a:moveTo>
                  <a:pt x="33486" y="69907"/>
                </a:moveTo>
                <a:lnTo>
                  <a:pt x="964406" y="69907"/>
                </a:lnTo>
                <a:lnTo>
                  <a:pt x="964406" y="0"/>
                </a:lnTo>
                <a:lnTo>
                  <a:pt x="1071562" y="107157"/>
                </a:lnTo>
                <a:lnTo>
                  <a:pt x="964406" y="214313"/>
                </a:lnTo>
                <a:lnTo>
                  <a:pt x="964406" y="144406"/>
                </a:lnTo>
                <a:lnTo>
                  <a:pt x="33486" y="144406"/>
                </a:lnTo>
                <a:lnTo>
                  <a:pt x="33486" y="69907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9"/>
          <p:cNvSpPr/>
          <p:nvPr/>
        </p:nvSpPr>
        <p:spPr>
          <a:xfrm>
            <a:off x="6072120" y="1571760"/>
            <a:ext cx="2357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178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підопічни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0"/>
          <p:cNvSpPr/>
          <p:nvPr/>
        </p:nvSpPr>
        <p:spPr>
          <a:xfrm>
            <a:off x="500040" y="3022560"/>
            <a:ext cx="4286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336600"/>
                </a:solidFill>
                <a:latin typeface="Cambria"/>
              </a:rPr>
              <a:t>2</a:t>
            </a: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дитя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7030a0"/>
                </a:solidFill>
                <a:latin typeface="Cambria"/>
              </a:rPr>
              <a:t>3</a:t>
            </a: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геріатрич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46c0a"/>
                </a:solidFill>
                <a:latin typeface="Cambria"/>
              </a:rPr>
              <a:t>8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психоневрологіч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3"/>
          <p:cNvSpPr/>
          <p:nvPr/>
        </p:nvSpPr>
        <p:spPr>
          <a:xfrm>
            <a:off x="571680" y="4699080"/>
            <a:ext cx="378612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Cambria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стаціонарних відділен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Штриховая стрелка вправо 24"/>
          <p:cNvSpPr/>
          <p:nvPr/>
        </p:nvSpPr>
        <p:spPr>
          <a:xfrm rot="5400000">
            <a:off x="2250000" y="5821920"/>
            <a:ext cx="428760" cy="214560"/>
          </a:xfrm>
          <a:custGeom>
            <a:avLst/>
            <a:gdLst/>
            <a:ahLst/>
            <a:rect l="l" t="t" r="r" b="b"/>
            <a:pathLst>
              <a:path w="428625" h="214312">
                <a:moveTo>
                  <a:pt x="0" y="69906"/>
                </a:moveTo>
                <a:lnTo>
                  <a:pt x="6697" y="69906"/>
                </a:lnTo>
                <a:lnTo>
                  <a:pt x="6697" y="144406"/>
                </a:lnTo>
                <a:lnTo>
                  <a:pt x="0" y="144406"/>
                </a:lnTo>
                <a:lnTo>
                  <a:pt x="0" y="69906"/>
                </a:lnTo>
                <a:close/>
                <a:moveTo>
                  <a:pt x="13395" y="69906"/>
                </a:moveTo>
                <a:lnTo>
                  <a:pt x="26789" y="69906"/>
                </a:lnTo>
                <a:lnTo>
                  <a:pt x="26789" y="144406"/>
                </a:lnTo>
                <a:lnTo>
                  <a:pt x="13395" y="144406"/>
                </a:lnTo>
                <a:lnTo>
                  <a:pt x="13395" y="69906"/>
                </a:lnTo>
                <a:close/>
                <a:moveTo>
                  <a:pt x="33486" y="69906"/>
                </a:moveTo>
                <a:lnTo>
                  <a:pt x="321469" y="69906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2"/>
                </a:lnTo>
                <a:lnTo>
                  <a:pt x="321469" y="144406"/>
                </a:lnTo>
                <a:lnTo>
                  <a:pt x="33486" y="144406"/>
                </a:lnTo>
                <a:lnTo>
                  <a:pt x="33486" y="699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6"/>
          <p:cNvSpPr/>
          <p:nvPr/>
        </p:nvSpPr>
        <p:spPr>
          <a:xfrm>
            <a:off x="785880" y="6143760"/>
            <a:ext cx="33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lang="uk-UA" sz="3200" spc="-1" strike="noStrike">
                <a:solidFill>
                  <a:srgbClr val="ff0000"/>
                </a:solidFill>
                <a:latin typeface="Cambria"/>
              </a:rPr>
              <a:t>58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підопічни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7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Скругленный прямоугольник 14"/>
          <p:cNvSpPr/>
          <p:nvPr/>
        </p:nvSpPr>
        <p:spPr>
          <a:xfrm>
            <a:off x="428760" y="2500200"/>
            <a:ext cx="4143240" cy="30718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7867800" y="71280"/>
            <a:ext cx="1276200" cy="14576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22"/>
          <p:cNvSpPr/>
          <p:nvPr/>
        </p:nvSpPr>
        <p:spPr>
          <a:xfrm>
            <a:off x="214200" y="500040"/>
            <a:ext cx="8929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ЦЕНТРИ РЕАБІЛІТАЦІЇ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ДІТЕЙ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З ІНВАЛІДНІСТ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"/>
          <p:cNvSpPr/>
          <p:nvPr/>
        </p:nvSpPr>
        <p:spPr>
          <a:xfrm>
            <a:off x="500040" y="1357200"/>
            <a:ext cx="2643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9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цент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відді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Штриховая стрелка вправо 13"/>
          <p:cNvSpPr/>
          <p:nvPr/>
        </p:nvSpPr>
        <p:spPr>
          <a:xfrm>
            <a:off x="4000680" y="1714680"/>
            <a:ext cx="1285560" cy="214200"/>
          </a:xfrm>
          <a:custGeom>
            <a:avLst/>
            <a:gdLst/>
            <a:ahLst/>
            <a:rect l="l" t="t" r="r" b="b"/>
            <a:pathLst>
              <a:path w="1285875" h="214313">
                <a:moveTo>
                  <a:pt x="0" y="69907"/>
                </a:moveTo>
                <a:lnTo>
                  <a:pt x="6697" y="69907"/>
                </a:lnTo>
                <a:lnTo>
                  <a:pt x="6697" y="144406"/>
                </a:lnTo>
                <a:lnTo>
                  <a:pt x="0" y="144406"/>
                </a:lnTo>
                <a:lnTo>
                  <a:pt x="0" y="69907"/>
                </a:lnTo>
                <a:close/>
                <a:moveTo>
                  <a:pt x="13395" y="69907"/>
                </a:moveTo>
                <a:lnTo>
                  <a:pt x="26789" y="69907"/>
                </a:lnTo>
                <a:lnTo>
                  <a:pt x="26789" y="144406"/>
                </a:lnTo>
                <a:lnTo>
                  <a:pt x="13395" y="144406"/>
                </a:lnTo>
                <a:lnTo>
                  <a:pt x="13395" y="69907"/>
                </a:lnTo>
                <a:close/>
                <a:moveTo>
                  <a:pt x="33486" y="69907"/>
                </a:moveTo>
                <a:lnTo>
                  <a:pt x="1178719" y="69907"/>
                </a:lnTo>
                <a:lnTo>
                  <a:pt x="1178719" y="0"/>
                </a:lnTo>
                <a:lnTo>
                  <a:pt x="1285875" y="107157"/>
                </a:lnTo>
                <a:lnTo>
                  <a:pt x="1178719" y="214313"/>
                </a:lnTo>
                <a:lnTo>
                  <a:pt x="1178719" y="144406"/>
                </a:lnTo>
                <a:lnTo>
                  <a:pt x="33486" y="144406"/>
                </a:lnTo>
                <a:lnTo>
                  <a:pt x="33486" y="69907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5"/>
          <p:cNvSpPr/>
          <p:nvPr/>
        </p:nvSpPr>
        <p:spPr>
          <a:xfrm>
            <a:off x="6357960" y="1571760"/>
            <a:ext cx="235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425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ді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7"/>
          <p:cNvSpPr/>
          <p:nvPr/>
        </p:nvSpPr>
        <p:spPr>
          <a:xfrm>
            <a:off x="642960" y="2763720"/>
            <a:ext cx="400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ціальна реабіліт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мунікативна корек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арт-терап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рекція мов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сихологічна корек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фізична реабіліт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16" descr="центри реабілітації.jpg"/>
          <p:cNvPicPr/>
          <p:nvPr/>
        </p:nvPicPr>
        <p:blipFill>
          <a:blip r:embed="rId3"/>
          <a:stretch/>
        </p:blipFill>
        <p:spPr>
          <a:xfrm>
            <a:off x="5214960" y="2357280"/>
            <a:ext cx="3571920" cy="37148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18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0"/>
          <p:cNvSpPr/>
          <p:nvPr/>
        </p:nvSpPr>
        <p:spPr>
          <a:xfrm>
            <a:off x="214200" y="627696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СТВОР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5"/>
          <p:cNvSpPr/>
          <p:nvPr/>
        </p:nvSpPr>
        <p:spPr>
          <a:xfrm>
            <a:off x="2643120" y="6215040"/>
            <a:ext cx="65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Відділення соціальної реабілітації при Городоцькому терцентр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Штриховая стрелка вправо 32"/>
          <p:cNvSpPr/>
          <p:nvPr/>
        </p:nvSpPr>
        <p:spPr>
          <a:xfrm>
            <a:off x="1643040" y="6357960"/>
            <a:ext cx="993960" cy="189000"/>
          </a:xfrm>
          <a:custGeom>
            <a:avLst/>
            <a:gdLst/>
            <a:ahLst/>
            <a:rect l="l" t="t" r="r" b="b"/>
            <a:pathLst>
              <a:path w="993775" h="188912">
                <a:moveTo>
                  <a:pt x="0" y="61621"/>
                </a:moveTo>
                <a:lnTo>
                  <a:pt x="5904" y="61621"/>
                </a:lnTo>
                <a:lnTo>
                  <a:pt x="5904" y="127291"/>
                </a:lnTo>
                <a:lnTo>
                  <a:pt x="0" y="127291"/>
                </a:lnTo>
                <a:lnTo>
                  <a:pt x="0" y="61621"/>
                </a:lnTo>
                <a:close/>
                <a:moveTo>
                  <a:pt x="11807" y="61621"/>
                </a:moveTo>
                <a:lnTo>
                  <a:pt x="23614" y="61621"/>
                </a:lnTo>
                <a:lnTo>
                  <a:pt x="23614" y="127291"/>
                </a:lnTo>
                <a:lnTo>
                  <a:pt x="11807" y="127291"/>
                </a:lnTo>
                <a:lnTo>
                  <a:pt x="11807" y="61621"/>
                </a:lnTo>
                <a:close/>
                <a:moveTo>
                  <a:pt x="29518" y="61621"/>
                </a:moveTo>
                <a:lnTo>
                  <a:pt x="899319" y="61621"/>
                </a:lnTo>
                <a:lnTo>
                  <a:pt x="899319" y="0"/>
                </a:lnTo>
                <a:lnTo>
                  <a:pt x="993775" y="94456"/>
                </a:lnTo>
                <a:lnTo>
                  <a:pt x="899319" y="188912"/>
                </a:lnTo>
                <a:lnTo>
                  <a:pt x="899319" y="127291"/>
                </a:lnTo>
                <a:lnTo>
                  <a:pt x="29518" y="127291"/>
                </a:lnTo>
                <a:lnTo>
                  <a:pt x="29518" y="61621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7867800" y="71280"/>
            <a:ext cx="1276200" cy="1457640"/>
          </a:xfrm>
          <a:prstGeom prst="rect">
            <a:avLst/>
          </a:prstGeom>
          <a:ln w="0">
            <a:noFill/>
          </a:ln>
        </p:spPr>
      </p:pic>
      <p:sp>
        <p:nvSpPr>
          <p:cNvPr id="317" name="TextBox 22"/>
          <p:cNvSpPr/>
          <p:nvPr/>
        </p:nvSpPr>
        <p:spPr>
          <a:xfrm>
            <a:off x="214200" y="500040"/>
            <a:ext cx="892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СОЦІАЛЬНІ ЦЕНТ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8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19" descr="Бордіян.jpg"/>
          <p:cNvPicPr/>
          <p:nvPr/>
        </p:nvPicPr>
        <p:blipFill>
          <a:blip r:embed="rId3"/>
          <a:stretch/>
        </p:blipFill>
        <p:spPr>
          <a:xfrm>
            <a:off x="3000240" y="3276720"/>
            <a:ext cx="3467160" cy="358128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26"/>
          <p:cNvSpPr/>
          <p:nvPr/>
        </p:nvSpPr>
        <p:spPr>
          <a:xfrm>
            <a:off x="142920" y="1428840"/>
            <a:ext cx="36432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ff"/>
                </a:solidFill>
                <a:latin typeface="Cambria"/>
              </a:rPr>
              <a:t>Цент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соціальних служб для сім’ї, дітей та молод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9"/>
          <p:cNvSpPr/>
          <p:nvPr/>
        </p:nvSpPr>
        <p:spPr>
          <a:xfrm>
            <a:off x="4286160" y="1357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Соціальний супрові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Cambria"/>
              </a:rPr>
              <a:t>741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сім’я – 21826 соціальних по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Штриховая стрелка вправо 30"/>
          <p:cNvSpPr/>
          <p:nvPr/>
        </p:nvSpPr>
        <p:spPr>
          <a:xfrm rot="20630400">
            <a:off x="3795840" y="1891800"/>
            <a:ext cx="699840" cy="136800"/>
          </a:xfrm>
          <a:custGeom>
            <a:avLst/>
            <a:gdLst/>
            <a:ahLst/>
            <a:rect l="l" t="t" r="r" b="b"/>
            <a:pathLst>
              <a:path w="700087" h="136525">
                <a:moveTo>
                  <a:pt x="0" y="44533"/>
                </a:moveTo>
                <a:lnTo>
                  <a:pt x="4266" y="44533"/>
                </a:lnTo>
                <a:lnTo>
                  <a:pt x="4266" y="91992"/>
                </a:lnTo>
                <a:lnTo>
                  <a:pt x="0" y="91992"/>
                </a:lnTo>
                <a:lnTo>
                  <a:pt x="0" y="44533"/>
                </a:lnTo>
                <a:close/>
                <a:moveTo>
                  <a:pt x="8533" y="44533"/>
                </a:moveTo>
                <a:lnTo>
                  <a:pt x="17066" y="44533"/>
                </a:lnTo>
                <a:lnTo>
                  <a:pt x="17066" y="91992"/>
                </a:lnTo>
                <a:lnTo>
                  <a:pt x="8533" y="91992"/>
                </a:lnTo>
                <a:lnTo>
                  <a:pt x="8533" y="44533"/>
                </a:lnTo>
                <a:close/>
                <a:moveTo>
                  <a:pt x="21332" y="44533"/>
                </a:moveTo>
                <a:lnTo>
                  <a:pt x="631825" y="44533"/>
                </a:lnTo>
                <a:lnTo>
                  <a:pt x="631825" y="0"/>
                </a:lnTo>
                <a:lnTo>
                  <a:pt x="700087" y="68263"/>
                </a:lnTo>
                <a:lnTo>
                  <a:pt x="631825" y="136525"/>
                </a:lnTo>
                <a:lnTo>
                  <a:pt x="631825" y="91992"/>
                </a:lnTo>
                <a:lnTo>
                  <a:pt x="21332" y="91992"/>
                </a:lnTo>
                <a:lnTo>
                  <a:pt x="21332" y="4453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71280" y="5342040"/>
            <a:ext cx="2830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Соціальний цент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матері та дит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Перебувало </a:t>
            </a:r>
            <a:r>
              <a:rPr b="1" lang="uk-UA" sz="1600" spc="-1" strike="noStrike">
                <a:solidFill>
                  <a:srgbClr val="ff0000"/>
                </a:solidFill>
                <a:latin typeface="Cambria"/>
              </a:rPr>
              <a:t>32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осо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(16 жінок та 16 діт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6357960" y="3929040"/>
            <a:ext cx="27860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Центр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соціально-психологіч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(Перебувало </a:t>
            </a:r>
            <a:r>
              <a:rPr b="1" lang="uk-UA" sz="1600" spc="-1" strike="noStrike">
                <a:solidFill>
                  <a:srgbClr val="ff0000"/>
                </a:solidFill>
                <a:latin typeface="Cambria"/>
              </a:rPr>
              <a:t>89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осіб, з них 62 повнолітніх та 27 неповнолітніх)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115920" y="3357720"/>
            <a:ext cx="28573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Соціальний гуртожи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(Перебувало </a:t>
            </a:r>
            <a:r>
              <a:rPr b="1" lang="uk-UA" sz="1600" spc="-1" strike="noStrike">
                <a:solidFill>
                  <a:srgbClr val="ff0000"/>
                </a:solidFill>
                <a:latin typeface="Cambria"/>
              </a:rPr>
              <a:t>12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дітей-сиріт та дітей, позбавлених батьківського піклува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Штриховая стрелка вправо 12"/>
          <p:cNvSpPr/>
          <p:nvPr/>
        </p:nvSpPr>
        <p:spPr>
          <a:xfrm rot="742800">
            <a:off x="3793680" y="2111400"/>
            <a:ext cx="700200" cy="136440"/>
          </a:xfrm>
          <a:custGeom>
            <a:avLst/>
            <a:gdLst/>
            <a:ahLst/>
            <a:rect l="l" t="t" r="r" b="b"/>
            <a:pathLst>
              <a:path w="700088" h="136525">
                <a:moveTo>
                  <a:pt x="0" y="44533"/>
                </a:moveTo>
                <a:lnTo>
                  <a:pt x="4266" y="44533"/>
                </a:lnTo>
                <a:lnTo>
                  <a:pt x="4266" y="91992"/>
                </a:lnTo>
                <a:lnTo>
                  <a:pt x="0" y="91992"/>
                </a:lnTo>
                <a:lnTo>
                  <a:pt x="0" y="44533"/>
                </a:lnTo>
                <a:close/>
                <a:moveTo>
                  <a:pt x="8533" y="44533"/>
                </a:moveTo>
                <a:lnTo>
                  <a:pt x="17066" y="44533"/>
                </a:lnTo>
                <a:lnTo>
                  <a:pt x="17066" y="91992"/>
                </a:lnTo>
                <a:lnTo>
                  <a:pt x="8533" y="91992"/>
                </a:lnTo>
                <a:lnTo>
                  <a:pt x="8533" y="44533"/>
                </a:lnTo>
                <a:close/>
                <a:moveTo>
                  <a:pt x="21332" y="44533"/>
                </a:moveTo>
                <a:lnTo>
                  <a:pt x="631826" y="44533"/>
                </a:lnTo>
                <a:lnTo>
                  <a:pt x="631826" y="0"/>
                </a:lnTo>
                <a:lnTo>
                  <a:pt x="700088" y="68263"/>
                </a:lnTo>
                <a:lnTo>
                  <a:pt x="631826" y="136525"/>
                </a:lnTo>
                <a:lnTo>
                  <a:pt x="631826" y="91992"/>
                </a:lnTo>
                <a:lnTo>
                  <a:pt x="21332" y="91992"/>
                </a:lnTo>
                <a:lnTo>
                  <a:pt x="21332" y="4453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3"/>
          <p:cNvSpPr/>
          <p:nvPr/>
        </p:nvSpPr>
        <p:spPr>
          <a:xfrm>
            <a:off x="4286160" y="207792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Соціальний патро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Cambria"/>
              </a:rPr>
              <a:t>3135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сімей – 25965 соціальних по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2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УЧАСНИКІВ АТО/ЇХ СІ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Схема 31" descr=""/>
          <p:cNvPicPr/>
          <p:nvPr/>
        </p:nvPicPr>
        <p:blipFill>
          <a:blip r:embed="rId3"/>
          <a:stretch/>
        </p:blipFill>
        <p:spPr>
          <a:xfrm>
            <a:off x="231840" y="1073160"/>
            <a:ext cx="8478720" cy="24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214200" y="3500280"/>
          <a:ext cx="4464000" cy="1882800"/>
        </p:xfrm>
        <a:graphic>
          <a:graphicData uri="http://schemas.openxmlformats.org/drawingml/2006/table">
            <a:tbl>
              <a:tblPr/>
              <a:tblGrid>
                <a:gridCol w="1214640"/>
                <a:gridCol w="1065240"/>
                <a:gridCol w="1047600"/>
                <a:gridCol w="113652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ИПЛ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50 </a:t>
                      </a: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житкових  мінімумів  (609- 1200 тис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н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 100 тис. грн.  за загибли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 2,5 тис. грн. на 1 дитину загибл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 31,9 тис. грн. за пам’ятн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076720" y="3068640"/>
          <a:ext cx="3853080" cy="1112760"/>
        </p:xfrm>
        <a:graphic>
          <a:graphicData uri="http://schemas.openxmlformats.org/drawingml/2006/table">
            <a:tbl>
              <a:tblPr/>
              <a:tblGrid>
                <a:gridCol w="3853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ИПЛАТИ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 3 тис. грн демобілізовани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10 8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79280" y="5516640"/>
          <a:ext cx="4464000" cy="1112760"/>
        </p:xfrm>
        <a:graphic>
          <a:graphicData uri="http://schemas.openxmlformats.org/drawingml/2006/table">
            <a:tbl>
              <a:tblPr/>
              <a:tblGrid>
                <a:gridCol w="2327400"/>
                <a:gridCol w="213660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НСІЇ  ЗА ЗАГИБЛ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-сть осі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ередній розмір пенс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521 о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13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5076720" y="4508640"/>
          <a:ext cx="3888000" cy="1971360"/>
        </p:xfrm>
        <a:graphic>
          <a:graphicData uri="http://schemas.openxmlformats.org/drawingml/2006/table">
            <a:tbl>
              <a:tblPr/>
              <a:tblGrid>
                <a:gridCol w="1295640"/>
                <a:gridCol w="1008000"/>
                <a:gridCol w="1584360"/>
              </a:tblGrid>
              <a:tr h="6404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НСІЇ ОСОБАМ  З ІНВАЛІДНІСТ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 інвалідност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-сть  осі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ередній розмір пенс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675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636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І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81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Прямоугольник 11"/>
          <p:cNvSpPr/>
          <p:nvPr/>
        </p:nvSpPr>
        <p:spPr>
          <a:xfrm>
            <a:off x="-165600" y="0"/>
            <a:ext cx="3533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СОЦЗАХИСТ УЧАСНИКІВ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5"/>
          <p:cNvSpPr/>
          <p:nvPr/>
        </p:nvSpPr>
        <p:spPr>
          <a:xfrm>
            <a:off x="1979640" y="2643120"/>
            <a:ext cx="2160720" cy="7192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Подано заяв  </a:t>
            </a:r>
            <a:r>
              <a:rPr b="1" lang="uk-UA" sz="2400" spc="-1" strike="noStrike">
                <a:solidFill>
                  <a:srgbClr val="ff0000"/>
                </a:solidFill>
                <a:latin typeface="Cambria"/>
              </a:rPr>
              <a:t>20 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6"/>
          <p:cNvSpPr/>
          <p:nvPr/>
        </p:nvSpPr>
        <p:spPr>
          <a:xfrm>
            <a:off x="1747800" y="928800"/>
            <a:ext cx="4395960" cy="360360"/>
          </a:xfrm>
          <a:prstGeom prst="roundRect">
            <a:avLst>
              <a:gd name="adj" fmla="val 16667"/>
            </a:avLst>
          </a:prstGeom>
          <a:solidFill>
            <a:srgbClr val="ffc000">
              <a:alpha val="80000"/>
            </a:srgbClr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НАДАННЯ ЗЕМЕЛЬНИХ ДІЛЯ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кругленный прямоугольник 7"/>
          <p:cNvSpPr/>
          <p:nvPr/>
        </p:nvSpPr>
        <p:spPr>
          <a:xfrm>
            <a:off x="1979640" y="1474920"/>
            <a:ext cx="2016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Знаходяться в опрацюванн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4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8"/>
          <p:cNvSpPr/>
          <p:nvPr/>
        </p:nvSpPr>
        <p:spPr>
          <a:xfrm>
            <a:off x="2843280" y="3564000"/>
            <a:ext cx="1584360" cy="863640"/>
          </a:xfrm>
          <a:prstGeom prst="roundRect">
            <a:avLst>
              <a:gd name="adj" fmla="val 24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На право власності 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6994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9"/>
          <p:cNvSpPr/>
          <p:nvPr/>
        </p:nvSpPr>
        <p:spPr>
          <a:xfrm>
            <a:off x="179280" y="3419640"/>
            <a:ext cx="20163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На розроблення проекту землеустро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136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0"/>
          <p:cNvSpPr/>
          <p:nvPr/>
        </p:nvSpPr>
        <p:spPr>
          <a:xfrm>
            <a:off x="4344840" y="1496880"/>
            <a:ext cx="158436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Відмо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2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1"/>
          <p:cNvSpPr/>
          <p:nvPr/>
        </p:nvSpPr>
        <p:spPr>
          <a:xfrm>
            <a:off x="250920" y="183528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адано дозво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Прямая со стрелкой 93"/>
          <p:cNvCxnSpPr>
            <a:stCxn id="337" idx="3"/>
            <a:endCxn id="342" idx="2"/>
          </p:cNvCxnSpPr>
          <p:nvPr/>
        </p:nvCxnSpPr>
        <p:spPr>
          <a:xfrm flipV="1">
            <a:off x="4140000" y="2071440"/>
            <a:ext cx="997560" cy="9309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45" name="Прямая со стрелкой 101"/>
          <p:cNvCxnSpPr>
            <a:stCxn id="337" idx="0"/>
          </p:cNvCxnSpPr>
          <p:nvPr/>
        </p:nvCxnSpPr>
        <p:spPr>
          <a:xfrm flipV="1">
            <a:off x="3058200" y="2285640"/>
            <a:ext cx="13320" cy="3578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46" name="Прямая со стрелкой 107"/>
          <p:cNvCxnSpPr/>
          <p:nvPr/>
        </p:nvCxnSpPr>
        <p:spPr>
          <a:xfrm flipH="1" flipV="1">
            <a:off x="1115640" y="2556000"/>
            <a:ext cx="900720" cy="3589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47" name="Скругленный прямоугольник 119"/>
          <p:cNvSpPr/>
          <p:nvPr/>
        </p:nvSpPr>
        <p:spPr>
          <a:xfrm>
            <a:off x="214200" y="6372360"/>
            <a:ext cx="2089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елянське господарство - 27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120"/>
          <p:cNvSpPr/>
          <p:nvPr/>
        </p:nvSpPr>
        <p:spPr>
          <a:xfrm>
            <a:off x="214200" y="4643280"/>
            <a:ext cx="208944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ІЖБ -4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121"/>
          <p:cNvSpPr/>
          <p:nvPr/>
        </p:nvSpPr>
        <p:spPr>
          <a:xfrm>
            <a:off x="214200" y="5219640"/>
            <a:ext cx="208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адівництво - 59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2"/>
          <p:cNvSpPr/>
          <p:nvPr/>
        </p:nvSpPr>
        <p:spPr>
          <a:xfrm>
            <a:off x="214200" y="5796000"/>
            <a:ext cx="208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Дачне будівництво - 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ый прямоугольник 146"/>
          <p:cNvSpPr/>
          <p:nvPr/>
        </p:nvSpPr>
        <p:spPr>
          <a:xfrm>
            <a:off x="2571840" y="4643280"/>
            <a:ext cx="208764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ІЖБ -16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147"/>
          <p:cNvSpPr/>
          <p:nvPr/>
        </p:nvSpPr>
        <p:spPr>
          <a:xfrm>
            <a:off x="2571840" y="5219640"/>
            <a:ext cx="2087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адівництво - 3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148"/>
          <p:cNvSpPr/>
          <p:nvPr/>
        </p:nvSpPr>
        <p:spPr>
          <a:xfrm>
            <a:off x="2571840" y="5796000"/>
            <a:ext cx="2087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Дачне будівництво - 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150"/>
          <p:cNvSpPr/>
          <p:nvPr/>
        </p:nvSpPr>
        <p:spPr>
          <a:xfrm>
            <a:off x="2571840" y="6372360"/>
            <a:ext cx="2087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елянське господарство - 13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Прямая со стрелкой 152"/>
          <p:cNvCxnSpPr/>
          <p:nvPr/>
        </p:nvCxnSpPr>
        <p:spPr>
          <a:xfrm flipH="1">
            <a:off x="1071000" y="2555640"/>
            <a:ext cx="1080" cy="873720"/>
          </a:xfrm>
          <a:prstGeom prst="straightConnector1">
            <a:avLst/>
          </a:prstGeom>
          <a:ln w="25560">
            <a:solidFill>
              <a:srgbClr val="ffcc00"/>
            </a:solidFill>
            <a:miter/>
            <a:tailEnd len="med" type="arrow" w="med"/>
          </a:ln>
        </p:spPr>
      </p:cxnSp>
      <p:sp>
        <p:nvSpPr>
          <p:cNvPr id="356" name="Скругленный прямоугольник 165"/>
          <p:cNvSpPr/>
          <p:nvPr/>
        </p:nvSpPr>
        <p:spPr>
          <a:xfrm>
            <a:off x="5546880" y="2357280"/>
            <a:ext cx="3240000" cy="357480"/>
          </a:xfrm>
          <a:prstGeom prst="roundRect">
            <a:avLst>
              <a:gd name="adj" fmla="val 16667"/>
            </a:avLst>
          </a:prstGeom>
          <a:solidFill>
            <a:srgbClr val="ffc000">
              <a:alpha val="80000"/>
            </a:srgbClr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АЦЕВЛАШ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Схема 179" descr=""/>
          <p:cNvPicPr/>
          <p:nvPr/>
        </p:nvPicPr>
        <p:blipFill>
          <a:blip r:embed="rId1"/>
          <a:stretch/>
        </p:blipFill>
        <p:spPr>
          <a:xfrm>
            <a:off x="5157720" y="2822400"/>
            <a:ext cx="3992760" cy="3505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3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0"/>
          <p:cNvSpPr/>
          <p:nvPr/>
        </p:nvSpPr>
        <p:spPr>
          <a:xfrm>
            <a:off x="214200" y="3571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УЧАСНИКІВ АТО/ЇХ СІ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Прямая со стрелкой 38"/>
          <p:cNvCxnSpPr>
            <a:stCxn id="341" idx="3"/>
            <a:endCxn id="340" idx="1"/>
          </p:cNvCxnSpPr>
          <p:nvPr/>
        </p:nvCxnSpPr>
        <p:spPr>
          <a:xfrm>
            <a:off x="2195280" y="3995280"/>
            <a:ext cx="648360" cy="2520"/>
          </a:xfrm>
          <a:prstGeom prst="straightConnector1">
            <a:avLst/>
          </a:prstGeom>
          <a:ln w="25560">
            <a:solidFill>
              <a:srgbClr val="ffcc00"/>
            </a:solidFill>
            <a:miter/>
            <a:tailEnd len="med" type="arrow" w="med"/>
          </a:ln>
        </p:spPr>
      </p:cxnSp>
      <p:sp>
        <p:nvSpPr>
          <p:cNvPr id="362" name="Прямоугольник 28"/>
          <p:cNvSpPr/>
          <p:nvPr/>
        </p:nvSpPr>
        <p:spPr>
          <a:xfrm>
            <a:off x="-165600" y="0"/>
            <a:ext cx="3533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СОЦЗАХИСТ УЧАСНИКІВ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12"/>
          <p:cNvSpPr/>
          <p:nvPr/>
        </p:nvSpPr>
        <p:spPr>
          <a:xfrm>
            <a:off x="3786120" y="3714840"/>
            <a:ext cx="5214960" cy="1071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0"/>
          <p:cNvSpPr/>
          <p:nvPr/>
        </p:nvSpPr>
        <p:spPr>
          <a:xfrm>
            <a:off x="142920" y="5214960"/>
            <a:ext cx="5214960" cy="1071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Соціальний захист учасни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АТО/Революції Гідно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142920" y="2286000"/>
            <a:ext cx="5214960" cy="1071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7786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14200" y="11430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mbria"/>
              </a:rPr>
              <a:t>ОСНОВНІ НАПРЯМИ РОБО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642960" y="2357280"/>
            <a:ext cx="4214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Реалізація делегов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державою повноваже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4714920" y="3786120"/>
            <a:ext cx="342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Реалізаці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обласних ініціати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с двумя скругленными противолежащими углами 3"/>
          <p:cNvSpPr/>
          <p:nvPr/>
        </p:nvSpPr>
        <p:spPr>
          <a:xfrm>
            <a:off x="1643040" y="1285920"/>
            <a:ext cx="6072120" cy="4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РЕАБІЛІТАЦІЯ  УЧАСНИКІВ  А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20"/>
          <p:cNvSpPr/>
          <p:nvPr/>
        </p:nvSpPr>
        <p:spPr>
          <a:xfrm>
            <a:off x="214200" y="2017800"/>
            <a:ext cx="460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Надання адресної грошової допомоги на реабілітацію </a:t>
            </a: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227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 осіб з інвалідністю в результаті вій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1 група (25 тис. грн.) – 17 ос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2 група (15 тис. грн.) – 35 ос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3 група (10 тис. грн.) – 169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на  санаторно-курортне лікування            (5 250 грн.) – 6 осі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2"/>
          <p:cNvSpPr/>
          <p:nvPr/>
        </p:nvSpPr>
        <p:spPr>
          <a:xfrm>
            <a:off x="5143680" y="2303640"/>
            <a:ext cx="3603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Впродовж 2017 року  укладено 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266 угод 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щодо професійної адаптації  </a:t>
            </a: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381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  учасника  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АТО (43 особи – курси англійської мови, 338 осіб – курси воді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0"/>
          <p:cNvSpPr/>
          <p:nvPr/>
        </p:nvSpPr>
        <p:spPr>
          <a:xfrm>
            <a:off x="357120" y="528336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Санаторно-курортне лік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371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 осо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4"/>
          <p:cNvSpPr/>
          <p:nvPr/>
        </p:nvSpPr>
        <p:spPr>
          <a:xfrm>
            <a:off x="5000760" y="5292720"/>
            <a:ext cx="42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Психологічна реабіліта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42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 осі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9"/>
          <p:cNvSpPr/>
          <p:nvPr/>
        </p:nvSpPr>
        <p:spPr>
          <a:xfrm>
            <a:off x="-165600" y="0"/>
            <a:ext cx="3533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СОЦЗАХИСТ УЧАСНИКІВ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УЧАСНИКІВ АТО/ЇХ СІ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74" name="TextBox 30"/>
          <p:cNvSpPr/>
          <p:nvPr/>
        </p:nvSpPr>
        <p:spPr>
          <a:xfrm>
            <a:off x="214200" y="3571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УЧАСНИКІВ АТО/ЇХ СІ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8"/>
          <p:cNvSpPr/>
          <p:nvPr/>
        </p:nvSpPr>
        <p:spPr>
          <a:xfrm>
            <a:off x="285840" y="2583000"/>
            <a:ext cx="850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68 сіме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загиблих учасників АТО та учасників АТО з інвалідністю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купили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житло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у 2017 роц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mbria"/>
              </a:rPr>
              <a:t>(за період 201</a:t>
            </a:r>
            <a:r>
              <a:rPr b="0" i="1" lang="en-US" sz="25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i="1" lang="ru-RU" sz="2500" spc="-1" strike="noStrike">
                <a:solidFill>
                  <a:srgbClr val="000000"/>
                </a:solidFill>
                <a:latin typeface="Cambria"/>
              </a:rPr>
              <a:t>-2016 роки – </a:t>
            </a:r>
            <a:r>
              <a:rPr b="0" i="1" lang="en-US" sz="2500" spc="-1" strike="noStrike">
                <a:solidFill>
                  <a:srgbClr val="000000"/>
                </a:solidFill>
                <a:latin typeface="Cambria"/>
              </a:rPr>
              <a:t>96 </a:t>
            </a:r>
            <a:r>
              <a:rPr b="0" i="1" lang="ru-RU" sz="2500" spc="-1" strike="noStrike">
                <a:solidFill>
                  <a:srgbClr val="000000"/>
                </a:solidFill>
                <a:latin typeface="Cambria"/>
              </a:rPr>
              <a:t>квартир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2"/>
          <p:cNvSpPr/>
          <p:nvPr/>
        </p:nvSpPr>
        <p:spPr>
          <a:xfrm>
            <a:off x="714240" y="4756320"/>
            <a:ext cx="7929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На 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осіб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надійшли кошти у Львівську област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(з них 26 осіб з інвадністю  І-ІІ групи, 23 – сі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’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ї загибли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214200" y="1736640"/>
            <a:ext cx="892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ЗАБЕЗПЕЧЕННЯ ЖИТЛ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2"/>
          <p:cNvSpPr/>
          <p:nvPr/>
        </p:nvSpPr>
        <p:spPr>
          <a:xfrm>
            <a:off x="-165600" y="0"/>
            <a:ext cx="3533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СОЦЗАХИСТ УЧАСНИКІВ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8"/>
          <p:cNvSpPr/>
          <p:nvPr/>
        </p:nvSpPr>
        <p:spPr>
          <a:xfrm>
            <a:off x="6072120" y="6357960"/>
            <a:ext cx="3071880" cy="474840"/>
          </a:xfrm>
          <a:prstGeom prst="rect">
            <a:avLst/>
          </a:prstGeom>
          <a:solidFill>
            <a:srgbClr val="ffc0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∑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1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Cambria"/>
              </a:rPr>
              <a:t>207</a:t>
            </a:r>
            <a:r>
              <a:rPr b="1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кварти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9"/>
          <p:cNvSpPr/>
          <p:nvPr/>
        </p:nvSpPr>
        <p:spPr>
          <a:xfrm>
            <a:off x="285840" y="500040"/>
            <a:ext cx="89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ВПО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АКТИВІСТІВ РЕВОЛЮЦІЇЇ ГІД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0"/>
          <p:cNvSpPr/>
          <p:nvPr/>
        </p:nvSpPr>
        <p:spPr>
          <a:xfrm>
            <a:off x="2143080" y="1857240"/>
            <a:ext cx="47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РЕВОЛЮЦІЯ ГІДНОСТ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428760" y="2428920"/>
            <a:ext cx="50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щорічна одноразова випла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14,8 млн.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mbria"/>
                <a:ea typeface="Times New Roman"/>
              </a:rPr>
              <a:t>(у 2018 – 41 млн.грн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Штриховая стрелка вправо 12"/>
          <p:cNvSpPr/>
          <p:nvPr/>
        </p:nvSpPr>
        <p:spPr>
          <a:xfrm>
            <a:off x="5715000" y="2857680"/>
            <a:ext cx="714240" cy="500040"/>
          </a:xfrm>
          <a:custGeom>
            <a:avLst/>
            <a:gdLst/>
            <a:ahLst/>
            <a:rect l="l" t="t" r="r" b="b"/>
            <a:pathLst>
              <a:path w="714375" h="500063">
                <a:moveTo>
                  <a:pt x="0" y="163116"/>
                </a:moveTo>
                <a:lnTo>
                  <a:pt x="15627" y="163116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6"/>
                </a:lnTo>
                <a:close/>
                <a:moveTo>
                  <a:pt x="31254" y="163116"/>
                </a:moveTo>
                <a:lnTo>
                  <a:pt x="62508" y="163116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6"/>
                </a:lnTo>
                <a:close/>
                <a:moveTo>
                  <a:pt x="78135" y="163116"/>
                </a:moveTo>
                <a:lnTo>
                  <a:pt x="464344" y="163116"/>
                </a:lnTo>
                <a:lnTo>
                  <a:pt x="464344" y="0"/>
                </a:lnTo>
                <a:lnTo>
                  <a:pt x="714375" y="250032"/>
                </a:lnTo>
                <a:lnTo>
                  <a:pt x="464344" y="500063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3"/>
          <p:cNvSpPr/>
          <p:nvPr/>
        </p:nvSpPr>
        <p:spPr>
          <a:xfrm>
            <a:off x="6429240" y="2803680"/>
            <a:ext cx="257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175 осі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714680" y="4040280"/>
            <a:ext cx="585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ВНУТРІШНЬОПЕРЕМІЩЕНІ ОСОБ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5"/>
          <p:cNvSpPr/>
          <p:nvPr/>
        </p:nvSpPr>
        <p:spPr>
          <a:xfrm>
            <a:off x="428760" y="4754520"/>
            <a:ext cx="50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мпенсація на витрати ЖК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35,9 млн.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mbria"/>
                <a:ea typeface="Times New Roman"/>
              </a:rPr>
              <a:t>(у 2018 – 31 млн.грн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Штриховая стрелка вправо 18"/>
          <p:cNvSpPr/>
          <p:nvPr/>
        </p:nvSpPr>
        <p:spPr>
          <a:xfrm>
            <a:off x="5715000" y="5183280"/>
            <a:ext cx="714240" cy="500040"/>
          </a:xfrm>
          <a:custGeom>
            <a:avLst/>
            <a:gdLst/>
            <a:ahLst/>
            <a:rect l="l" t="t" r="r" b="b"/>
            <a:pathLst>
              <a:path w="714375" h="500062">
                <a:moveTo>
                  <a:pt x="0" y="163115"/>
                </a:moveTo>
                <a:lnTo>
                  <a:pt x="15627" y="163115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5"/>
                </a:lnTo>
                <a:close/>
                <a:moveTo>
                  <a:pt x="31254" y="163115"/>
                </a:moveTo>
                <a:lnTo>
                  <a:pt x="62508" y="163115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5"/>
                </a:lnTo>
                <a:close/>
                <a:moveTo>
                  <a:pt x="78135" y="163115"/>
                </a:moveTo>
                <a:lnTo>
                  <a:pt x="464344" y="163115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"/>
          <p:cNvSpPr/>
          <p:nvPr/>
        </p:nvSpPr>
        <p:spPr>
          <a:xfrm>
            <a:off x="6429240" y="5129280"/>
            <a:ext cx="257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9445 сім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Скругленный прямоугольник 44"/>
          <p:cNvSpPr/>
          <p:nvPr/>
        </p:nvSpPr>
        <p:spPr>
          <a:xfrm>
            <a:off x="142920" y="1500120"/>
            <a:ext cx="5072040" cy="242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20"/>
          <p:cNvSpPr/>
          <p:nvPr/>
        </p:nvSpPr>
        <p:spPr>
          <a:xfrm>
            <a:off x="4929120" y="4643280"/>
            <a:ext cx="4214880" cy="20718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19"/>
          <p:cNvSpPr/>
          <p:nvPr/>
        </p:nvSpPr>
        <p:spPr>
          <a:xfrm>
            <a:off x="285840" y="4000680"/>
            <a:ext cx="4000320" cy="7855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214200" y="21420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ЗДОРОВЛЕННЯ ДІ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29"/>
          <p:cNvSpPr/>
          <p:nvPr/>
        </p:nvSpPr>
        <p:spPr>
          <a:xfrm>
            <a:off x="1571760" y="85716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lang="en-US" sz="23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Cambria"/>
              </a:rPr>
              <a:t>866</a:t>
            </a:r>
            <a:r>
              <a:rPr b="1" lang="ru-RU" sz="2300" spc="-1" strike="noStrike">
                <a:solidFill>
                  <a:srgbClr val="000000"/>
                </a:solidFill>
                <a:latin typeface="Cambria"/>
              </a:rPr>
              <a:t> д</a:t>
            </a:r>
            <a:r>
              <a:rPr b="1" lang="uk-UA" sz="2300" spc="-1" strike="noStrike">
                <a:solidFill>
                  <a:srgbClr val="000000"/>
                </a:solidFill>
                <a:latin typeface="Cambria"/>
              </a:rPr>
              <a:t>і</a:t>
            </a:r>
            <a:r>
              <a:rPr b="1" lang="ru-RU" sz="2300" spc="-1" strike="noStrike">
                <a:solidFill>
                  <a:srgbClr val="000000"/>
                </a:solidFill>
                <a:latin typeface="Cambria"/>
              </a:rPr>
              <a:t>тей за кошти обласного бюджет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3"/>
          <p:cNvSpPr/>
          <p:nvPr/>
        </p:nvSpPr>
        <p:spPr>
          <a:xfrm>
            <a:off x="642960" y="4037040"/>
            <a:ext cx="350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ЕРЖАВНИ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1213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і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5"/>
          <p:cNvSpPr/>
          <p:nvPr/>
        </p:nvSpPr>
        <p:spPr>
          <a:xfrm>
            <a:off x="5072040" y="4643280"/>
            <a:ext cx="400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ИЙНЯЛИ У ЛЬВІВСЬКІЙ ОБЛАСТІ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7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дітей з зони розмежування Луганської област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95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дітей учасників АТО з Херсонської області, в рамках програми обмі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Диаграмма 22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4859280" cy="2359080"/>
          </a:xfrm>
          <a:prstGeom prst="rect">
            <a:avLst/>
          </a:prstGeom>
          <a:ln w="0">
            <a:noFill/>
          </a:ln>
        </p:spPr>
      </p:pic>
      <p:sp>
        <p:nvSpPr>
          <p:cNvPr id="400" name="Скругленный прямоугольник 31"/>
          <p:cNvSpPr/>
          <p:nvPr/>
        </p:nvSpPr>
        <p:spPr>
          <a:xfrm>
            <a:off x="285840" y="5000760"/>
            <a:ext cx="414324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Штриховая стрелка вправо 43"/>
          <p:cNvSpPr/>
          <p:nvPr/>
        </p:nvSpPr>
        <p:spPr>
          <a:xfrm>
            <a:off x="5286240" y="1571760"/>
            <a:ext cx="714600" cy="318960"/>
          </a:xfrm>
          <a:custGeom>
            <a:avLst/>
            <a:gdLst/>
            <a:ahLst/>
            <a:rect l="l" t="t" r="r" b="b"/>
            <a:pathLst>
              <a:path w="714375" h="319088">
                <a:moveTo>
                  <a:pt x="0" y="104083"/>
                </a:moveTo>
                <a:lnTo>
                  <a:pt x="9972" y="104083"/>
                </a:lnTo>
                <a:lnTo>
                  <a:pt x="9972" y="215005"/>
                </a:lnTo>
                <a:lnTo>
                  <a:pt x="0" y="215005"/>
                </a:lnTo>
                <a:lnTo>
                  <a:pt x="0" y="104083"/>
                </a:lnTo>
                <a:close/>
                <a:moveTo>
                  <a:pt x="19943" y="104083"/>
                </a:moveTo>
                <a:lnTo>
                  <a:pt x="39886" y="104083"/>
                </a:lnTo>
                <a:lnTo>
                  <a:pt x="39886" y="215005"/>
                </a:lnTo>
                <a:lnTo>
                  <a:pt x="19943" y="215005"/>
                </a:lnTo>
                <a:lnTo>
                  <a:pt x="19943" y="104083"/>
                </a:lnTo>
                <a:close/>
                <a:moveTo>
                  <a:pt x="49858" y="104083"/>
                </a:moveTo>
                <a:lnTo>
                  <a:pt x="554831" y="104083"/>
                </a:lnTo>
                <a:lnTo>
                  <a:pt x="554831" y="0"/>
                </a:lnTo>
                <a:lnTo>
                  <a:pt x="714375" y="159544"/>
                </a:lnTo>
                <a:lnTo>
                  <a:pt x="554831" y="319088"/>
                </a:lnTo>
                <a:lnTo>
                  <a:pt x="554831" y="215005"/>
                </a:lnTo>
                <a:lnTo>
                  <a:pt x="49858" y="215005"/>
                </a:lnTo>
                <a:lnTo>
                  <a:pt x="49858" y="10408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45"/>
          <p:cNvSpPr/>
          <p:nvPr/>
        </p:nvSpPr>
        <p:spPr>
          <a:xfrm>
            <a:off x="5857920" y="1571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Передбачено</a:t>
            </a: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 9,615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млн. гр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6"/>
          <p:cNvSpPr/>
          <p:nvPr/>
        </p:nvSpPr>
        <p:spPr>
          <a:xfrm>
            <a:off x="5857920" y="23572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Закуплено 2866 путівок через систему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zo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47"/>
          <p:cNvSpPr/>
          <p:nvPr/>
        </p:nvSpPr>
        <p:spPr>
          <a:xfrm>
            <a:off x="5945760" y="342900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Економія бюджет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коштів –  </a:t>
            </a: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15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Штриховая стрелка вправо 48"/>
          <p:cNvSpPr/>
          <p:nvPr/>
        </p:nvSpPr>
        <p:spPr>
          <a:xfrm rot="5400000">
            <a:off x="7062120" y="2010600"/>
            <a:ext cx="482400" cy="318960"/>
          </a:xfrm>
          <a:custGeom>
            <a:avLst/>
            <a:gdLst/>
            <a:ahLst/>
            <a:rect l="l" t="t" r="r" b="b"/>
            <a:pathLst>
              <a:path w="482600" h="319088">
                <a:moveTo>
                  <a:pt x="0" y="104083"/>
                </a:moveTo>
                <a:lnTo>
                  <a:pt x="9972" y="104083"/>
                </a:lnTo>
                <a:lnTo>
                  <a:pt x="9972" y="215005"/>
                </a:lnTo>
                <a:lnTo>
                  <a:pt x="0" y="215005"/>
                </a:lnTo>
                <a:lnTo>
                  <a:pt x="0" y="104083"/>
                </a:lnTo>
                <a:close/>
                <a:moveTo>
                  <a:pt x="19943" y="104083"/>
                </a:moveTo>
                <a:lnTo>
                  <a:pt x="39886" y="104083"/>
                </a:lnTo>
                <a:lnTo>
                  <a:pt x="39886" y="215005"/>
                </a:lnTo>
                <a:lnTo>
                  <a:pt x="19943" y="215005"/>
                </a:lnTo>
                <a:lnTo>
                  <a:pt x="19943" y="104083"/>
                </a:lnTo>
                <a:close/>
                <a:moveTo>
                  <a:pt x="49858" y="104083"/>
                </a:moveTo>
                <a:lnTo>
                  <a:pt x="323056" y="104083"/>
                </a:lnTo>
                <a:lnTo>
                  <a:pt x="323056" y="0"/>
                </a:lnTo>
                <a:lnTo>
                  <a:pt x="482600" y="159544"/>
                </a:lnTo>
                <a:lnTo>
                  <a:pt x="323056" y="319088"/>
                </a:lnTo>
                <a:lnTo>
                  <a:pt x="323056" y="215005"/>
                </a:lnTo>
                <a:lnTo>
                  <a:pt x="49858" y="215005"/>
                </a:lnTo>
                <a:lnTo>
                  <a:pt x="49858" y="10408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Штриховая стрелка вправо 49"/>
          <p:cNvSpPr/>
          <p:nvPr/>
        </p:nvSpPr>
        <p:spPr>
          <a:xfrm rot="5400000">
            <a:off x="7061760" y="3081960"/>
            <a:ext cx="482760" cy="318960"/>
          </a:xfrm>
          <a:custGeom>
            <a:avLst/>
            <a:gdLst/>
            <a:ahLst/>
            <a:rect l="l" t="t" r="r" b="b"/>
            <a:pathLst>
              <a:path w="482600" h="319088">
                <a:moveTo>
                  <a:pt x="0" y="104083"/>
                </a:moveTo>
                <a:lnTo>
                  <a:pt x="9972" y="104083"/>
                </a:lnTo>
                <a:lnTo>
                  <a:pt x="9972" y="215005"/>
                </a:lnTo>
                <a:lnTo>
                  <a:pt x="0" y="215005"/>
                </a:lnTo>
                <a:lnTo>
                  <a:pt x="0" y="104083"/>
                </a:lnTo>
                <a:close/>
                <a:moveTo>
                  <a:pt x="19943" y="104083"/>
                </a:moveTo>
                <a:lnTo>
                  <a:pt x="39886" y="104083"/>
                </a:lnTo>
                <a:lnTo>
                  <a:pt x="39886" y="215005"/>
                </a:lnTo>
                <a:lnTo>
                  <a:pt x="19943" y="215005"/>
                </a:lnTo>
                <a:lnTo>
                  <a:pt x="19943" y="104083"/>
                </a:lnTo>
                <a:close/>
                <a:moveTo>
                  <a:pt x="49858" y="104083"/>
                </a:moveTo>
                <a:lnTo>
                  <a:pt x="323056" y="104083"/>
                </a:lnTo>
                <a:lnTo>
                  <a:pt x="323056" y="0"/>
                </a:lnTo>
                <a:lnTo>
                  <a:pt x="482600" y="159544"/>
                </a:lnTo>
                <a:lnTo>
                  <a:pt x="323056" y="319088"/>
                </a:lnTo>
                <a:lnTo>
                  <a:pt x="323056" y="215005"/>
                </a:lnTo>
                <a:lnTo>
                  <a:pt x="49858" y="215005"/>
                </a:lnTo>
                <a:lnTo>
                  <a:pt x="49858" y="10408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Штриховая стрелка вправо 50"/>
          <p:cNvSpPr/>
          <p:nvPr/>
        </p:nvSpPr>
        <p:spPr>
          <a:xfrm rot="5400000">
            <a:off x="7061760" y="4224960"/>
            <a:ext cx="482760" cy="318960"/>
          </a:xfrm>
          <a:custGeom>
            <a:avLst/>
            <a:gdLst/>
            <a:ahLst/>
            <a:rect l="l" t="t" r="r" b="b"/>
            <a:pathLst>
              <a:path w="482600" h="319088">
                <a:moveTo>
                  <a:pt x="0" y="104083"/>
                </a:moveTo>
                <a:lnTo>
                  <a:pt x="9972" y="104083"/>
                </a:lnTo>
                <a:lnTo>
                  <a:pt x="9972" y="215005"/>
                </a:lnTo>
                <a:lnTo>
                  <a:pt x="0" y="215005"/>
                </a:lnTo>
                <a:lnTo>
                  <a:pt x="0" y="104083"/>
                </a:lnTo>
                <a:close/>
                <a:moveTo>
                  <a:pt x="19943" y="104083"/>
                </a:moveTo>
                <a:lnTo>
                  <a:pt x="39886" y="104083"/>
                </a:lnTo>
                <a:lnTo>
                  <a:pt x="39886" y="215005"/>
                </a:lnTo>
                <a:lnTo>
                  <a:pt x="19943" y="215005"/>
                </a:lnTo>
                <a:lnTo>
                  <a:pt x="19943" y="104083"/>
                </a:lnTo>
                <a:close/>
                <a:moveTo>
                  <a:pt x="49858" y="104083"/>
                </a:moveTo>
                <a:lnTo>
                  <a:pt x="323056" y="104083"/>
                </a:lnTo>
                <a:lnTo>
                  <a:pt x="323056" y="0"/>
                </a:lnTo>
                <a:lnTo>
                  <a:pt x="482600" y="159544"/>
                </a:lnTo>
                <a:lnTo>
                  <a:pt x="323056" y="319088"/>
                </a:lnTo>
                <a:lnTo>
                  <a:pt x="323056" y="215005"/>
                </a:lnTo>
                <a:lnTo>
                  <a:pt x="49858" y="215005"/>
                </a:lnTo>
                <a:lnTo>
                  <a:pt x="49858" y="10408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214200" y="5018040"/>
            <a:ext cx="4143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ЗАБЮДЖЕТНІ КОШ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ambria"/>
              </a:rPr>
              <a:t>182 </a:t>
            </a: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дітей учасників АТО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з ни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mbria"/>
              </a:rPr>
              <a:t>82</a:t>
            </a: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 дітей відпочило за кордоно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mbria"/>
              </a:rPr>
              <a:t>100</a:t>
            </a: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 дітей в Херсонській област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Скругленный прямоугольник 12"/>
          <p:cNvSpPr/>
          <p:nvPr/>
        </p:nvSpPr>
        <p:spPr>
          <a:xfrm>
            <a:off x="428760" y="4357800"/>
            <a:ext cx="421452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В період з 25 листопада по 10 грудня проведено інформаційну кампанію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«16 днів проти насиль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13"/>
          <p:cNvSpPr/>
          <p:nvPr/>
        </p:nvSpPr>
        <p:spPr>
          <a:xfrm>
            <a:off x="4786200" y="1571760"/>
            <a:ext cx="421488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Впродовж року розповсюджено 5000 друкованої інформаційної продукції, розміщено 30 інформаційних сіті-лайтів та 5 білбор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214200" y="26028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ПЕРЕ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ДОМАШНЬОГО НАС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71280" y="28584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pic>
        <p:nvPicPr>
          <p:cNvPr id="415" name="Диаграмма 16" descr=""/>
          <p:cNvPicPr/>
          <p:nvPr/>
        </p:nvPicPr>
        <p:blipFill>
          <a:blip r:embed="rId3"/>
          <a:stretch/>
        </p:blipFill>
        <p:spPr>
          <a:xfrm>
            <a:off x="428760" y="1857240"/>
            <a:ext cx="4143240" cy="237672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7"/>
          <p:cNvSpPr/>
          <p:nvPr/>
        </p:nvSpPr>
        <p:spPr>
          <a:xfrm>
            <a:off x="357120" y="1357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омашнє наси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кількість звернень за 2016-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18" descr=""/>
          <p:cNvPicPr/>
          <p:nvPr/>
        </p:nvPicPr>
        <p:blipFill>
          <a:blip r:embed="rId4"/>
          <a:stretch/>
        </p:blipFill>
        <p:spPr>
          <a:xfrm>
            <a:off x="4929120" y="3627360"/>
            <a:ext cx="39290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71280" y="285840"/>
            <a:ext cx="1500480" cy="1108080"/>
          </a:xfrm>
          <a:prstGeom prst="rect">
            <a:avLst/>
          </a:prstGeom>
          <a:ln w="0">
            <a:noFill/>
          </a:ln>
        </p:spPr>
      </p:pic>
      <p:sp>
        <p:nvSpPr>
          <p:cNvPr id="420" name="Скругленный прямоугольник 12"/>
          <p:cNvSpPr/>
          <p:nvPr/>
        </p:nvSpPr>
        <p:spPr>
          <a:xfrm>
            <a:off x="4643280" y="5143680"/>
            <a:ext cx="4071960" cy="1539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05.10.2017, відбувся моніторинговий візит Групи експертів Ради Європи з протидії торгівлі людьми (ГРЕТА) щодо реалізації державної політики у сфері протидії торгівлі людьми на Львівщи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Скругленный прямоугольник 13"/>
          <p:cNvSpPr/>
          <p:nvPr/>
        </p:nvSpPr>
        <p:spPr>
          <a:xfrm>
            <a:off x="357120" y="1341360"/>
            <a:ext cx="8358120" cy="13035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З 2012 року статус отримали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16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осіб з Львівської област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з них: 2 жінки, 12 чоловіків, 2 ді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У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2016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році –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особи (2 жінки, 1 чолові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У </a:t>
            </a: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2017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 році – </a:t>
            </a: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12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 осіб (11 чоловіків, 1 дитин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214200" y="47628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РОТИДІЯ ТОРГІВЛІ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кругленный прямоугольник 14"/>
          <p:cNvSpPr/>
          <p:nvPr/>
        </p:nvSpPr>
        <p:spPr>
          <a:xfrm>
            <a:off x="357120" y="2786040"/>
            <a:ext cx="3965760" cy="386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Відзначено Всесвітній день протидії торгівлі людьми та Європейський день боротьби з торгівлею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Проведено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26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ренінгів для понад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68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спеціаліс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Розповсюджено понад 10 тис. друкованої продукції, розміщено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25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білбордів та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5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сіті-лайтів, виготовлено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30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брелоків та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100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зоши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8" descr="viber image.jpg"/>
          <p:cNvPicPr/>
          <p:nvPr/>
        </p:nvPicPr>
        <p:blipFill>
          <a:blip r:embed="rId3"/>
          <a:stretch/>
        </p:blipFill>
        <p:spPr>
          <a:xfrm>
            <a:off x="4714920" y="2786040"/>
            <a:ext cx="3941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3"/>
          <p:cNvSpPr/>
          <p:nvPr/>
        </p:nvSpPr>
        <p:spPr>
          <a:xfrm>
            <a:off x="1224000" y="23328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ЗАБОРГОВАНІСТЬ З ВИПЛ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ЗАРОБІТНОЇ П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с двумя скругленными противолежащими углами 12"/>
          <p:cNvSpPr/>
          <p:nvPr/>
        </p:nvSpPr>
        <p:spPr>
          <a:xfrm>
            <a:off x="3787920" y="2041560"/>
            <a:ext cx="5194080" cy="1258920"/>
          </a:xfrm>
          <a:prstGeom prst="pie">
            <a:avLst/>
          </a:prstGeom>
          <a:solidFill>
            <a:srgbClr val="fcd5b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АТ «Львівська вугільна компанія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ВАТ «Червоноградська автобаза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пеціалізоване управління «Стальконструкція № 137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«Львівське конструкторське бюро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СКК «Моршинкурорт» та інш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rcRect l="0" t="5341" r="0" b="5870"/>
          <a:stretch/>
        </p:blipFill>
        <p:spPr>
          <a:xfrm>
            <a:off x="52560" y="93600"/>
            <a:ext cx="1500120" cy="984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2"/>
          <a:srcRect l="0" t="6917" r="0" b="2223"/>
          <a:stretch/>
        </p:blipFill>
        <p:spPr>
          <a:xfrm>
            <a:off x="7867800" y="14400"/>
            <a:ext cx="1276200" cy="1323720"/>
          </a:xfrm>
          <a:prstGeom prst="rect">
            <a:avLst/>
          </a:prstGeom>
          <a:ln w="0">
            <a:noFill/>
          </a:ln>
        </p:spPr>
      </p:pic>
      <p:sp>
        <p:nvSpPr>
          <p:cNvPr id="429" name="Овал 1"/>
          <p:cNvSpPr/>
          <p:nvPr/>
        </p:nvSpPr>
        <p:spPr>
          <a:xfrm>
            <a:off x="27000" y="2241720"/>
            <a:ext cx="2824200" cy="1077840"/>
          </a:xfrm>
          <a:prstGeom prst="ellipse">
            <a:avLst/>
          </a:prstGeom>
          <a:solidFill>
            <a:srgbClr val="ff9900">
              <a:alpha val="75000"/>
            </a:srgbClr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ЛІКВІДУВАЛИ БОР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24 підприєм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4"/>
          <p:cNvSpPr/>
          <p:nvPr/>
        </p:nvSpPr>
        <p:spPr>
          <a:xfrm>
            <a:off x="1440" y="3675240"/>
            <a:ext cx="2859120" cy="1106280"/>
          </a:xfrm>
          <a:prstGeom prst="ellipse">
            <a:avLst/>
          </a:prstGeom>
          <a:solidFill>
            <a:srgbClr val="ff9900">
              <a:alpha val="75000"/>
            </a:srgbClr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ЗМЕНШИЛИ БОР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 підприєм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с двумя скругленными противолежащими углами 17"/>
          <p:cNvSpPr/>
          <p:nvPr/>
        </p:nvSpPr>
        <p:spPr>
          <a:xfrm>
            <a:off x="3787920" y="3560760"/>
            <a:ext cx="5205240" cy="1204920"/>
          </a:xfrm>
          <a:prstGeom prst="pie">
            <a:avLst/>
          </a:prstGeom>
          <a:solidFill>
            <a:srgbClr val="fcd5b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«Львівський науково-дослідний радіотехнічний інститут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ВАТ «Жидачівський целюлозно-паперовий комбінат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Санаторій «Немирів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«Укрзахідпроектреставрація» та інш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44280" y="5241960"/>
            <a:ext cx="5175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ВАТ «Жидачівський целюлозно-паперовий комбіна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У травні 2017 року відновив виробничу діяльність. Щомісячно погашається понад  900 тис. грн. заборгованої заробітної пла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http://loda.gov.ua/cache/thumbnails/p/photo_originals_1482489941_600x399_3_0.jpg"/>
          <p:cNvPicPr/>
          <p:nvPr/>
        </p:nvPicPr>
        <p:blipFill>
          <a:blip r:embed="rId3"/>
          <a:stretch/>
        </p:blipFill>
        <p:spPr>
          <a:xfrm>
            <a:off x="5362560" y="4869000"/>
            <a:ext cx="3619440" cy="191448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5"/>
          <p:cNvSpPr/>
          <p:nvPr/>
        </p:nvSpPr>
        <p:spPr>
          <a:xfrm>
            <a:off x="590400" y="1359000"/>
            <a:ext cx="1681200" cy="57780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01.0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93,8 млн. г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9"/>
          <p:cNvSpPr/>
          <p:nvPr/>
        </p:nvSpPr>
        <p:spPr>
          <a:xfrm>
            <a:off x="6846840" y="1357200"/>
            <a:ext cx="1812960" cy="56700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01.01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82,7 млн. г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Прямая со стрелкой 11"/>
          <p:cNvCxnSpPr>
            <a:stCxn id="434" idx="3"/>
            <a:endCxn id="435" idx="1"/>
          </p:cNvCxnSpPr>
          <p:nvPr/>
        </p:nvCxnSpPr>
        <p:spPr>
          <a:xfrm flipV="1">
            <a:off x="2271240" y="1640880"/>
            <a:ext cx="4575960" cy="684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7" name="Прямоугольник 13"/>
          <p:cNvSpPr/>
          <p:nvPr/>
        </p:nvSpPr>
        <p:spPr>
          <a:xfrm>
            <a:off x="2395440" y="1181160"/>
            <a:ext cx="433728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зменшення на 11,0 млн. грн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11,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Штриховая стрелка вправо 20"/>
          <p:cNvSpPr/>
          <p:nvPr/>
        </p:nvSpPr>
        <p:spPr>
          <a:xfrm>
            <a:off x="2857680" y="2643120"/>
            <a:ext cx="957240" cy="208080"/>
          </a:xfrm>
          <a:custGeom>
            <a:avLst/>
            <a:gdLst/>
            <a:ahLst/>
            <a:rect l="l" t="t" r="r" b="b"/>
            <a:pathLst>
              <a:path w="957263" h="207962">
                <a:moveTo>
                  <a:pt x="0" y="67835"/>
                </a:moveTo>
                <a:lnTo>
                  <a:pt x="6499" y="67835"/>
                </a:lnTo>
                <a:lnTo>
                  <a:pt x="6499" y="140127"/>
                </a:lnTo>
                <a:lnTo>
                  <a:pt x="0" y="140127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7"/>
                </a:lnTo>
                <a:lnTo>
                  <a:pt x="12998" y="140127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853282" y="67835"/>
                </a:lnTo>
                <a:lnTo>
                  <a:pt x="853282" y="0"/>
                </a:lnTo>
                <a:lnTo>
                  <a:pt x="957263" y="103981"/>
                </a:lnTo>
                <a:lnTo>
                  <a:pt x="853282" y="207962"/>
                </a:lnTo>
                <a:lnTo>
                  <a:pt x="853282" y="140127"/>
                </a:lnTo>
                <a:lnTo>
                  <a:pt x="32494" y="140127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Штриховая стрелка вправо 21"/>
          <p:cNvSpPr/>
          <p:nvPr/>
        </p:nvSpPr>
        <p:spPr>
          <a:xfrm>
            <a:off x="2857680" y="4149720"/>
            <a:ext cx="957240" cy="208080"/>
          </a:xfrm>
          <a:custGeom>
            <a:avLst/>
            <a:gdLst/>
            <a:ahLst/>
            <a:rect l="l" t="t" r="r" b="b"/>
            <a:pathLst>
              <a:path w="957263" h="207963">
                <a:moveTo>
                  <a:pt x="0" y="67835"/>
                </a:moveTo>
                <a:lnTo>
                  <a:pt x="6499" y="67835"/>
                </a:lnTo>
                <a:lnTo>
                  <a:pt x="6499" y="140128"/>
                </a:lnTo>
                <a:lnTo>
                  <a:pt x="0" y="140128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8"/>
                </a:lnTo>
                <a:lnTo>
                  <a:pt x="12998" y="140128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853282" y="67835"/>
                </a:lnTo>
                <a:lnTo>
                  <a:pt x="853282" y="0"/>
                </a:lnTo>
                <a:lnTo>
                  <a:pt x="957263" y="103982"/>
                </a:lnTo>
                <a:lnTo>
                  <a:pt x="853282" y="207963"/>
                </a:lnTo>
                <a:lnTo>
                  <a:pt x="853282" y="140128"/>
                </a:lnTo>
                <a:lnTo>
                  <a:pt x="32494" y="140128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Штриховая стрелка вправо 22"/>
          <p:cNvSpPr/>
          <p:nvPr/>
        </p:nvSpPr>
        <p:spPr>
          <a:xfrm rot="5400000">
            <a:off x="1107000" y="5036400"/>
            <a:ext cx="571320" cy="214200"/>
          </a:xfrm>
          <a:custGeom>
            <a:avLst/>
            <a:gdLst/>
            <a:ahLst/>
            <a:rect l="l" t="t" r="r" b="b"/>
            <a:pathLst>
              <a:path w="571500" h="214313">
                <a:moveTo>
                  <a:pt x="0" y="69907"/>
                </a:moveTo>
                <a:lnTo>
                  <a:pt x="6697" y="69907"/>
                </a:lnTo>
                <a:lnTo>
                  <a:pt x="6697" y="144406"/>
                </a:lnTo>
                <a:lnTo>
                  <a:pt x="0" y="144406"/>
                </a:lnTo>
                <a:lnTo>
                  <a:pt x="0" y="69907"/>
                </a:lnTo>
                <a:close/>
                <a:moveTo>
                  <a:pt x="13395" y="69907"/>
                </a:moveTo>
                <a:lnTo>
                  <a:pt x="26789" y="69907"/>
                </a:lnTo>
                <a:lnTo>
                  <a:pt x="26789" y="144406"/>
                </a:lnTo>
                <a:lnTo>
                  <a:pt x="13395" y="144406"/>
                </a:lnTo>
                <a:lnTo>
                  <a:pt x="13395" y="69907"/>
                </a:lnTo>
                <a:close/>
                <a:moveTo>
                  <a:pt x="33486" y="69907"/>
                </a:moveTo>
                <a:lnTo>
                  <a:pt x="464344" y="69907"/>
                </a:lnTo>
                <a:lnTo>
                  <a:pt x="464344" y="0"/>
                </a:lnTo>
                <a:lnTo>
                  <a:pt x="571500" y="107157"/>
                </a:lnTo>
                <a:lnTo>
                  <a:pt x="464344" y="214313"/>
                </a:lnTo>
                <a:lnTo>
                  <a:pt x="464344" y="144406"/>
                </a:lnTo>
                <a:lnTo>
                  <a:pt x="33486" y="144406"/>
                </a:lnTo>
                <a:lnTo>
                  <a:pt x="33486" y="69907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sp>
        <p:nvSpPr>
          <p:cNvPr id="442" name="Скругленный прямоугольник 33"/>
          <p:cNvSpPr/>
          <p:nvPr/>
        </p:nvSpPr>
        <p:spPr>
          <a:xfrm>
            <a:off x="4643280" y="1571760"/>
            <a:ext cx="4143600" cy="30715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34"/>
          <p:cNvSpPr/>
          <p:nvPr/>
        </p:nvSpPr>
        <p:spPr>
          <a:xfrm>
            <a:off x="0" y="4452840"/>
            <a:ext cx="2857680" cy="474840"/>
          </a:xfrm>
          <a:prstGeom prst="rect">
            <a:avLst/>
          </a:prstGeom>
          <a:solidFill>
            <a:srgbClr val="ffc0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∑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ru-RU" sz="2500" spc="-1" strike="noStrike">
                <a:solidFill>
                  <a:srgbClr val="ff0000"/>
                </a:solidFill>
                <a:latin typeface="Cambria"/>
              </a:rPr>
              <a:t>6,7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36"/>
          <p:cNvSpPr/>
          <p:nvPr/>
        </p:nvSpPr>
        <p:spPr>
          <a:xfrm>
            <a:off x="-25200" y="0"/>
            <a:ext cx="2617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ОВОВВЕДЕННЯ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Двойные фигурные скобки 38"/>
          <p:cNvSpPr/>
          <p:nvPr/>
        </p:nvSpPr>
        <p:spPr>
          <a:xfrm>
            <a:off x="5286240" y="5857920"/>
            <a:ext cx="500040" cy="92880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7867800" y="71280"/>
            <a:ext cx="1276200" cy="14576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22"/>
          <p:cNvSpPr/>
          <p:nvPr/>
        </p:nvSpPr>
        <p:spPr>
          <a:xfrm>
            <a:off x="214200" y="500040"/>
            <a:ext cx="892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НАДАННЯ СОЦІАЛЬНИХ ПОСЛУГ В ОТ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Диаграмма 19" descr=""/>
          <p:cNvPicPr/>
          <p:nvPr/>
        </p:nvPicPr>
        <p:blipFill>
          <a:blip r:embed="rId3"/>
          <a:stretch/>
        </p:blipFill>
        <p:spPr>
          <a:xfrm>
            <a:off x="-500040" y="714240"/>
            <a:ext cx="5214960" cy="392904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19"/>
          <p:cNvSpPr/>
          <p:nvPr/>
        </p:nvSpPr>
        <p:spPr>
          <a:xfrm>
            <a:off x="214200" y="520524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СТВОР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3"/>
          <p:cNvSpPr/>
          <p:nvPr/>
        </p:nvSpPr>
        <p:spPr>
          <a:xfrm>
            <a:off x="3000240" y="4991040"/>
            <a:ext cx="621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Гніздичівський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центр соціального обслугов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4"/>
          <p:cNvSpPr/>
          <p:nvPr/>
        </p:nvSpPr>
        <p:spPr>
          <a:xfrm>
            <a:off x="3000240" y="5376960"/>
            <a:ext cx="59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Мостиський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міський територіальний цен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5"/>
          <p:cNvSpPr/>
          <p:nvPr/>
        </p:nvSpPr>
        <p:spPr>
          <a:xfrm>
            <a:off x="0" y="620244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ЗАПЛАНОВА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8"/>
          <p:cNvSpPr/>
          <p:nvPr/>
        </p:nvSpPr>
        <p:spPr>
          <a:xfrm>
            <a:off x="3000240" y="578628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Шегині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35"/>
          <p:cNvSpPr/>
          <p:nvPr/>
        </p:nvSpPr>
        <p:spPr>
          <a:xfrm>
            <a:off x="3000240" y="65293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Ходорі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7"/>
          <p:cNvSpPr/>
          <p:nvPr/>
        </p:nvSpPr>
        <p:spPr>
          <a:xfrm>
            <a:off x="5643720" y="578628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цент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над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оціальних по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39"/>
          <p:cNvSpPr/>
          <p:nvPr/>
        </p:nvSpPr>
        <p:spPr>
          <a:xfrm>
            <a:off x="5214960" y="5715000"/>
            <a:ext cx="357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9"/>
          <p:cNvSpPr/>
          <p:nvPr/>
        </p:nvSpPr>
        <p:spPr>
          <a:xfrm>
            <a:off x="3000240" y="617220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Великомості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5"/>
          <p:cNvSpPr/>
          <p:nvPr/>
        </p:nvSpPr>
        <p:spPr>
          <a:xfrm>
            <a:off x="4500720" y="175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АДМІНІСТРУВАННЯ СОЦПО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46"/>
          <p:cNvSpPr/>
          <p:nvPr/>
        </p:nvSpPr>
        <p:spPr>
          <a:xfrm>
            <a:off x="5806800" y="2182680"/>
            <a:ext cx="1485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ПІЛОТНІ ОТ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47"/>
          <p:cNvSpPr/>
          <p:nvPr/>
        </p:nvSpPr>
        <p:spPr>
          <a:xfrm>
            <a:off x="4737240" y="2468520"/>
            <a:ext cx="1785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Гніздичівська селищна ра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48"/>
          <p:cNvSpPr/>
          <p:nvPr/>
        </p:nvSpPr>
        <p:spPr>
          <a:xfrm>
            <a:off x="7048440" y="2468520"/>
            <a:ext cx="1360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Ходорівсь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міська ра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53"/>
          <p:cNvSpPr/>
          <p:nvPr/>
        </p:nvSpPr>
        <p:spPr>
          <a:xfrm>
            <a:off x="4572000" y="3254400"/>
            <a:ext cx="40719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Внесено зміни до структур виконавчих комітеті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Затверджено Дорожню карту та індикатори з досягнення ціл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Штриховая стрелка вправо 40"/>
          <p:cNvSpPr/>
          <p:nvPr/>
        </p:nvSpPr>
        <p:spPr>
          <a:xfrm rot="21160800">
            <a:off x="1933200" y="523404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Штриховая стрелка вправо 41"/>
          <p:cNvSpPr/>
          <p:nvPr/>
        </p:nvSpPr>
        <p:spPr>
          <a:xfrm rot="657600">
            <a:off x="1933560" y="5407200"/>
            <a:ext cx="1000080" cy="14256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Штриховая стрелка вправо 42"/>
          <p:cNvSpPr/>
          <p:nvPr/>
        </p:nvSpPr>
        <p:spPr>
          <a:xfrm rot="21160800">
            <a:off x="1923840" y="620712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Штриховая стрелка вправо 43"/>
          <p:cNvSpPr/>
          <p:nvPr/>
        </p:nvSpPr>
        <p:spPr>
          <a:xfrm rot="657600">
            <a:off x="1922040" y="638028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РОЕКТ “РУКА ДОПОМОГ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25"/>
          <p:cNvSpPr/>
          <p:nvPr/>
        </p:nvSpPr>
        <p:spPr>
          <a:xfrm>
            <a:off x="34920" y="1976400"/>
            <a:ext cx="91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Times New Roman"/>
              </a:rPr>
              <a:t>606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учас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никі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в проекту, з них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Times New Roman"/>
              </a:rPr>
              <a:t>520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члени МЗС,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Times New Roman"/>
              </a:rPr>
              <a:t>86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В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26"/>
          <p:cNvSpPr/>
          <p:nvPr/>
        </p:nvSpPr>
        <p:spPr>
          <a:xfrm>
            <a:off x="249120" y="252396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454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ос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об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на працевлашт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7"/>
          <p:cNvSpPr/>
          <p:nvPr/>
        </p:nvSpPr>
        <p:spPr>
          <a:xfrm>
            <a:off x="5034600" y="2619360"/>
            <a:ext cx="37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ацевлаштован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209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ос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і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Штриховая стрелка вправо 28"/>
          <p:cNvSpPr/>
          <p:nvPr/>
        </p:nvSpPr>
        <p:spPr>
          <a:xfrm>
            <a:off x="3714840" y="2787480"/>
            <a:ext cx="1011240" cy="208080"/>
          </a:xfrm>
          <a:custGeom>
            <a:avLst/>
            <a:gdLst/>
            <a:ahLst/>
            <a:rect l="l" t="t" r="r" b="b"/>
            <a:pathLst>
              <a:path w="1011238" h="207963">
                <a:moveTo>
                  <a:pt x="0" y="67835"/>
                </a:moveTo>
                <a:lnTo>
                  <a:pt x="6499" y="67835"/>
                </a:lnTo>
                <a:lnTo>
                  <a:pt x="6499" y="140128"/>
                </a:lnTo>
                <a:lnTo>
                  <a:pt x="0" y="140128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8"/>
                </a:lnTo>
                <a:lnTo>
                  <a:pt x="12998" y="140128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907257" y="67835"/>
                </a:lnTo>
                <a:lnTo>
                  <a:pt x="907257" y="0"/>
                </a:lnTo>
                <a:lnTo>
                  <a:pt x="1011238" y="103982"/>
                </a:lnTo>
                <a:lnTo>
                  <a:pt x="907257" y="207963"/>
                </a:lnTo>
                <a:lnTo>
                  <a:pt x="907257" y="140128"/>
                </a:lnTo>
                <a:lnTo>
                  <a:pt x="32494" y="140128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9"/>
          <p:cNvSpPr/>
          <p:nvPr/>
        </p:nvSpPr>
        <p:spPr>
          <a:xfrm>
            <a:off x="266760" y="323208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47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іб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на громадські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223960" y="3038400"/>
            <a:ext cx="312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22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особи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бере у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у громадських робо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Штриховая стрелка вправо 31"/>
          <p:cNvSpPr/>
          <p:nvPr/>
        </p:nvSpPr>
        <p:spPr>
          <a:xfrm>
            <a:off x="3706920" y="3319560"/>
            <a:ext cx="1019160" cy="209520"/>
          </a:xfrm>
          <a:custGeom>
            <a:avLst/>
            <a:gdLst/>
            <a:ahLst/>
            <a:rect l="l" t="t" r="r" b="b"/>
            <a:pathLst>
              <a:path w="1019175" h="209550">
                <a:moveTo>
                  <a:pt x="0" y="68353"/>
                </a:moveTo>
                <a:lnTo>
                  <a:pt x="6548" y="68353"/>
                </a:lnTo>
                <a:lnTo>
                  <a:pt x="6548" y="141197"/>
                </a:lnTo>
                <a:lnTo>
                  <a:pt x="0" y="141197"/>
                </a:lnTo>
                <a:lnTo>
                  <a:pt x="0" y="68353"/>
                </a:lnTo>
                <a:close/>
                <a:moveTo>
                  <a:pt x="13097" y="68353"/>
                </a:moveTo>
                <a:lnTo>
                  <a:pt x="26194" y="68353"/>
                </a:lnTo>
                <a:lnTo>
                  <a:pt x="26194" y="141197"/>
                </a:lnTo>
                <a:lnTo>
                  <a:pt x="13097" y="141197"/>
                </a:lnTo>
                <a:lnTo>
                  <a:pt x="13097" y="68353"/>
                </a:lnTo>
                <a:close/>
                <a:moveTo>
                  <a:pt x="32742" y="68353"/>
                </a:moveTo>
                <a:lnTo>
                  <a:pt x="914400" y="68353"/>
                </a:lnTo>
                <a:lnTo>
                  <a:pt x="914400" y="0"/>
                </a:lnTo>
                <a:lnTo>
                  <a:pt x="1019175" y="104775"/>
                </a:lnTo>
                <a:lnTo>
                  <a:pt x="914400" y="209550"/>
                </a:lnTo>
                <a:lnTo>
                  <a:pt x="914400" y="141197"/>
                </a:lnTo>
                <a:lnTo>
                  <a:pt x="32742" y="141197"/>
                </a:lnTo>
                <a:lnTo>
                  <a:pt x="32742" y="6835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2"/>
          <p:cNvSpPr/>
          <p:nvPr/>
        </p:nvSpPr>
        <p:spPr>
          <a:xfrm>
            <a:off x="27000" y="3940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110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осі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на фінансову допом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члени МЗС – 64 ос., ВПО – 46 ос.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33"/>
          <p:cNvSpPr/>
          <p:nvPr/>
        </p:nvSpPr>
        <p:spPr>
          <a:xfrm>
            <a:off x="4917960" y="3929040"/>
            <a:ext cx="4140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ийнято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рішень щодо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наданн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фінансов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(члени МЗС – 17 ос., ВПО – 8 о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Штриховая стрелка вправо 34"/>
          <p:cNvSpPr/>
          <p:nvPr/>
        </p:nvSpPr>
        <p:spPr>
          <a:xfrm>
            <a:off x="3768840" y="4289400"/>
            <a:ext cx="957240" cy="208080"/>
          </a:xfrm>
          <a:custGeom>
            <a:avLst/>
            <a:gdLst/>
            <a:ahLst/>
            <a:rect l="l" t="t" r="r" b="b"/>
            <a:pathLst>
              <a:path w="957263" h="207963">
                <a:moveTo>
                  <a:pt x="0" y="67835"/>
                </a:moveTo>
                <a:lnTo>
                  <a:pt x="6499" y="67835"/>
                </a:lnTo>
                <a:lnTo>
                  <a:pt x="6499" y="140128"/>
                </a:lnTo>
                <a:lnTo>
                  <a:pt x="0" y="140128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8"/>
                </a:lnTo>
                <a:lnTo>
                  <a:pt x="12998" y="140128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853282" y="67835"/>
                </a:lnTo>
                <a:lnTo>
                  <a:pt x="853282" y="0"/>
                </a:lnTo>
                <a:lnTo>
                  <a:pt x="957263" y="103982"/>
                </a:lnTo>
                <a:lnTo>
                  <a:pt x="853282" y="207963"/>
                </a:lnTo>
                <a:lnTo>
                  <a:pt x="853282" y="140128"/>
                </a:lnTo>
                <a:lnTo>
                  <a:pt x="32494" y="140128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35"/>
          <p:cNvSpPr/>
          <p:nvPr/>
        </p:nvSpPr>
        <p:spPr>
          <a:xfrm>
            <a:off x="320760" y="1357200"/>
            <a:ext cx="84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МЕТА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–залучення до роботи членів малозабезпечених сімей та внутрішньо переміщених осіб шляхом працевлаштування або започаткування власного бізн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"/>
          <p:cNvSpPr/>
          <p:nvPr/>
        </p:nvSpPr>
        <p:spPr>
          <a:xfrm>
            <a:off x="3282840" y="4071960"/>
            <a:ext cx="19321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mbria"/>
              </a:rPr>
              <a:t>Сума фін. допом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3"/>
          <p:cNvSpPr/>
          <p:nvPr/>
        </p:nvSpPr>
        <p:spPr>
          <a:xfrm>
            <a:off x="3490920" y="4497480"/>
            <a:ext cx="151272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mbria"/>
              </a:rPr>
              <a:t>64,0 тис. гр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Рисунок 23" descr=""/>
          <p:cNvPicPr/>
          <p:nvPr/>
        </p:nvPicPr>
        <p:blipFill>
          <a:blip r:embed="rId3"/>
          <a:srcRect l="0" t="14008" r="0" b="2543"/>
          <a:stretch/>
        </p:blipFill>
        <p:spPr>
          <a:xfrm>
            <a:off x="493560" y="4935600"/>
            <a:ext cx="2017800" cy="177948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10" descr=""/>
          <p:cNvPicPr/>
          <p:nvPr/>
        </p:nvPicPr>
        <p:blipFill>
          <a:blip r:embed="rId4"/>
          <a:srcRect l="0" t="11566" r="0" b="4467"/>
          <a:stretch/>
        </p:blipFill>
        <p:spPr>
          <a:xfrm>
            <a:off x="3218040" y="4935600"/>
            <a:ext cx="1996920" cy="1779480"/>
          </a:xfrm>
          <a:prstGeom prst="rect">
            <a:avLst/>
          </a:prstGeom>
          <a:ln w="0">
            <a:noFill/>
          </a:ln>
        </p:spPr>
      </p:pic>
      <p:pic>
        <p:nvPicPr>
          <p:cNvPr id="485" name="Объект 3" descr=""/>
          <p:cNvPicPr/>
          <p:nvPr/>
        </p:nvPicPr>
        <p:blipFill>
          <a:blip r:embed="rId5"/>
          <a:srcRect l="5835" t="0" r="15555" b="0"/>
          <a:stretch/>
        </p:blipFill>
        <p:spPr>
          <a:xfrm>
            <a:off x="5921280" y="4935600"/>
            <a:ext cx="2536920" cy="178740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21"/>
          <p:cNvSpPr/>
          <p:nvPr/>
        </p:nvSpPr>
        <p:spPr>
          <a:xfrm>
            <a:off x="-25200" y="0"/>
            <a:ext cx="2617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ОВОВВЕДЕННЯ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Скругленный прямоугольник 24"/>
          <p:cNvSpPr/>
          <p:nvPr/>
        </p:nvSpPr>
        <p:spPr>
          <a:xfrm>
            <a:off x="357120" y="1500120"/>
            <a:ext cx="4143600" cy="633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4"/>
          <p:cNvSpPr/>
          <p:nvPr/>
        </p:nvSpPr>
        <p:spPr>
          <a:xfrm>
            <a:off x="857160" y="500040"/>
            <a:ext cx="785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ЗАХОДИ СОЦІАЛЬНОГО СПРЯМУ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21"/>
          <p:cNvSpPr/>
          <p:nvPr/>
        </p:nvSpPr>
        <p:spPr>
          <a:xfrm>
            <a:off x="642960" y="148428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День Волон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кругленный прямоугольник 36"/>
          <p:cNvSpPr/>
          <p:nvPr/>
        </p:nvSpPr>
        <p:spPr>
          <a:xfrm>
            <a:off x="285840" y="5116680"/>
            <a:ext cx="4143240" cy="14554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кругленный прямоугольник 38"/>
          <p:cNvSpPr/>
          <p:nvPr/>
        </p:nvSpPr>
        <p:spPr>
          <a:xfrm>
            <a:off x="4786200" y="3738600"/>
            <a:ext cx="4143600" cy="5540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9"/>
          <p:cNvSpPr/>
          <p:nvPr/>
        </p:nvSpPr>
        <p:spPr>
          <a:xfrm>
            <a:off x="5000760" y="373860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День сім’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13" descr=""/>
          <p:cNvPicPr/>
          <p:nvPr/>
        </p:nvPicPr>
        <p:blipFill>
          <a:blip r:embed="rId3"/>
          <a:srcRect l="4685" t="16261" r="0" b="22843"/>
          <a:stretch/>
        </p:blipFill>
        <p:spPr>
          <a:xfrm>
            <a:off x="4786200" y="1484280"/>
            <a:ext cx="4143600" cy="208764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4" descr=""/>
          <p:cNvPicPr/>
          <p:nvPr/>
        </p:nvPicPr>
        <p:blipFill>
          <a:blip r:embed="rId4"/>
          <a:srcRect l="4390" t="26097" r="8835" b="0"/>
          <a:stretch/>
        </p:blipFill>
        <p:spPr>
          <a:xfrm>
            <a:off x="428760" y="2390760"/>
            <a:ext cx="4039920" cy="239544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17"/>
          <p:cNvSpPr/>
          <p:nvPr/>
        </p:nvSpPr>
        <p:spPr>
          <a:xfrm>
            <a:off x="-25200" y="0"/>
            <a:ext cx="2617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ОВОВВЕДЕННЯ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15"/>
          <p:cNvSpPr/>
          <p:nvPr/>
        </p:nvSpPr>
        <p:spPr>
          <a:xfrm>
            <a:off x="500040" y="5357880"/>
            <a:ext cx="364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Міжнародний день людей з інвалідніст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Рисунок 19" descr="viber image.jpg"/>
          <p:cNvPicPr/>
          <p:nvPr/>
        </p:nvPicPr>
        <p:blipFill>
          <a:blip r:embed="rId5"/>
          <a:stretch/>
        </p:blipFill>
        <p:spPr>
          <a:xfrm>
            <a:off x="4786200" y="4429080"/>
            <a:ext cx="2000520" cy="22622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viber image.jpg"/>
          <p:cNvPicPr/>
          <p:nvPr/>
        </p:nvPicPr>
        <p:blipFill>
          <a:blip r:embed="rId6"/>
          <a:stretch/>
        </p:blipFill>
        <p:spPr>
          <a:xfrm>
            <a:off x="7000920" y="4429080"/>
            <a:ext cx="1874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7786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1357200" y="42876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ВИДАТКИ НА СОЦІАЛЬНИЙ ЗАХ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428760" y="2714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ДЕРЖАВНИЙ БЮДЖЕТ,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4429080" y="2714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ОБЛАСНИЙ БЮДЖЕТ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1009800" y="5214960"/>
            <a:ext cx="71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СУБВЕНЦІЯ З ДЕРЖАВНОГО БЮДЖЕТУ,  млрд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1071720" y="1143000"/>
            <a:ext cx="71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ВИДАТКИ З БЮДЖЕТІВ ВСІХ РІВНІВ,  млрд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Диаграмма 15" descr=""/>
          <p:cNvPicPr/>
          <p:nvPr/>
        </p:nvPicPr>
        <p:blipFill>
          <a:blip r:embed="rId3"/>
          <a:stretch/>
        </p:blipFill>
        <p:spPr>
          <a:xfrm>
            <a:off x="566640" y="5430960"/>
            <a:ext cx="8217000" cy="1427040"/>
          </a:xfrm>
          <a:prstGeom prst="rect">
            <a:avLst/>
          </a:prstGeom>
          <a:ln w="0">
            <a:noFill/>
          </a:ln>
        </p:spPr>
      </p:pic>
      <p:pic>
        <p:nvPicPr>
          <p:cNvPr id="64" name="Диаграмма 25" descr=""/>
          <p:cNvPicPr/>
          <p:nvPr/>
        </p:nvPicPr>
        <p:blipFill>
          <a:blip r:embed="rId4"/>
          <a:stretch/>
        </p:blipFill>
        <p:spPr>
          <a:xfrm>
            <a:off x="573120" y="3067200"/>
            <a:ext cx="4071960" cy="2163600"/>
          </a:xfrm>
          <a:prstGeom prst="rect">
            <a:avLst/>
          </a:prstGeom>
          <a:ln w="0">
            <a:noFill/>
          </a:ln>
        </p:spPr>
      </p:pic>
      <p:pic>
        <p:nvPicPr>
          <p:cNvPr id="65" name="Диаграмма 27" descr=""/>
          <p:cNvPicPr/>
          <p:nvPr/>
        </p:nvPicPr>
        <p:blipFill>
          <a:blip r:embed="rId5"/>
          <a:stretch/>
        </p:blipFill>
        <p:spPr>
          <a:xfrm>
            <a:off x="4572000" y="3067200"/>
            <a:ext cx="4572000" cy="2144520"/>
          </a:xfrm>
          <a:prstGeom prst="rect">
            <a:avLst/>
          </a:prstGeom>
          <a:ln w="0">
            <a:noFill/>
          </a:ln>
        </p:spPr>
      </p:pic>
      <p:pic>
        <p:nvPicPr>
          <p:cNvPr id="66" name="Диаграмма 28" descr=""/>
          <p:cNvPicPr/>
          <p:nvPr/>
        </p:nvPicPr>
        <p:blipFill>
          <a:blip r:embed="rId6"/>
          <a:stretch/>
        </p:blipFill>
        <p:spPr>
          <a:xfrm>
            <a:off x="500040" y="1427040"/>
            <a:ext cx="77169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4"/>
          <p:cNvSpPr/>
          <p:nvPr/>
        </p:nvSpPr>
        <p:spPr>
          <a:xfrm>
            <a:off x="857160" y="500040"/>
            <a:ext cx="7858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«ТЕРИТОРІЯ ЩАСЛИВИ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30 ДІТЕЙ УЧАСНИКІВ А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8" descr=""/>
          <p:cNvPicPr/>
          <p:nvPr/>
        </p:nvPicPr>
        <p:blipFill>
          <a:blip r:embed="rId3"/>
          <a:srcRect l="0" t="3816" r="0" b="25546"/>
          <a:stretch/>
        </p:blipFill>
        <p:spPr>
          <a:xfrm>
            <a:off x="1219320" y="1332000"/>
            <a:ext cx="6661080" cy="3529080"/>
          </a:xfrm>
          <a:prstGeom prst="rect">
            <a:avLst/>
          </a:prstGeom>
          <a:ln w="0">
            <a:noFill/>
          </a:ln>
        </p:spPr>
      </p:pic>
      <p:sp>
        <p:nvSpPr>
          <p:cNvPr id="505" name="Скругленный прямоугольник 9"/>
          <p:cNvSpPr/>
          <p:nvPr/>
        </p:nvSpPr>
        <p:spPr>
          <a:xfrm>
            <a:off x="142920" y="5000760"/>
            <a:ext cx="4143240" cy="5000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1"/>
          <p:cNvSpPr/>
          <p:nvPr/>
        </p:nvSpPr>
        <p:spPr>
          <a:xfrm>
            <a:off x="428760" y="494820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3 д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кругленный прямоугольник 12"/>
          <p:cNvSpPr/>
          <p:nvPr/>
        </p:nvSpPr>
        <p:spPr>
          <a:xfrm>
            <a:off x="4491000" y="5000760"/>
            <a:ext cx="4143240" cy="5000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3"/>
          <p:cNvSpPr/>
          <p:nvPr/>
        </p:nvSpPr>
        <p:spPr>
          <a:xfrm>
            <a:off x="4776840" y="4902120"/>
            <a:ext cx="3643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тренінг з лідер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Скругленный прямоугольник 14"/>
          <p:cNvSpPr/>
          <p:nvPr/>
        </p:nvSpPr>
        <p:spPr>
          <a:xfrm>
            <a:off x="117360" y="5724360"/>
            <a:ext cx="4143600" cy="1017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6"/>
          <p:cNvSpPr/>
          <p:nvPr/>
        </p:nvSpPr>
        <p:spPr>
          <a:xfrm>
            <a:off x="403200" y="5688000"/>
            <a:ext cx="3643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майстер-класи, квести, віктори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кругленный прямоугольник 17"/>
          <p:cNvSpPr/>
          <p:nvPr/>
        </p:nvSpPr>
        <p:spPr>
          <a:xfrm>
            <a:off x="4500720" y="5724360"/>
            <a:ext cx="4143240" cy="9795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18"/>
          <p:cNvSpPr/>
          <p:nvPr/>
        </p:nvSpPr>
        <p:spPr>
          <a:xfrm>
            <a:off x="5000760" y="5688000"/>
            <a:ext cx="3143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обистісний розви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9"/>
          <p:cNvSpPr/>
          <p:nvPr/>
        </p:nvSpPr>
        <p:spPr>
          <a:xfrm>
            <a:off x="-25200" y="0"/>
            <a:ext cx="2617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ОВОВВЕДЕННЯ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9"/>
          <p:cNvSpPr/>
          <p:nvPr/>
        </p:nvSpPr>
        <p:spPr>
          <a:xfrm>
            <a:off x="14292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ВИКЛИКИ 2018 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Скругленный прямоугольник 23"/>
          <p:cNvSpPr/>
          <p:nvPr/>
        </p:nvSpPr>
        <p:spPr>
          <a:xfrm>
            <a:off x="2500200" y="3357720"/>
            <a:ext cx="3857760" cy="1214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25"/>
          <p:cNvSpPr/>
          <p:nvPr/>
        </p:nvSpPr>
        <p:spPr>
          <a:xfrm>
            <a:off x="2857680" y="3571920"/>
            <a:ext cx="3143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НОВОВВЕДЕННЯ В ЗАКОНОДАВСТВ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Скругленный прямоугольник 26"/>
          <p:cNvSpPr/>
          <p:nvPr/>
        </p:nvSpPr>
        <p:spPr>
          <a:xfrm>
            <a:off x="357120" y="1571760"/>
            <a:ext cx="364356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27"/>
          <p:cNvSpPr/>
          <p:nvPr/>
        </p:nvSpPr>
        <p:spPr>
          <a:xfrm>
            <a:off x="571680" y="1571760"/>
            <a:ext cx="328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Забезпечення житлом учасників бойових д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(на території інших держав) та ВП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Скругленный прямоугольник 30"/>
          <p:cNvSpPr/>
          <p:nvPr/>
        </p:nvSpPr>
        <p:spPr>
          <a:xfrm>
            <a:off x="4929120" y="1571760"/>
            <a:ext cx="364356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31"/>
          <p:cNvSpPr/>
          <p:nvPr/>
        </p:nvSpPr>
        <p:spPr>
          <a:xfrm>
            <a:off x="5143680" y="1820880"/>
            <a:ext cx="328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Новий порядок забезпечення засобами реабіліт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Скругленный прямоугольник 32"/>
          <p:cNvSpPr/>
          <p:nvPr/>
        </p:nvSpPr>
        <p:spPr>
          <a:xfrm>
            <a:off x="357120" y="4929120"/>
            <a:ext cx="3643560" cy="14652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33"/>
          <p:cNvSpPr/>
          <p:nvPr/>
        </p:nvSpPr>
        <p:spPr>
          <a:xfrm>
            <a:off x="571680" y="530208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Монетизація піль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в т.ч. на ЖК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кругленный прямоугольник 34"/>
          <p:cNvSpPr/>
          <p:nvPr/>
        </p:nvSpPr>
        <p:spPr>
          <a:xfrm>
            <a:off x="4929120" y="4929120"/>
            <a:ext cx="3643560" cy="14652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35"/>
          <p:cNvSpPr/>
          <p:nvPr/>
        </p:nvSpPr>
        <p:spPr>
          <a:xfrm>
            <a:off x="5143680" y="5143680"/>
            <a:ext cx="328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Новий (спрощений) порядок надання субсид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529" name="TextBox 9"/>
          <p:cNvSpPr/>
          <p:nvPr/>
        </p:nvSpPr>
        <p:spPr>
          <a:xfrm>
            <a:off x="428760" y="500040"/>
            <a:ext cx="89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СНОВНІ ПЛАНИ НА 2018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кругленный прямоугольник 26"/>
          <p:cNvSpPr/>
          <p:nvPr/>
        </p:nvSpPr>
        <p:spPr>
          <a:xfrm>
            <a:off x="500040" y="3214800"/>
            <a:ext cx="3857760" cy="16779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27"/>
          <p:cNvSpPr/>
          <p:nvPr/>
        </p:nvSpPr>
        <p:spPr>
          <a:xfrm>
            <a:off x="857160" y="3340080"/>
            <a:ext cx="328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Створе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5 мобільних бригад </a:t>
            </a: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допомоги жертвам домашнього наси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Скругленный прямоугольник 37"/>
          <p:cNvSpPr/>
          <p:nvPr/>
        </p:nvSpPr>
        <p:spPr>
          <a:xfrm>
            <a:off x="4714920" y="3214800"/>
            <a:ext cx="3857760" cy="16779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38"/>
          <p:cNvSpPr/>
          <p:nvPr/>
        </p:nvSpPr>
        <p:spPr>
          <a:xfrm>
            <a:off x="4857840" y="3465360"/>
            <a:ext cx="347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нкурс мікропроектів по напряму «Сімейна політик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Скругленный прямоугольник 39"/>
          <p:cNvSpPr/>
          <p:nvPr/>
        </p:nvSpPr>
        <p:spPr>
          <a:xfrm>
            <a:off x="500040" y="1428840"/>
            <a:ext cx="3857760" cy="16779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40"/>
          <p:cNvSpPr/>
          <p:nvPr/>
        </p:nvSpPr>
        <p:spPr>
          <a:xfrm>
            <a:off x="714240" y="1554120"/>
            <a:ext cx="3286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Забезпечення житлом учасників АТО за співфінансуванням з обласного бюдже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кругленный прямоугольник 41"/>
          <p:cNvSpPr/>
          <p:nvPr/>
        </p:nvSpPr>
        <p:spPr>
          <a:xfrm>
            <a:off x="4714920" y="1428840"/>
            <a:ext cx="3857760" cy="16779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42"/>
          <p:cNvSpPr/>
          <p:nvPr/>
        </p:nvSpPr>
        <p:spPr>
          <a:xfrm>
            <a:off x="4929120" y="1554120"/>
            <a:ext cx="347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рганізація «сімейного відпочинку» родин учасників АТО та Небесної Сот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кругленный прямоугольник 43"/>
          <p:cNvSpPr/>
          <p:nvPr/>
        </p:nvSpPr>
        <p:spPr>
          <a:xfrm>
            <a:off x="500040" y="5000760"/>
            <a:ext cx="8072640" cy="16430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44"/>
          <p:cNvSpPr/>
          <p:nvPr/>
        </p:nvSpPr>
        <p:spPr>
          <a:xfrm>
            <a:off x="714240" y="507204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Реформування установ системи соціального захисту, проведення капітальних ремонт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Забезпечення кращих умов перебування клієнт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Прямая со стрелкой 46"/>
          <p:cNvCxnSpPr/>
          <p:nvPr/>
        </p:nvCxnSpPr>
        <p:spPr>
          <a:xfrm flipH="1">
            <a:off x="4570200" y="5785920"/>
            <a:ext cx="2160" cy="358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7786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1428840" y="500040"/>
            <a:ext cx="67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ВИДАТКИ НА СОЦІАЛЬНИЙ ЗАХ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428760" y="2143080"/>
            <a:ext cx="4143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ДЕРЖАВНИЙ БЮДЖЕТ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3"/>
          <p:cNvSpPr/>
          <p:nvPr/>
        </p:nvSpPr>
        <p:spPr>
          <a:xfrm>
            <a:off x="5000760" y="1857240"/>
            <a:ext cx="36432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4"/>
          <p:cNvSpPr/>
          <p:nvPr/>
        </p:nvSpPr>
        <p:spPr>
          <a:xfrm>
            <a:off x="5214960" y="1857240"/>
            <a:ext cx="3286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Учасники бойових ді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в т.ч. А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141,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5"/>
          <p:cNvSpPr/>
          <p:nvPr/>
        </p:nvSpPr>
        <p:spPr>
          <a:xfrm>
            <a:off x="5072040" y="3571920"/>
            <a:ext cx="3571920" cy="1071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6"/>
          <p:cNvSpPr/>
          <p:nvPr/>
        </p:nvSpPr>
        <p:spPr>
          <a:xfrm>
            <a:off x="5286240" y="3571920"/>
            <a:ext cx="3143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Революція Гідності + Небесна Сот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21,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23"/>
          <p:cNvSpPr/>
          <p:nvPr/>
        </p:nvSpPr>
        <p:spPr>
          <a:xfrm>
            <a:off x="6072120" y="528624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5"/>
          <p:cNvSpPr/>
          <p:nvPr/>
        </p:nvSpPr>
        <p:spPr>
          <a:xfrm>
            <a:off x="5929200" y="5429160"/>
            <a:ext cx="25718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Інш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56</a:t>
            </a: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,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9"/>
          <p:cNvSpPr/>
          <p:nvPr/>
        </p:nvSpPr>
        <p:spPr>
          <a:xfrm>
            <a:off x="571680" y="528624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0"/>
          <p:cNvSpPr/>
          <p:nvPr/>
        </p:nvSpPr>
        <p:spPr>
          <a:xfrm>
            <a:off x="428760" y="5429160"/>
            <a:ext cx="2571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ЧАЕ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22,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1"/>
          <p:cNvSpPr/>
          <p:nvPr/>
        </p:nvSpPr>
        <p:spPr>
          <a:xfrm>
            <a:off x="3357720" y="528624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2"/>
          <p:cNvSpPr/>
          <p:nvPr/>
        </p:nvSpPr>
        <p:spPr>
          <a:xfrm>
            <a:off x="3214800" y="5429160"/>
            <a:ext cx="2571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ВП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35,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39"/>
          <p:cNvSpPr/>
          <p:nvPr/>
        </p:nvSpPr>
        <p:spPr>
          <a:xfrm>
            <a:off x="857160" y="3000240"/>
            <a:ext cx="3000600" cy="1071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0"/>
          <p:cNvSpPr/>
          <p:nvPr/>
        </p:nvSpPr>
        <p:spPr>
          <a:xfrm>
            <a:off x="1285920" y="30052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mbria"/>
                <a:ea typeface="Times New Roman"/>
              </a:rPr>
              <a:t>277,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7786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1428840" y="500040"/>
            <a:ext cx="67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ВИДАТКИ НА СОЦІАЛЬНИЙ ЗАХ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7"/>
          <p:cNvSpPr/>
          <p:nvPr/>
        </p:nvSpPr>
        <p:spPr>
          <a:xfrm>
            <a:off x="428760" y="2071800"/>
            <a:ext cx="4143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ОБЛАСНИЙ БЮДЖЕТ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3"/>
          <p:cNvSpPr/>
          <p:nvPr/>
        </p:nvSpPr>
        <p:spPr>
          <a:xfrm>
            <a:off x="5000760" y="1857240"/>
            <a:ext cx="36432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5214960" y="2000160"/>
            <a:ext cx="328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Підвідомчі устано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133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5"/>
          <p:cNvSpPr/>
          <p:nvPr/>
        </p:nvSpPr>
        <p:spPr>
          <a:xfrm>
            <a:off x="5072040" y="3571920"/>
            <a:ext cx="3571920" cy="1071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5286240" y="3730680"/>
            <a:ext cx="3143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мплексні прог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64,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9"/>
          <p:cNvSpPr/>
          <p:nvPr/>
        </p:nvSpPr>
        <p:spPr>
          <a:xfrm>
            <a:off x="928800" y="3000240"/>
            <a:ext cx="3071880" cy="1071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0"/>
          <p:cNvSpPr/>
          <p:nvPr/>
        </p:nvSpPr>
        <p:spPr>
          <a:xfrm>
            <a:off x="1357200" y="30002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mbria"/>
                <a:ea typeface="Times New Roman"/>
              </a:rPr>
              <a:t>211,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24"/>
          <p:cNvSpPr/>
          <p:nvPr/>
        </p:nvSpPr>
        <p:spPr>
          <a:xfrm>
            <a:off x="5072040" y="5286240"/>
            <a:ext cx="357192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6"/>
          <p:cNvSpPr/>
          <p:nvPr/>
        </p:nvSpPr>
        <p:spPr>
          <a:xfrm>
            <a:off x="5286240" y="5286240"/>
            <a:ext cx="3143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Заходи, в т.ч. оздоровлення ді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27"/>
          <p:cNvSpPr/>
          <p:nvPr/>
        </p:nvSpPr>
        <p:spPr>
          <a:xfrm>
            <a:off x="642960" y="5286240"/>
            <a:ext cx="357192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8"/>
          <p:cNvSpPr/>
          <p:nvPr/>
        </p:nvSpPr>
        <p:spPr>
          <a:xfrm>
            <a:off x="857160" y="544500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Інш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4,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ДЕРЖАВНІ СОЦІАЛЬНІ ДОПОМ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428760" y="1571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Середньомісячна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кількість одержувачів допомог стан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185,5 тис. осіб.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Річна сума виплат – 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4,1 млрд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5143680" y="150012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Субвенція з державного бюджету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млрд. гр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5283360" y="2146320"/>
          <a:ext cx="3441600" cy="12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3360" y="2146320"/>
                    <a:ext cx="344160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Прямоугольник 12"/>
          <p:cNvSpPr/>
          <p:nvPr/>
        </p:nvSpPr>
        <p:spPr>
          <a:xfrm>
            <a:off x="-192240" y="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Диаграмма 18" descr=""/>
          <p:cNvPicPr/>
          <p:nvPr/>
        </p:nvPicPr>
        <p:blipFill>
          <a:blip r:embed="rId5"/>
          <a:stretch/>
        </p:blipFill>
        <p:spPr>
          <a:xfrm>
            <a:off x="285840" y="3859200"/>
            <a:ext cx="849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18"/>
          <p:cNvSpPr/>
          <p:nvPr/>
        </p:nvSpPr>
        <p:spPr>
          <a:xfrm>
            <a:off x="357120" y="521496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ЛЬГИ/СУБСИД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214200" y="2214720"/>
          <a:ext cx="421488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2214720"/>
                    <a:ext cx="421488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Диаграмма 3" descr=""/>
          <p:cNvPicPr/>
          <p:nvPr/>
        </p:nvPicPr>
        <p:blipFill>
          <a:blip r:embed="rId5"/>
          <a:stretch/>
        </p:blipFill>
        <p:spPr>
          <a:xfrm>
            <a:off x="4500720" y="2286000"/>
            <a:ext cx="4500360" cy="26431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7"/>
          <p:cNvSpPr/>
          <p:nvPr/>
        </p:nvSpPr>
        <p:spPr>
          <a:xfrm>
            <a:off x="785880" y="150012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Субвенція на пільги та субсидії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(млн. гр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5214960" y="157176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Кількість сімей, які отримують субсидію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(ти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642960" y="52862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В базу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Єдиного державного автоматизованого  реєстру пільговиків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внесено інформацію про  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895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тис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іб, які мають право на піл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в т.ч.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314,9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тис. осіб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на ЖК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2"/>
          <p:cNvSpPr/>
          <p:nvPr/>
        </p:nvSpPr>
        <p:spPr>
          <a:xfrm rot="5400000">
            <a:off x="-1143360" y="3286080"/>
            <a:ext cx="28573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3"/>
          <p:cNvSpPr/>
          <p:nvPr/>
        </p:nvSpPr>
        <p:spPr>
          <a:xfrm>
            <a:off x="285840" y="4786200"/>
            <a:ext cx="44290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4"/>
          <p:cNvSpPr/>
          <p:nvPr/>
        </p:nvSpPr>
        <p:spPr>
          <a:xfrm>
            <a:off x="0" y="2071800"/>
            <a:ext cx="4429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5"/>
          <p:cNvSpPr/>
          <p:nvPr/>
        </p:nvSpPr>
        <p:spPr>
          <a:xfrm rot="5400000">
            <a:off x="3179160" y="3321720"/>
            <a:ext cx="242856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6"/>
          <p:cNvSpPr/>
          <p:nvPr/>
        </p:nvSpPr>
        <p:spPr>
          <a:xfrm flipV="1" rot="6055200">
            <a:off x="55440" y="4584240"/>
            <a:ext cx="37656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7"/>
          <p:cNvSpPr/>
          <p:nvPr/>
        </p:nvSpPr>
        <p:spPr>
          <a:xfrm flipV="1" rot="6055200">
            <a:off x="4341600" y="4511880"/>
            <a:ext cx="37620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19"/>
          <p:cNvSpPr/>
          <p:nvPr/>
        </p:nvSpPr>
        <p:spPr>
          <a:xfrm>
            <a:off x="7858080" y="4572000"/>
            <a:ext cx="357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0"/>
          <p:cNvSpPr/>
          <p:nvPr/>
        </p:nvSpPr>
        <p:spPr>
          <a:xfrm>
            <a:off x="-192240" y="-1260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3357720" y="500040"/>
            <a:ext cx="25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СУБСИД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20"/>
          <p:cNvSpPr/>
          <p:nvPr/>
        </p:nvSpPr>
        <p:spPr>
          <a:xfrm>
            <a:off x="357120" y="200016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1"/>
          <p:cNvSpPr/>
          <p:nvPr/>
        </p:nvSpPr>
        <p:spPr>
          <a:xfrm>
            <a:off x="571680" y="1928880"/>
            <a:ext cx="350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Скасовано всі обмеження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щодо майнового стану крім здійснення одноразової покупки, оплати послуг (на суму понад 50 тис. гр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2928960" y="1357200"/>
            <a:ext cx="32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ПРИЗНАЧЕНН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39"/>
          <p:cNvSpPr/>
          <p:nvPr/>
        </p:nvSpPr>
        <p:spPr>
          <a:xfrm>
            <a:off x="4857840" y="200016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адається право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 оформлення субсидій особам, які орендують житло і оплачують вартість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ЖКП на підставі договору оренди жит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40"/>
          <p:cNvSpPr/>
          <p:nvPr/>
        </p:nvSpPr>
        <p:spPr>
          <a:xfrm>
            <a:off x="357120" y="321480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1"/>
          <p:cNvSpPr/>
          <p:nvPr/>
        </p:nvSpPr>
        <p:spPr>
          <a:xfrm>
            <a:off x="4857840" y="321480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3"/>
          <p:cNvSpPr/>
          <p:nvPr/>
        </p:nvSpPr>
        <p:spPr>
          <a:xfrm>
            <a:off x="357120" y="3286080"/>
            <a:ext cx="385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овторне призначення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 наступний термін здійснюється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автоматично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без звернень громадя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4"/>
          <p:cNvSpPr/>
          <p:nvPr/>
        </p:nvSpPr>
        <p:spPr>
          <a:xfrm>
            <a:off x="4929120" y="3143160"/>
            <a:ext cx="392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дана можливість надання документів для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ризначення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субсиді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в мережі Інтернет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(https://subsidii.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ml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Звернулось 105 осі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5"/>
          <p:cNvSpPr/>
          <p:nvPr/>
        </p:nvSpPr>
        <p:spPr>
          <a:xfrm>
            <a:off x="2928960" y="4452840"/>
            <a:ext cx="32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МОНЕТИЗАЦІ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46"/>
          <p:cNvSpPr/>
          <p:nvPr/>
        </p:nvSpPr>
        <p:spPr>
          <a:xfrm>
            <a:off x="285840" y="5000760"/>
            <a:ext cx="392904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7"/>
          <p:cNvSpPr/>
          <p:nvPr/>
        </p:nvSpPr>
        <p:spPr>
          <a:xfrm>
            <a:off x="4786200" y="5000760"/>
            <a:ext cx="392904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0"/>
          <p:cNvSpPr/>
          <p:nvPr/>
        </p:nvSpPr>
        <p:spPr>
          <a:xfrm>
            <a:off x="357120" y="500076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держувачі</a:t>
            </a: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, які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заощадили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опалювальний період 2016-2017 р.р.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держали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відповідну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фінансову компенсацію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у розмірі вартості 150 кв. за електроенергію (до 135 грн) та 100 куб.м. за газ (до 695 гр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1"/>
          <p:cNvSpPr/>
          <p:nvPr/>
        </p:nvSpPr>
        <p:spPr>
          <a:xfrm>
            <a:off x="4786200" y="5143680"/>
            <a:ext cx="400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Станом на січень 2018 року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виплачено компенсацію 130 314 одержувачам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на загальну суму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82,8 млн. грн.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ідповідно до одержаної субвенції з Державного бюджету Украї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9"/>
          <p:cNvSpPr/>
          <p:nvPr/>
        </p:nvSpPr>
        <p:spPr>
          <a:xfrm>
            <a:off x="-192240" y="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4"/>
          <p:cNvSpPr/>
          <p:nvPr/>
        </p:nvSpPr>
        <p:spPr>
          <a:xfrm>
            <a:off x="214200" y="5000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ОСІ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СТАЖДАЛИХ ВІД АВАРІЇ НА ЧА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714240" y="1571760"/>
            <a:ext cx="77155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В Львівській області налічується </a:t>
            </a:r>
            <a:r>
              <a:rPr b="1" lang="uk-UA" sz="2500" spc="-1" strike="noStrike">
                <a:solidFill>
                  <a:srgbClr val="ff0000"/>
                </a:solidFill>
                <a:latin typeface="Cambria"/>
              </a:rPr>
              <a:t>8</a:t>
            </a:r>
            <a:r>
              <a:rPr b="1" lang="en-US" sz="2500" spc="-1" strike="noStrike">
                <a:solidFill>
                  <a:srgbClr val="ff0000"/>
                </a:solidFill>
                <a:latin typeface="Cambria"/>
              </a:rPr>
              <a:t>441</a:t>
            </a:r>
            <a:r>
              <a:rPr b="1" lang="uk-UA" sz="25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особа, з числа постраждалих внаслідок аварій на ЧАЕС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Загальна сума виплат для реалізації державної прог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2200" spc="-1" strike="noStrike">
                <a:solidFill>
                  <a:srgbClr val="ff0000"/>
                </a:solidFill>
                <a:latin typeface="Cambria"/>
              </a:rPr>
              <a:t>22,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6</a:t>
            </a:r>
            <a:r>
              <a:rPr b="1" lang="uk-UA" sz="2200" spc="-1" strike="noStrike">
                <a:solidFill>
                  <a:srgbClr val="ff0000"/>
                </a:solidFill>
                <a:latin typeface="Cambria"/>
              </a:rPr>
              <a:t>2 </a:t>
            </a: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(у 2016 році – </a:t>
            </a: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20,8 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млн.гр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9" descr=""/>
          <p:cNvPicPr/>
          <p:nvPr/>
        </p:nvPicPr>
        <p:blipFill>
          <a:blip r:embed="rId1"/>
          <a:stretch/>
        </p:blipFill>
        <p:spPr>
          <a:xfrm>
            <a:off x="500040" y="3852720"/>
            <a:ext cx="6145200" cy="281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46" name="Скругленный прямоугольник 15"/>
          <p:cNvSpPr/>
          <p:nvPr/>
        </p:nvSpPr>
        <p:spPr>
          <a:xfrm>
            <a:off x="6858000" y="3571920"/>
            <a:ext cx="2143080" cy="300024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3000240"/>
              <a:gd name="textAreaBottom" fmla="*/ 2895840 h 3000240"/>
            </a:gdLst>
            <a:ahLst/>
            <a:rect l="textAreaLeft" t="textAreaTop" r="textAreaRight" b="textAreaBottom"/>
            <a:pathLst>
              <a:path w="21600" h="30238">
                <a:moveTo>
                  <a:pt x="3600" y="0"/>
                </a:moveTo>
                <a:arcTo wR="3600" hR="3600" stAng="16200000" swAng="-5400000"/>
                <a:lnTo>
                  <a:pt x="0" y="26638"/>
                </a:lnTo>
                <a:arcTo wR="3600" hR="3600" stAng="10800000" swAng="-5400000"/>
                <a:lnTo>
                  <a:pt x="18000" y="30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7000920" y="3643200"/>
            <a:ext cx="1857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Обласний бюджет 2017 рок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Штриховая стрелка вправо 17"/>
          <p:cNvSpPr/>
          <p:nvPr/>
        </p:nvSpPr>
        <p:spPr>
          <a:xfrm rot="5400000">
            <a:off x="7747560" y="4968000"/>
            <a:ext cx="431640" cy="211320"/>
          </a:xfrm>
          <a:custGeom>
            <a:avLst/>
            <a:gdLst/>
            <a:ahLst/>
            <a:rect l="l" t="t" r="r" b="b"/>
            <a:pathLst>
              <a:path w="431800" h="211138">
                <a:moveTo>
                  <a:pt x="0" y="68871"/>
                </a:moveTo>
                <a:lnTo>
                  <a:pt x="6598" y="68871"/>
                </a:lnTo>
                <a:lnTo>
                  <a:pt x="6598" y="142267"/>
                </a:lnTo>
                <a:lnTo>
                  <a:pt x="0" y="142267"/>
                </a:lnTo>
                <a:lnTo>
                  <a:pt x="0" y="68871"/>
                </a:lnTo>
                <a:close/>
                <a:moveTo>
                  <a:pt x="13196" y="68871"/>
                </a:moveTo>
                <a:lnTo>
                  <a:pt x="26392" y="68871"/>
                </a:lnTo>
                <a:lnTo>
                  <a:pt x="26392" y="142267"/>
                </a:lnTo>
                <a:lnTo>
                  <a:pt x="13196" y="142267"/>
                </a:lnTo>
                <a:lnTo>
                  <a:pt x="13196" y="68871"/>
                </a:lnTo>
                <a:close/>
                <a:moveTo>
                  <a:pt x="32990" y="68871"/>
                </a:moveTo>
                <a:lnTo>
                  <a:pt x="326231" y="68871"/>
                </a:lnTo>
                <a:lnTo>
                  <a:pt x="326231" y="0"/>
                </a:lnTo>
                <a:lnTo>
                  <a:pt x="431800" y="105569"/>
                </a:lnTo>
                <a:lnTo>
                  <a:pt x="326231" y="211138"/>
                </a:lnTo>
                <a:lnTo>
                  <a:pt x="326231" y="142267"/>
                </a:lnTo>
                <a:lnTo>
                  <a:pt x="32990" y="142267"/>
                </a:lnTo>
                <a:lnTo>
                  <a:pt x="32990" y="68871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6921000" y="5429160"/>
            <a:ext cx="19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2,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8"/>
          <p:cNvSpPr/>
          <p:nvPr/>
        </p:nvSpPr>
        <p:spPr>
          <a:xfrm>
            <a:off x="-192240" y="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3071880" y="6273720"/>
            <a:ext cx="11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17:06:54Z</dcterms:created>
  <dc:creator>Home</dc:creator>
  <dc:description/>
  <dc:language>en-US</dc:language>
  <cp:lastModifiedBy>presa1</cp:lastModifiedBy>
  <dcterms:modified xsi:type="dcterms:W3CDTF">2018-02-15T07:53:44Z</dcterms:modified>
  <cp:revision>236</cp:revision>
  <dc:subject/>
  <dc:title>Слайд 1</dc:title>
</cp:coreProperties>
</file>