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773-E289-4A99-BD61-627A13B8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2F8-F1FA-42AB-BB20-F10012C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785-DA60-4BFB-87C5-D5CF806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059-185B-4AED-9BAA-5055DFB8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ADB-371E-4F7A-93F9-41C34C8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041-9D7E-4F61-AC60-2A27F1A1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96A-A4D1-4E46-AFD0-9DDB2B8D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50A-FEC0-4382-B91F-DA2E3387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9B8-1D8F-4F29-936F-9156A54F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CD9-E99A-4773-9E87-704FFB26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34F-165F-4F0F-A5C8-0B04793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DE1-C01A-437D-B64B-032DAE1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5926-775D-4A04-9557-402BA1CCB90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1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6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1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9680" y="428616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 Black"/>
              </a:rPr>
              <a:t>Конкурс проектів серед громадських </a:t>
            </a:r>
            <a:br>
              <a:rPr sz="2900"/>
            </a:br>
            <a:r>
              <a:rPr b="0" lang="uk-UA" sz="2900" spc="-1" strike="noStrike">
                <a:solidFill>
                  <a:srgbClr val="ff0000"/>
                </a:solidFill>
                <a:latin typeface="Arial Black"/>
              </a:rPr>
              <a:t>організацій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85920" y="2858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Arial Black"/>
              </a:rPr>
              <a:t>Департамент з питань культури, національностей та релігі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0"/>
            <a:ext cx="7886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Конкурс проектів національних товариств Львівщин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840" y="2071440"/>
            <a:ext cx="38689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 організації – національно-культурні  товари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 </a:t>
            </a: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 організації, що реалізовують проекти у сфері міжетнічних відносин  та етнонаціональної полі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4560" y="856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57440" y="1714680"/>
            <a:ext cx="4500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інтеграційні про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екти зі збереження культурної спадщини і традиц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моція культури етно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залучення молоді та ді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екти національно-патріотичного характе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екти, що реалізовують спільно декілька організац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142560"/>
            <a:ext cx="78865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 Black"/>
              </a:rPr>
              <a:t>Зверніть увагу</a:t>
            </a:r>
            <a:r>
              <a:rPr b="0" lang="uk-UA" sz="44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4200" y="999720"/>
            <a:ext cx="8786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 Black"/>
              </a:rPr>
              <a:t>Термін подання документі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5 конкурсів – 16.01-28.02.2019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Конкурс в рамках проекту “Український Донбас” – буде повідомлено  додатков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 Black"/>
              </a:rPr>
              <a:t>Перелік документів на конкурс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22a35"/>
                </a:solidFill>
                <a:latin typeface="Arial Black"/>
              </a:rPr>
              <a:t> </a:t>
            </a: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Заява про участь у конкурсі установленого зра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  </a:t>
            </a: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Копія свідоцтва про реєстрацію (витяг або виписку з ЄДРПОУ), копію статуту (положення) громадської організації, завірена в установленому законодавством порядку (у разі її наявності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Аплікаційна форма установленого зра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Довідка з банку про відкритий рахун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2600" spc="-1" strike="noStrike">
                <a:solidFill>
                  <a:srgbClr val="ff0000"/>
                </a:solidFill>
                <a:latin typeface="Arial Black"/>
              </a:rPr>
              <a:t>Адреса, за якою приймається конкурсна пропозиція</a:t>
            </a:r>
            <a:r>
              <a:rPr b="1" lang="uk-UA" sz="21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400" spc="-1" strike="noStrike">
                <a:solidFill>
                  <a:srgbClr val="548235"/>
                </a:solidFill>
                <a:latin typeface="Arial Black"/>
              </a:rPr>
              <a:t>79008, м. Львів,  вул. В. Винниченка, 14, к. 3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департамент з питань культури, національностей та релігій облдержадміністрації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або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можуть бути надіслані на електрону пошт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klviv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kr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et</a:t>
            </a:r>
            <a:r>
              <a:rPr b="1" lang="uk-UA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з поміткою «На конкурс ……(</a:t>
            </a:r>
            <a:r>
              <a:rPr b="1" i="1" lang="uk-UA" sz="2100" spc="-1" strike="noStrike">
                <a:solidFill>
                  <a:srgbClr val="7030a0"/>
                </a:solidFill>
                <a:latin typeface="Arial Black"/>
              </a:rPr>
              <a:t>назва конкурсу</a:t>
            </a: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)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Телефон для довідок: (032) 261-22-27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 Black"/>
              </a:rPr>
              <a:t>Детальна інформація та положення – за адресою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6760" y="2214720"/>
            <a:ext cx="83581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loda.gov.ua/news?news_departments=9&amp;id=330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880" y="357120"/>
            <a:ext cx="788688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500" spc="-1" strike="noStrike">
                <a:solidFill>
                  <a:srgbClr val="ff0000"/>
                </a:solidFill>
                <a:latin typeface="Arial Black"/>
              </a:rPr>
              <a:t>Запрошуємо </a:t>
            </a: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Arial Black"/>
              </a:rPr>
              <a:t>до</a:t>
            </a: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Arial Black"/>
              </a:rPr>
              <a:t> співпраці !!!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uk-UA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 Black"/>
              </a:rPr>
              <a:t>Фінансовий ресурс конкурсів, тис грн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857160"/>
            <a:ext cx="8400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3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50080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70920"/>
            <a:ext cx="7886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 Black"/>
              </a:rPr>
              <a:t>Статистик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143000"/>
            <a:ext cx="7886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Учасники проектів департамен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115</a:t>
            </a:r>
            <a:r>
              <a:rPr b="0" lang="uk-UA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600" spc="-1" strike="noStrike">
                <a:solidFill>
                  <a:srgbClr val="2f5597"/>
                </a:solidFill>
                <a:latin typeface="Arial Black"/>
              </a:rPr>
              <a:t>громадських організаці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12</a:t>
            </a:r>
            <a:r>
              <a:rPr b="0" lang="uk-UA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600" spc="-1" strike="noStrike">
                <a:solidFill>
                  <a:srgbClr val="2f5597"/>
                </a:solidFill>
                <a:latin typeface="Arial Black"/>
              </a:rPr>
              <a:t>творчих спіл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35</a:t>
            </a:r>
            <a:r>
              <a:rPr b="0" lang="uk-UA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600" spc="-1" strike="noStrike">
                <a:solidFill>
                  <a:srgbClr val="2f5597"/>
                </a:solidFill>
                <a:latin typeface="Arial Black"/>
              </a:rPr>
              <a:t>національно-культурних товари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2f55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85840" y="1143000"/>
          <a:ext cx="8286840" cy="190512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2017 р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2018 р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Кількість конкурсних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>
                      <a:noFill/>
                    </a:lnB>
                    <a:solidFill>
                      <a:srgbClr val="70ad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>
                      <a:noFill/>
                    </a:lnB>
                    <a:solidFill>
                      <a:srgbClr val="70ad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>
                      <a:noFill/>
                    </a:lnB>
                    <a:solidFill>
                      <a:srgbClr val="70ad47">
                        <a:alpha val="20000"/>
                      </a:srgbClr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Кількість переможц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Фінансовий ресурс конкурсів, тис грн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2928960" y="571680"/>
            <a:ext cx="6215040" cy="628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14200" y="785880"/>
          <a:ext cx="3214800" cy="615456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проектів серед національних товариств Львівщ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мистецьких проектів серед творчих спілок Львівщ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мистецьких проектів серед громадських організацій Львівщ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Презентація потенціалу Львівщини в країнах проживання української діасп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ультурно-мистецьке таборування для населення сільської місцев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мистецьких ініціатив  в рамках проекту</a:t>
                      </a:r>
                      <a:r>
                        <a:rPr b="0" lang="uk-UA" sz="14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“Український Донбас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700" spc="-1" strike="noStrike">
                <a:solidFill>
                  <a:srgbClr val="ff0000"/>
                </a:solidFill>
                <a:latin typeface="Arial Black"/>
              </a:rPr>
              <a:t>Конкурс мистецьких ініціатив  в рамках проекту “</a:t>
            </a: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Український</a:t>
            </a:r>
            <a:r>
              <a:rPr b="0" lang="uk-UA" sz="2700" spc="-1" strike="noStrike">
                <a:solidFill>
                  <a:srgbClr val="ff0000"/>
                </a:solidFill>
                <a:latin typeface="Arial Black"/>
              </a:rPr>
              <a:t> Донбас”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0360" y="1681200"/>
            <a:ext cx="386856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0360" y="221436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12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12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О, що діють у галузі культури у співпраці з аналогічними установами, закладами та організаціями Луганської обла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3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Пріорите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4560" y="2357280"/>
            <a:ext cx="404172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Унікальна Львівщ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локальних галицьких традицій та обряд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Утвердження української держав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екти  національно-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прямованість на молодь і ді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7092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 Black"/>
              </a:rPr>
              <a:t>Культурно-мистецьке таборування для населення сільської місцевості «Веселі канікули» християнсько-мистецького спрямування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560" y="1714320"/>
            <a:ext cx="28573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Інститути громадянського суспільств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молодіжні організа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благодійні організа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громадські об’єднання, які працюють з молодд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громадські організації релігійних гром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071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42800" y="1928520"/>
            <a:ext cx="5715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ивчення власного містечка, села, грома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оціалізація та залучення до життя громади дітей та підлітків; кризові катег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волонтер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півпраця  держави - церкви - громадського середовища заради сталого розвитку грома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видатного краян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дослідження локальної іст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майстер-класи місцевих традиці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7128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Презентація потенціалу Львівщини в країнах проживання української діаспори, транскордонна співпрац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2143080"/>
            <a:ext cx="30002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69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організації,  що діють у сфері куль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43200" y="2142720"/>
            <a:ext cx="521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шанування історичних подій на етнічних українських замлях – Млини, Сагринь, Павлокама, Дукля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цілісні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автентичної культури та традиці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ідтримка закордонних українц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європейської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0000" y="709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Конкурс мистецьких проектів серед громадських організацій Львівщин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920" y="1785960"/>
            <a:ext cx="33573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організації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Благодійні фон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Благодійні організ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7855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99920" y="1643040"/>
            <a:ext cx="5643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локальні проекти для народних домів та підтримки с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оказ сучасного кіно у малих населених пункт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ідзначення релігійних свят та пам'ятних дат Української  історії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шанування видатних постатей – рік Климентія Шептицького, Богдана-Ігора Антонича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інтерактивні вист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унікальні майстер-кла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залучення дітей до участі в заход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національно-патріотичне виховання дітей та молод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142920"/>
            <a:ext cx="7886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Конкурс мистецьких проектів серед творчих спілок Львівщин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928440"/>
            <a:ext cx="30430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333f50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74760"/>
            <a:ext cx="27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Творчі спілки Львівщ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333f50"/>
                </a:solidFill>
                <a:latin typeface="Arial Black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14800" y="1571760"/>
            <a:ext cx="5929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екти національно-патріотичного спрямув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образотворч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театральн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музичн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хореографічн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кіномистецт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ідтримка сучасного візуального мистецтва (медіа, перформанс, інсталяці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оціальні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якісні мистецькі проекти – у містечка та се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0T09:27:40Z</dcterms:created>
  <dc:creator>user</dc:creator>
  <dc:description/>
  <dc:language>en-US</dc:language>
  <cp:lastModifiedBy>1 IPA</cp:lastModifiedBy>
  <dcterms:modified xsi:type="dcterms:W3CDTF">2019-01-16T13:29:42Z</dcterms:modified>
  <cp:revision>66</cp:revision>
  <dc:subject/>
  <dc:title>Конкурс проектів серед громадських</dc:title>
</cp:coreProperties>
</file>