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02F-9A35-4608-8BB4-5BEB287B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41FF-99CF-4A4E-9232-D4872FD9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FF35-60DD-4366-BA15-8DC8B7CA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6F41-5190-4EDF-A0ED-F483C06F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8407-A524-468B-8B07-758EE608E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9BD-B498-4F85-9413-CC02186A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E40-5A11-442B-95CC-5542B3F9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68D-1493-419A-A515-445500DA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8966-6F4F-489D-9FF8-B339588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C03-2BFD-44A0-8993-A4115F09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B6C-4352-42A3-9F11-E951B15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F9C7-6993-4EA4-A8F1-7C36FB90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0F2D-6F02-407B-BA96-044B840C8BFD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Прямоугольник 12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6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Рисунок 19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9680" y="428616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900" spc="-1" strike="noStrike">
                <a:solidFill>
                  <a:srgbClr val="ff0000"/>
                </a:solidFill>
                <a:latin typeface="Arial Black"/>
              </a:rPr>
              <a:t>Конкурс проектів серед громадських </a:t>
            </a:r>
            <a:br>
              <a:rPr sz="2900"/>
            </a:br>
            <a:r>
              <a:rPr b="0" lang="uk-UA" sz="2900" spc="-1" strike="noStrike">
                <a:solidFill>
                  <a:srgbClr val="ff0000"/>
                </a:solidFill>
                <a:latin typeface="Arial Black"/>
              </a:rPr>
              <a:t>організацій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85920" y="285840"/>
            <a:ext cx="640080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900" spc="-1" strike="noStrike">
                <a:solidFill>
                  <a:srgbClr val="ff0000"/>
                </a:solidFill>
                <a:latin typeface="Arial Black"/>
              </a:rPr>
              <a:t>Департамент з питань культури, національностей та релігій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0"/>
            <a:ext cx="7886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проектів національних товариств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92844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840" y="2071440"/>
            <a:ext cx="386892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 організації – національно-культурні  товариств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 </a:t>
            </a: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 організації, що реалізовують проекти у сфері міжетнічних відносин  та етнонаціональної політ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14560" y="8568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357440" y="1714680"/>
            <a:ext cx="45003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інтеграційні про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 зі збереження культурної спадщини і тради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моція культури етнос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залучення молоді та діт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 національно-патріотичного характер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548235"/>
                </a:solidFill>
                <a:latin typeface="Arial Black"/>
              </a:rPr>
              <a:t>проекти, що реалізовують спільно декілька організаці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600" y="142560"/>
            <a:ext cx="788652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 Black"/>
              </a:rPr>
              <a:t>Зверніть увагу</a:t>
            </a:r>
            <a:r>
              <a:rPr b="0" lang="uk-UA" sz="44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4200" y="999720"/>
            <a:ext cx="87868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 Black"/>
              </a:rPr>
              <a:t>Термін подання документі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5 конкурсів – 16.01-28.02.2019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Конкурс в рамках проекту “Український Донбас” – буде повідомлено  додатково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Arial Black"/>
              </a:rPr>
              <a:t>Перелік документів на конкурс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22a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22a35"/>
                </a:solidFill>
                <a:latin typeface="Arial Black"/>
              </a:rPr>
              <a:t> </a:t>
            </a: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Заява про участь у конкурсі установленого зра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  </a:t>
            </a: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Копія свідоцтва про реєстрацію (витяг або виписку з ЄДРПОУ), копію статуту (положення) громадської організації, завірена в установленому законодавством порядку (у разі її наявності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Аплікаційна форма установленого зра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Довідка з банку про відкритий рахун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14200" y="214200"/>
            <a:ext cx="8715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600" spc="-1" strike="noStrike">
                <a:solidFill>
                  <a:srgbClr val="ff0000"/>
                </a:solidFill>
                <a:latin typeface="Arial Black"/>
              </a:rPr>
              <a:t>Адреса, за якою приймається конкурсна пропозиція</a:t>
            </a:r>
            <a:r>
              <a:rPr b="1" lang="uk-UA" sz="2100" spc="-1" strike="noStrike">
                <a:solidFill>
                  <a:srgbClr val="ff0000"/>
                </a:solidFill>
                <a:latin typeface="Arial Black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400" spc="-1" strike="noStrike">
                <a:solidFill>
                  <a:srgbClr val="548235"/>
                </a:solidFill>
                <a:latin typeface="Arial Black"/>
              </a:rPr>
              <a:t>79008, м. Львів,  вул. В. Винниченка, 14, к. 35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департамент з питань культури, національностей та релігій облдержадміністрації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або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можуть бути надіслані на електрону пошт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klviv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ukr</a:t>
            </a: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.</a:t>
            </a: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net</a:t>
            </a:r>
            <a:r>
              <a:rPr b="1" lang="uk-UA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з поміткою «На конкурс ……(</a:t>
            </a:r>
            <a:r>
              <a:rPr b="1" i="1" lang="uk-UA" sz="2100" spc="-1" strike="noStrike">
                <a:solidFill>
                  <a:srgbClr val="7030a0"/>
                </a:solidFill>
                <a:latin typeface="Arial Black"/>
              </a:rPr>
              <a:t>назва конкурсу</a:t>
            </a: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)»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100" spc="-1" strike="noStrike">
                <a:solidFill>
                  <a:srgbClr val="203864"/>
                </a:solidFill>
                <a:latin typeface="Arial Black"/>
              </a:rPr>
              <a:t>Телефон для довідок: (032) 261-22-27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Arial Black"/>
              </a:rPr>
              <a:t>Детальна інформація та положення – за адресою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6760" y="2214720"/>
            <a:ext cx="83581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ttp://loda.gov.ua/news?news_departments=9&amp;id=3304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3880" y="357120"/>
            <a:ext cx="788688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Запрошуємо </a:t>
            </a: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до</a:t>
            </a:r>
            <a:br>
              <a:rPr sz="4500"/>
            </a:br>
            <a:r>
              <a:rPr b="0" lang="uk-UA" sz="4500" spc="-1" strike="noStrike">
                <a:solidFill>
                  <a:srgbClr val="ff0000"/>
                </a:solidFill>
                <a:latin typeface="Arial Black"/>
              </a:rPr>
              <a:t> співпраці !!!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uk-UA" sz="18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 Black"/>
              </a:rPr>
              <a:t>Фінансовий ресурс конкурсів, тис грн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857160"/>
            <a:ext cx="8400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03864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3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50080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70920"/>
            <a:ext cx="78868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 Black"/>
              </a:rPr>
              <a:t>Статистика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1143000"/>
            <a:ext cx="788688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Учасники проектів департаменту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115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громадських організаці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12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творчих спіло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Arial Black"/>
              </a:rPr>
              <a:t>35</a:t>
            </a:r>
            <a:r>
              <a:rPr b="0" lang="uk-UA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uk-UA" sz="1600" spc="-1" strike="noStrike">
                <a:solidFill>
                  <a:srgbClr val="2f5597"/>
                </a:solidFill>
                <a:latin typeface="Arial Black"/>
              </a:rPr>
              <a:t>національно-культурних товарист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2f5597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85840" y="1143000"/>
          <a:ext cx="8286840" cy="1905120"/>
        </p:xfrm>
        <a:graphic>
          <a:graphicData uri="http://schemas.openxmlformats.org/drawingml/2006/table">
            <a:tbl>
              <a:tblPr/>
              <a:tblGrid>
                <a:gridCol w="2762280"/>
                <a:gridCol w="2762280"/>
                <a:gridCol w="27622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2017 р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2018 рі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Кількість конкурсних зая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1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0ad47"/>
                      </a:solidFill>
                    </a:lnT>
                    <a:lnB>
                      <a:noFill/>
                    </a:lnB>
                    <a:solidFill>
                      <a:srgbClr val="70ad47">
                        <a:alpha val="20000"/>
                      </a:srgbClr>
                    </a:solidFill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Кількість переможц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8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Фінансовий ресурс конкурсів, тис грн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2928960" y="571680"/>
            <a:ext cx="6215040" cy="6286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14200" y="785880"/>
          <a:ext cx="3214800" cy="6154560"/>
        </p:xfrm>
        <a:graphic>
          <a:graphicData uri="http://schemas.openxmlformats.org/drawingml/2006/table">
            <a:tbl>
              <a:tblPr/>
              <a:tblGrid>
                <a:gridCol w="321480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проектів серед національних товариств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проектів серед творчих спілок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проектів серед громадських організацій Львівщи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9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Презентація потенціалу Львівщини в країнах проживання української діаспо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7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ультурно-мистецьке таборування для населення сільської місцевост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8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uk-UA" sz="1400" spc="-1" strike="noStrike">
                          <a:solidFill>
                            <a:srgbClr val="548235"/>
                          </a:solidFill>
                          <a:latin typeface="Arial Black"/>
                        </a:rPr>
                        <a:t>Конкурс мистецьких ініціатив  в рамках проекту</a:t>
                      </a:r>
                      <a:r>
                        <a:rPr b="0" lang="uk-UA" sz="1400" spc="-1" strike="noStrike">
                          <a:solidFill>
                            <a:srgbClr val="2f5597"/>
                          </a:solidFill>
                          <a:latin typeface="Arial Black"/>
                        </a:rPr>
                        <a:t> </a:t>
                      </a:r>
                      <a:r>
                        <a:rPr b="0" lang="uk-UA" sz="14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“Український Донбас”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700" spc="-1" strike="noStrike">
                <a:solidFill>
                  <a:srgbClr val="ff0000"/>
                </a:solidFill>
                <a:latin typeface="Arial Black"/>
              </a:rPr>
              <a:t>Конкурс мистецьких ініціатив  в рамках проекту “</a:t>
            </a: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Український</a:t>
            </a:r>
            <a:r>
              <a:rPr b="0" lang="uk-UA" sz="2700" spc="-1" strike="noStrike">
                <a:solidFill>
                  <a:srgbClr val="ff0000"/>
                </a:solidFill>
                <a:latin typeface="Arial Black"/>
              </a:rPr>
              <a:t> Донбас”</a:t>
            </a:r>
            <a:endParaRPr b="0" lang="en-US" sz="27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30360" y="1681200"/>
            <a:ext cx="386856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30360" y="2214360"/>
            <a:ext cx="386856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12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129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О, що діють у галузі культури у співпраці з аналогічними установами, закладами та організаціями Луганської област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39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14560" y="2357280"/>
            <a:ext cx="4041720" cy="38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нікальна Львівщ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локальних галицьких традицій та обряд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твердження української державност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екти  національно-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прямованість на молодь і ді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7092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Arial Black"/>
              </a:rPr>
              <a:t>Культурно-мистецьке таборування для населення сільської місцевості «Веселі канікули» християнсько-мистецького спрямування</a:t>
            </a:r>
            <a:endParaRPr b="0" lang="en-US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713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42560" y="1714320"/>
            <a:ext cx="28573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Інститути громадянського суспільств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молодіжні організа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благодійні організації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громадські об’єднання, які працюють з молодд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2e75b6"/>
                </a:solidFill>
                <a:latin typeface="Arial Black"/>
              </a:rPr>
              <a:t>громадські організації релігійних гром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720" y="10713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42800" y="1928520"/>
            <a:ext cx="5715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ивчення власного містечка, села, гром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оціалізація та залучення до життя громади дітей та підлітків; кризові катег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волонтерств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півпраця  держави - церкви - громадського середовища заради сталого розвитку громад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видатного краян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дослідження локальної істо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майстер-класи місцевих традиці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000" y="7128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Презентація потенціалу Львівщини в країнах проживання української діаспори, транскордонна співпраця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2143080"/>
            <a:ext cx="300024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698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організації,  що діють у сфері культу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720" y="1142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643200" y="2142720"/>
            <a:ext cx="52149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шанування історичних подій на етнічних українських замлях – Млини, Сагринь, Павлокама, Дукля,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цілісні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автентичної культури та традиці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ідтримка закордонних українц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моція європейської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30000" y="70920"/>
            <a:ext cx="7886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мистецьких проектів серед громадських організацій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99972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203864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2920" y="1785960"/>
            <a:ext cx="33573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Громадські організації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Благодійні фонд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2e75b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Благодійні організац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7855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800" spc="-1" strike="noStrike">
                <a:solidFill>
                  <a:srgbClr val="203864"/>
                </a:solidFill>
                <a:latin typeface="Arial Black"/>
              </a:rPr>
              <a:t>Пріорите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499920" y="1643040"/>
            <a:ext cx="5643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локальні проекти для народних домів та підтримки се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оказ сучасного кіно у малих населених пункт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ідзначення релігійних свят та пам'ятних дат Української  історії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вшанування видатних постатей – рік Климентія Шептицького, Богдана-Ігора Антонича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інтерактивні виста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унікальні майстер-клас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залучення дітей до участі в заход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національно-патріотичне виховання дітей та молод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142920"/>
            <a:ext cx="78865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400" spc="-1" strike="noStrike">
                <a:solidFill>
                  <a:srgbClr val="ff0000"/>
                </a:solidFill>
                <a:latin typeface="Arial Black"/>
              </a:rPr>
              <a:t>Конкурс мистецьких проектів серед творчих спілок Львівщини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928440"/>
            <a:ext cx="304308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333f50"/>
                </a:solidFill>
                <a:latin typeface="Arial Black"/>
              </a:rPr>
              <a:t>Реціпієн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74760"/>
            <a:ext cx="27576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2000" spc="-1" strike="noStrike">
                <a:solidFill>
                  <a:srgbClr val="2e75b6"/>
                </a:solidFill>
                <a:latin typeface="Arial Black"/>
              </a:rPr>
              <a:t>Творчі спілки Львівщ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2000" spc="-1" strike="noStrike">
                <a:solidFill>
                  <a:srgbClr val="333f50"/>
                </a:solidFill>
                <a:latin typeface="Arial Black"/>
              </a:rPr>
              <a:t>Пріорите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14800" y="1571760"/>
            <a:ext cx="59292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роекти національно-патріотичного спрямуванн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образотворч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театраль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музич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хореографічного мистец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розвиток та підтримка кіномистецтв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підтримка сучасного візуального мистецтва (медіа, перформанс, інсталяці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соціальні проек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548235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800" spc="-1" strike="noStrike">
                <a:solidFill>
                  <a:srgbClr val="548235"/>
                </a:solidFill>
                <a:latin typeface="Arial Black"/>
              </a:rPr>
              <a:t>якісні мистецькі проекти – у містечка та се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0T09:27:40Z</dcterms:created>
  <dc:creator>user</dc:creator>
  <dc:description/>
  <dc:language>en-US</dc:language>
  <cp:lastModifiedBy>1 IPA</cp:lastModifiedBy>
  <dcterms:modified xsi:type="dcterms:W3CDTF">2019-01-16T13:29:42Z</dcterms:modified>
  <cp:revision>66</cp:revision>
  <dc:subject/>
  <dc:title>Конкурс проектів серед громадських</dc:title>
</cp:coreProperties>
</file>