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ED8D-EAC0-44A4-8021-22A9B4E81E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5E17-6D45-41DA-9C90-BB5E6CFE93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6B0F-A39B-4796-8C5C-A35B8C338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304-25ED-4F84-9C5E-FC0797A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59A5-2C6B-4CC0-9B69-7E6943EE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DE6-8389-428F-A34E-B0E478A7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FB01-9D8E-47F8-A01D-7EAE1FFF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0752-79C2-47F8-BBB1-BBA8D1C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48FD3-B0D9-4F97-AC83-8359F00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A023-5600-42B5-8520-30EC4F8F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C934-427F-430D-9A19-7631FC7D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70EB-4991-4672-8C91-866CC89E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B873-6323-45BF-9D3D-B7DFECB5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332-3DAC-443D-9E85-00D611B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FCB2-4D7D-4784-BAAF-06AC15C6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9DFE-BD72-4BA0-B75A-4044D45C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0084-C11F-410F-BB2B-B9C12785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7BE5-12C0-45EC-976B-5F890F2E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CF7A-C1AE-4C6F-8432-0C98EB07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8074-05A3-4535-9921-5FD3424B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2C2DB-4DB6-43B9-92D6-CE68F604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B3E6-1168-4636-B3A6-3C8899CB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AE247-8C97-488F-88CE-0A1D68E9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8EC8C-16A9-4F6E-8564-814789B1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6DB8-D175-4F26-A948-3AAC027A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78526-8864-4EC2-A64E-392CD06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BC5C-D10B-4E45-9AEF-9C7F4F6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00BFF-730F-4321-B1EE-D88D0EF4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5837A-884C-4468-B540-E7FFC461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74001-CF7B-4ED8-82A1-8A76E82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528A-C2F8-4FF1-AE33-5AFB7CBE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9764-7187-462A-B17A-49FCBB8B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B3245-2003-4D3D-AF1D-9194FD959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BE528-DEB9-4040-8761-F85B9996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A91B2-9797-45E1-B265-615E042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A24C-DE80-49B4-8455-C8C43236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09706-D1A1-48E9-9F29-B1FDA675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C3E0-467A-4E9A-994E-1222D30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617EF-D1F2-4451-96DF-116C434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CC9CA-B7D8-4B05-A311-7FC2970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D8ABA-B10B-40CD-A6ED-EE05A26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7DFA1-DABA-47C5-8E05-A2A14D00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C03F-30A1-4EA0-AE01-EBC8C94B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CBA5-3AED-4A10-8D54-E7CCF638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EEFFC-1ECB-4C60-870C-FE882660F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045-1CD9-4EF2-9E51-15061B2E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136-A6F8-49C1-8B3E-0834E29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FB95-012A-4C6D-8EF9-BFBA2C3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196-06B1-4EC0-9C05-2EEABF9B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936-B1C2-4D23-B5A8-0DD0E357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21D-77B9-4976-8DC6-B1703576D6F7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C15C-A035-46F9-8ABA-2ED7DE7F6154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5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7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4E2F-6AC1-4F8B-B459-456FBC4E7EEE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4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d77c01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2A91-9AE8-4AD1-879A-58894EBF5238}" type="slidenum">
              <a:rPr b="1" lang="uk-UA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hyperlink" Target="http://www.deplv.gov.ua/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ÐÐ¾Ð²âÑÐ·Ð°Ð½Ðµ Ð·Ð¾Ð±ÑÐ°Ð¶ÐµÐ½Ð½Ñ"/>
          <p:cNvPicPr/>
          <p:nvPr/>
        </p:nvPicPr>
        <p:blipFill>
          <a:blip r:embed="rId1"/>
          <a:stretch/>
        </p:blipFill>
        <p:spPr>
          <a:xfrm>
            <a:off x="1476360" y="2647800"/>
            <a:ext cx="5715000" cy="4210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Related image"/>
          <p:cNvPicPr/>
          <p:nvPr/>
        </p:nvPicPr>
        <p:blipFill>
          <a:blip r:embed="rId2"/>
          <a:stretch/>
        </p:blipFill>
        <p:spPr>
          <a:xfrm>
            <a:off x="468360" y="260280"/>
            <a:ext cx="1224000" cy="14065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4"/>
          <p:cNvSpPr/>
          <p:nvPr/>
        </p:nvSpPr>
        <p:spPr>
          <a:xfrm>
            <a:off x="480960" y="1719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проекті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аща громадська екологічна ініціа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6019920" y="6093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019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2124000" y="357120"/>
            <a:ext cx="670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1f16"/>
                </a:solidFill>
                <a:latin typeface="Times New Roman"/>
                <a:ea typeface="Times New Roman"/>
              </a:rPr>
              <a:t>Львівська обласна державна адміністр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f1f16"/>
                </a:solidFill>
                <a:latin typeface="Times New Roman"/>
                <a:ea typeface="Times New Roman"/>
              </a:rPr>
              <a:t>Департамент екології та природних ресурс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://prozahid.com/data/image/20151015172704.jpg"/>
          <p:cNvPicPr/>
          <p:nvPr/>
        </p:nvPicPr>
        <p:blipFill>
          <a:blip r:embed="rId1"/>
          <a:stretch/>
        </p:blipFill>
        <p:spPr>
          <a:xfrm>
            <a:off x="5003640" y="4076640"/>
            <a:ext cx="3456000" cy="27496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826920" y="231624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    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Виявлення інноваційних підходів у вирішенні екологічних проблем регі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     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Об’єднання ресурсів громадських організацій, громад, органів місцевого  самоврядування та органів влади для спільної реалізації природоохоронних заході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4360" y="115560"/>
            <a:ext cx="79200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 КОНКУРСУ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 algn="ctr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Впровадження інноваційних підходів до реалізації екологічної політики на території регіону, визначених Стратегією розвитку Львівської області до 2020 року, шляхом залучення людських та матеріальних ресурсів інститутів громадянського суспільства.</a:t>
            </a:r>
            <a:r>
              <a:rPr b="1" lang="uk-UA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2843280" y="1927080"/>
            <a:ext cx="388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ВДАННЯ</a:t>
            </a:r>
            <a:r>
              <a:rPr b="0" lang="uk-UA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КУР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4-конечная звезда 8"/>
          <p:cNvSpPr/>
          <p:nvPr/>
        </p:nvSpPr>
        <p:spPr>
          <a:xfrm>
            <a:off x="865080" y="235908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4-конечная звезда 10"/>
          <p:cNvSpPr/>
          <p:nvPr/>
        </p:nvSpPr>
        <p:spPr>
          <a:xfrm>
            <a:off x="865080" y="3284640"/>
            <a:ext cx="287280" cy="360360"/>
          </a:xfrm>
          <a:custGeom>
            <a:avLst/>
            <a:gdLst>
              <a:gd name="textAreaLeft" fmla="*/ 118440 w 287280"/>
              <a:gd name="textAreaRight" fmla="*/ 168840 w 287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c600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2"/>
          <p:cNvSpPr/>
          <p:nvPr/>
        </p:nvSpPr>
        <p:spPr>
          <a:xfrm>
            <a:off x="865080" y="4508640"/>
            <a:ext cx="427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ТО МОЖЕ ВЗЯТИ УЧ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826920" y="5084640"/>
            <a:ext cx="48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4a33"/>
                </a:solidFill>
                <a:latin typeface="Times New Roman"/>
                <a:ea typeface="Times New Roman"/>
              </a:rPr>
              <a:t>Громадські організац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e2e22"/>
                </a:solidFill>
                <a:latin typeface="Times New Roman"/>
                <a:ea typeface="Times New Roman"/>
              </a:rPr>
              <a:t>(за винятком релігійних та політичних партій</a:t>
            </a:r>
            <a:r>
              <a:rPr b="1" i="1" lang="ru-RU" sz="2000" spc="-1" strike="noStrike">
                <a:solidFill>
                  <a:srgbClr val="2e2e22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84a33"/>
                </a:solidFill>
                <a:latin typeface="Times New Roman"/>
                <a:ea typeface="Times New Roman"/>
              </a:rPr>
              <a:t>Природоохоронні та еколого-освітні устано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84a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26560" y="188640"/>
            <a:ext cx="799308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ІОРИТЕТНІ НАПРЯМКИ КОНКУРСУ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Прямоугольник 13"/>
          <p:cNvSpPr/>
          <p:nvPr/>
        </p:nvSpPr>
        <p:spPr>
          <a:xfrm>
            <a:off x="1042920" y="2133720"/>
            <a:ext cx="6697800" cy="31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5"/>
          <p:cNvSpPr/>
          <p:nvPr/>
        </p:nvSpPr>
        <p:spPr>
          <a:xfrm>
            <a:off x="324000" y="62064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повідають пріоритетам Стратегії розвитку Львівщини до 2020 ро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ічна ціль 2 Якість житт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ійна ціль 2.4 Чисте довкіл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Группа 16" descr=""/>
          <p:cNvPicPr/>
          <p:nvPr/>
        </p:nvPicPr>
        <p:blipFill>
          <a:blip r:embed="rId1"/>
          <a:stretch/>
        </p:blipFill>
        <p:spPr>
          <a:xfrm>
            <a:off x="950760" y="3114720"/>
            <a:ext cx="974880" cy="944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G:\символи\usluga-ozonirovanie-pomescheniy.png.pagespeed.ce.lfKnENGRZD.png"/>
          <p:cNvPicPr/>
          <p:nvPr/>
        </p:nvPicPr>
        <p:blipFill>
          <a:blip r:embed="rId2"/>
          <a:srcRect l="26921" t="13473" r="26921" b="11546"/>
          <a:stretch/>
        </p:blipFill>
        <p:spPr>
          <a:xfrm>
            <a:off x="1946160" y="3967200"/>
            <a:ext cx="621000" cy="669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6" descr="Ð ÐµÐ·ÑÐ»ÑÑÐ°Ñ Ð¿Ð¾ÑÑÐºÑ Ð·Ð¾Ð±ÑÐ°Ð¶ÐµÐ½Ñ Ð·Ð° Ð·Ð°Ð¿Ð¸ÑÐ¾Ð¼ &quot;ÐµÐºÐ¾Ð»Ð¾Ð³ÑÑÐ½Ð° Ð¾ÑÐ²ÑÑÐ°&quot;"/>
          <p:cNvPicPr/>
          <p:nvPr/>
        </p:nvPicPr>
        <p:blipFill>
          <a:blip r:embed="rId3"/>
          <a:stretch/>
        </p:blipFill>
        <p:spPr>
          <a:xfrm>
            <a:off x="1139760" y="1662120"/>
            <a:ext cx="768240" cy="7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ÐÐ¾Ð²âÑÐ·Ð°Ð½Ðµ Ð·Ð¾Ð±ÑÐ°Ð¶ÐµÐ½Ð½Ñ"/>
          <p:cNvPicPr/>
          <p:nvPr/>
        </p:nvPicPr>
        <p:blipFill>
          <a:blip r:embed="rId4"/>
          <a:stretch/>
        </p:blipFill>
        <p:spPr>
          <a:xfrm>
            <a:off x="1042920" y="4719600"/>
            <a:ext cx="735120" cy="735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2" descr="Ð ÐµÐ·ÑÐ»ÑÑÐ°Ñ Ð¿Ð¾ÑÑÐºÑ Ð·Ð¾Ð±ÑÐ°Ð¶ÐµÐ½Ñ Ð·Ð° Ð·Ð°Ð¿Ð¸ÑÐ¾Ð¼ &quot;Ð·Ð±ÐµÑÐµÐ¶ÐµÐ½Ð½Ñ Ð±ÑÐ¾ÑÑÐ·Ð½Ð¾Ð¼Ð°Ð½ÑÑÑÑ&quot;"/>
          <p:cNvPicPr/>
          <p:nvPr/>
        </p:nvPicPr>
        <p:blipFill>
          <a:blip r:embed="rId5"/>
          <a:stretch/>
        </p:blipFill>
        <p:spPr>
          <a:xfrm>
            <a:off x="1897200" y="2381400"/>
            <a:ext cx="718920" cy="709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2"/>
          <p:cNvSpPr/>
          <p:nvPr/>
        </p:nvSpPr>
        <p:spPr>
          <a:xfrm>
            <a:off x="2013120" y="18367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ховання екологічної свідомості населенн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7"/>
          <p:cNvSpPr/>
          <p:nvPr/>
        </p:nvSpPr>
        <p:spPr>
          <a:xfrm>
            <a:off x="2771640" y="2424240"/>
            <a:ext cx="57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виток територій та об’єктів мережі природно-заповідного фон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8"/>
          <p:cNvSpPr/>
          <p:nvPr/>
        </p:nvSpPr>
        <p:spPr>
          <a:xfrm>
            <a:off x="2013120" y="3382920"/>
            <a:ext cx="57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іпшення стану водних об’є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9"/>
          <p:cNvSpPr/>
          <p:nvPr/>
        </p:nvSpPr>
        <p:spPr>
          <a:xfrm>
            <a:off x="2771640" y="4118040"/>
            <a:ext cx="57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забруднення повітряного басе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40"/>
          <p:cNvSpPr/>
          <p:nvPr/>
        </p:nvSpPr>
        <p:spPr>
          <a:xfrm>
            <a:off x="1978200" y="471960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вадження європейських стандартів у поводженні з відход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6"/>
          <p:cNvSpPr/>
          <p:nvPr/>
        </p:nvSpPr>
        <p:spPr>
          <a:xfrm>
            <a:off x="307800" y="5638680"/>
            <a:ext cx="86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ходи екопроектів відповідають Постанові Кабінету Міністрів Украї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 17.09.1996 № 1147 «Про затвердження переліку видів діяльності, щ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лежить до природоохоронних заході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9" descr="Ð ÐµÐ·ÑÐ»ÑÑÐ°Ñ Ð¿Ð¾ÑÑÐºÑ Ð·Ð¾Ð±ÑÐ°Ð¶ÐµÐ½Ñ Ð·Ð° Ð·Ð°Ð¿Ð¸ÑÐ¾Ð¼ &quot;Ð·Ð½Ð°Ðº Ð¾ÐºÐ»Ð¸ÐºÑ&quot;"/>
          <p:cNvPicPr/>
          <p:nvPr/>
        </p:nvPicPr>
        <p:blipFill>
          <a:blip r:embed="rId6"/>
          <a:stretch/>
        </p:blipFill>
        <p:spPr>
          <a:xfrm>
            <a:off x="295200" y="5732640"/>
            <a:ext cx="3128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3203640" y="584280"/>
            <a:ext cx="583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 КОНКУРСУ 1000,0 тис. грив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ÐÐ¾Ð²âÑÐ·Ð°Ð½Ðµ Ð·Ð¾Ð±ÑÐ°Ð¶ÐµÐ½Ð½Ñ"/>
          <p:cNvPicPr/>
          <p:nvPr/>
        </p:nvPicPr>
        <p:blipFill>
          <a:blip r:embed="rId1"/>
          <a:stretch/>
        </p:blipFill>
        <p:spPr>
          <a:xfrm rot="19744800">
            <a:off x="5734080" y="3153960"/>
            <a:ext cx="2784600" cy="2786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ÐÐ¾Ð²âÑÐ·Ð°Ð½Ðµ Ð·Ð¾Ð±ÑÐ°Ð¶ÐµÐ½Ð½Ñ"/>
          <p:cNvPicPr/>
          <p:nvPr/>
        </p:nvPicPr>
        <p:blipFill>
          <a:blip r:embed="rId2"/>
          <a:srcRect l="20368" t="-1812" r="20368" b="0"/>
          <a:stretch/>
        </p:blipFill>
        <p:spPr>
          <a:xfrm rot="19792200">
            <a:off x="520200" y="499680"/>
            <a:ext cx="2786040" cy="283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4"/>
          <p:cNvSpPr/>
          <p:nvPr/>
        </p:nvSpPr>
        <p:spPr>
          <a:xfrm>
            <a:off x="3780000" y="1341360"/>
            <a:ext cx="525600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Максимальний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розмір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фінансової підтримки 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з о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бласного природоохоронного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 фонду на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реалізацію екопроекту 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станов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0,0 тис.  гривен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565200" y="3851280"/>
            <a:ext cx="4564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Обов’язкова умова отримання гранту обласного фонду ОНПС –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ласний внесок Апліканта, не менший ніж 15% від запитуваної суми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, в тому числі кошти з інших джерел, не заборонених законодавством України та /або нефінансовий еквівалент: робота, матеріали, тощ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3"/>
          <a:srcRect l="6008" t="3779" r="-5911" b="-3704"/>
          <a:stretch/>
        </p:blipFill>
        <p:spPr>
          <a:xfrm rot="19477800">
            <a:off x="2014560" y="2309400"/>
            <a:ext cx="177840" cy="228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4"/>
          <a:stretch/>
        </p:blipFill>
        <p:spPr>
          <a:xfrm rot="20359800">
            <a:off x="1655280" y="2362320"/>
            <a:ext cx="513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2478240" y="189000"/>
            <a:ext cx="4174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К ВЗЯТИ УЧА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5508720" y="1262160"/>
            <a:ext cx="3024000" cy="31766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2"/>
          <a:stretch/>
        </p:blipFill>
        <p:spPr>
          <a:xfrm>
            <a:off x="1384200" y="1020600"/>
            <a:ext cx="1873440" cy="20955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262080" y="62064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1.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Підготувати проектну пропозиці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311040" y="3216240"/>
            <a:ext cx="375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3.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Долучити дода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57640" y="620640"/>
            <a:ext cx="39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2.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Заповнити аплікаційну фор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3"/>
          <a:stretch/>
        </p:blipFill>
        <p:spPr>
          <a:xfrm>
            <a:off x="453960" y="4835520"/>
            <a:ext cx="3987720" cy="1811520"/>
          </a:xfrm>
          <a:prstGeom prst="rect">
            <a:avLst/>
          </a:prstGeom>
          <a:ln w="0">
            <a:noFill/>
          </a:ln>
        </p:spPr>
      </p:pic>
      <p:sp>
        <p:nvSpPr>
          <p:cNvPr id="265" name="Стрелка вниз 4"/>
          <p:cNvSpPr/>
          <p:nvPr/>
        </p:nvSpPr>
        <p:spPr>
          <a:xfrm rot="3552600">
            <a:off x="2743920" y="5728680"/>
            <a:ext cx="426960" cy="93996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f93a35"/>
          </a:solidFill>
          <a:ln w="2556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407880" y="3790800"/>
            <a:ext cx="4100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Оголошення, дедлайн, документи для завантаження та додаткова інформація доступні за посиланням: </a:t>
            </a:r>
            <a:r>
              <a:rPr b="0" i="1" lang="pl-PL" sz="1600" spc="-1" strike="noStrike" u="sng">
                <a:solidFill>
                  <a:srgbClr val="e68200"/>
                </a:solidFill>
                <a:uFillTx/>
                <a:latin typeface="Trebuchet MS"/>
                <a:ea typeface="Times New Roman"/>
                <a:hlinkClick r:id="rId4"/>
              </a:rPr>
              <a:t>www.deplv.gov.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5057640" y="4653000"/>
            <a:ext cx="39243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4. Подати підготовлений пакет документів </a:t>
            </a:r>
            <a:r>
              <a:rPr b="1" lang="ru-RU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 у департамент </a:t>
            </a:r>
            <a:r>
              <a:rPr b="1" lang="uk-UA" sz="2000" spc="-1" strike="noStrike">
                <a:solidFill>
                  <a:srgbClr val="4a6300"/>
                </a:solidFill>
                <a:latin typeface="Times New Roman"/>
                <a:ea typeface="Times New Roman"/>
              </a:rPr>
              <a:t>екології та природних ресурсів Львівської обласної державної адміністрації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93a35"/>
                </a:solidFill>
                <a:latin typeface="Times New Roman"/>
                <a:ea typeface="Times New Roman"/>
              </a:rPr>
              <a:t>79026 м. Львів, вул. Стрийська,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5508720" y="4149720"/>
            <a:ext cx="345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Контак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м.Львів, вул. Стрийська, 98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тел.(032) 238-73-83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e-mail: envir@loda.go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https://deplv.gov.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C:\Users\user\Desktop\md_5aa7b9f63e400.png"/>
          <p:cNvPicPr/>
          <p:nvPr/>
        </p:nvPicPr>
        <p:blipFill>
          <a:blip r:embed="rId1"/>
          <a:stretch/>
        </p:blipFill>
        <p:spPr>
          <a:xfrm>
            <a:off x="5656320" y="5680080"/>
            <a:ext cx="228600" cy="227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C:\Users\user\Desktop\2362135-instagram-photo-round-social_85523.png"/>
          <p:cNvPicPr/>
          <p:nvPr/>
        </p:nvPicPr>
        <p:blipFill>
          <a:blip r:embed="rId2"/>
          <a:stretch/>
        </p:blipFill>
        <p:spPr>
          <a:xfrm>
            <a:off x="5668920" y="60530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6058080" y="5553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@ekologial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6160680" y="593424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342d"/>
                </a:solidFill>
                <a:latin typeface="Times New Roman"/>
                <a:ea typeface="Times New Roman"/>
              </a:rPr>
              <a:t>ekologial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3"/>
          <p:cNvSpPr/>
          <p:nvPr/>
        </p:nvSpPr>
        <p:spPr>
          <a:xfrm>
            <a:off x="2425680" y="1700280"/>
            <a:ext cx="417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якую за увагу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7:11:59Z</dcterms:created>
  <dc:creator>Alex</dc:creator>
  <dc:description/>
  <dc:language>en-US</dc:language>
  <cp:lastModifiedBy>1</cp:lastModifiedBy>
  <cp:lastPrinted>2019-01-10T17:23:17Z</cp:lastPrinted>
  <dcterms:modified xsi:type="dcterms:W3CDTF">2019-01-14T13:34:51Z</dcterms:modified>
  <cp:revision>578</cp:revision>
  <dc:subject/>
  <dc:title>Львівська обласна державна адміністрація Департамент екології та природних ресурсів</dc:title>
</cp:coreProperties>
</file>