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427A-65A1-4EF2-9298-BF5AC90E4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18A2-62E8-4678-9FD8-C8DAC0646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572-DA60-4C1D-9BA2-78638694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770-8089-42D3-8604-5C089D2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894-DAB5-41B4-AD30-03161F88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0F9-8033-41AB-AB0F-F1BF986A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63C4-0CE4-4734-A587-F394E142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BAA-9FC3-4532-8A1A-B842E67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00BD-FA37-4B12-B0A1-953E164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B8CA-3BDF-4F57-9206-1838D431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7CD-C8BA-4A0C-ACA0-FB6C8641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8F0-BDBE-4BAA-99A4-DBB86B4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AD5C-C4A7-4E94-9A77-CA87F28E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4EE-7B49-46B4-AA3F-6F28B763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486-7AD5-4CA2-87BC-55629F9E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3D61-C1EF-4DCC-BB30-5ACE43F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7724-AFD4-4576-A7A7-136701F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7972-BD07-4CC0-A79F-2D6B5F55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586-FD4A-4855-9C8A-81AB05DF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14BB-51B9-48D8-80AA-952ADC83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3420-1B32-42DD-B316-A3667E61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447A-8481-4F5E-88CF-5A7CB627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81CF-F4CF-461F-8D9B-AEB2D97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D756-0A2A-4FF4-A862-C13F551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212-7607-4852-9E6E-7CF975E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1CED-377F-4FA6-8872-F64C47B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BD74-8F03-4BF0-AAD6-2ED6C37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D75A-2BC9-4F70-BF79-7EE63F5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51BF-D2CF-407F-A4D8-D6FED97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4CA0-6D07-4C39-9D23-5DF35CB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121B-2857-4709-8634-D29CC955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D070-81CE-4C41-8BD0-F535E7FD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C3C1-AE5E-488E-96A7-C38F497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EB96-80DA-4130-A9C6-C1B75A9F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9894-F22C-4FC7-848A-011B739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A6D-9250-4409-91B0-D5B8A6A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0471-31CF-44D1-A425-C8423EC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014D-B849-44EC-9E35-5AF20126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8A4B-17ED-4A00-8270-5A4765A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EA77-0434-4288-BF8A-7C964DE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18EB-DF1F-4C82-B7B2-3CB1FDF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B739-BDCC-4ECE-A8A6-E70FE92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9F18-0DA7-40A7-A972-1158D91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823A-69D7-4985-896E-373409EE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9AC9-0F3E-4FF2-9280-3BF687A5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DDE-0042-4054-8360-3736DE29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E21-6ABF-4BF5-AF7B-A9FC0CF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687-0ABD-4710-B9C7-494B54D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BBA-71A3-43A9-956C-D51FF579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CF3-4A49-4786-A47C-2CCC7498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CCA-7A9C-47B0-86EB-198E0A6ADF26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105A-E518-4EB1-B91D-651EBAFDC2CB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308-CE16-4FDF-B866-00A17CF5F28B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452C-C847-46BD-A551-07F507744AC1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deplv.gov.ua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>
            <a:off x="1476360" y="2647800"/>
            <a:ext cx="5715000" cy="421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Related image"/>
          <p:cNvPicPr/>
          <p:nvPr/>
        </p:nvPicPr>
        <p:blipFill>
          <a:blip r:embed="rId2"/>
          <a:stretch/>
        </p:blipFill>
        <p:spPr>
          <a:xfrm>
            <a:off x="468360" y="260280"/>
            <a:ext cx="1224000" cy="140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480960" y="171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роек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ща громадська екологічна ініціа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019920" y="6093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9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124000" y="357120"/>
            <a:ext cx="67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1f16"/>
                </a:solidFill>
                <a:latin typeface="Times New Roman"/>
                <a:ea typeface="Times New Roman"/>
              </a:rPr>
              <a:t>Львівська обласна державна адміністр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1f16"/>
                </a:solidFill>
                <a:latin typeface="Times New Roman"/>
                <a:ea typeface="Times New Roman"/>
              </a:rPr>
              <a:t>Департамент екології та природних ресур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prozahid.com/data/image/20151015172704.jpg"/>
          <p:cNvPicPr/>
          <p:nvPr/>
        </p:nvPicPr>
        <p:blipFill>
          <a:blip r:embed="rId1"/>
          <a:stretch/>
        </p:blipFill>
        <p:spPr>
          <a:xfrm>
            <a:off x="5003640" y="4076640"/>
            <a:ext cx="3456000" cy="27496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826920" y="23162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    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Виявлення інноваційних підходів у вирішенні екологічних проблем регі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     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б’єднання ресурсів громадських організацій, громад, органів місцевого  самоврядування та органів влади для спільної реалізації природоохоронних зах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115560"/>
            <a:ext cx="79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 КОНКУРСУ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Впровадження інноваційних підходів до реалізації екологічної політики на території регіону, визначених Стратегією розвитку Львівської області до 2020 року, шляхом залучення людських та матеріальних ресурсів інститутів громадянського суспільства.</a:t>
            </a:r>
            <a:r>
              <a:rPr b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843280" y="192708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КУР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-конечная звезда 8"/>
          <p:cNvSpPr/>
          <p:nvPr/>
        </p:nvSpPr>
        <p:spPr>
          <a:xfrm>
            <a:off x="865080" y="2359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-конечная звезда 10"/>
          <p:cNvSpPr/>
          <p:nvPr/>
        </p:nvSpPr>
        <p:spPr>
          <a:xfrm>
            <a:off x="865080" y="3284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865080" y="4508640"/>
            <a:ext cx="427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ТО МОЖЕ ВЗЯТИ У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826920" y="5084640"/>
            <a:ext cx="48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4a33"/>
                </a:solidFill>
                <a:latin typeface="Times New Roman"/>
                <a:ea typeface="Times New Roman"/>
              </a:rPr>
              <a:t>Громадські організац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e2e22"/>
                </a:solidFill>
                <a:latin typeface="Times New Roman"/>
                <a:ea typeface="Times New Roman"/>
              </a:rPr>
              <a:t>(за винятком релігійних та політичних партій</a:t>
            </a:r>
            <a:r>
              <a:rPr b="1" i="1" lang="ru-RU" sz="2000" spc="-1" strike="noStrike">
                <a:solidFill>
                  <a:srgbClr val="2e2e22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4a33"/>
                </a:solidFill>
                <a:latin typeface="Times New Roman"/>
                <a:ea typeface="Times New Roman"/>
              </a:rPr>
              <a:t>Природоохоронні та еколого-освітні устан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4a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560" y="188640"/>
            <a:ext cx="7993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ІОРИТЕТНІ НАПРЯМКИ КОНКУРС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042920" y="2133720"/>
            <a:ext cx="66978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324000" y="620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повідають пріоритетам Стратегії розвитку Львівщини до 2020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а ціль 2 Якість жит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ійна ціль 2.4 Чисте довкіл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Группа 16" descr=""/>
          <p:cNvPicPr/>
          <p:nvPr/>
        </p:nvPicPr>
        <p:blipFill>
          <a:blip r:embed="rId1"/>
          <a:stretch/>
        </p:blipFill>
        <p:spPr>
          <a:xfrm>
            <a:off x="950760" y="3114720"/>
            <a:ext cx="9748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G:\символи\usluga-ozonirovanie-pomescheniy.png.pagespeed.ce.lfKnENGRZD.png"/>
          <p:cNvPicPr/>
          <p:nvPr/>
        </p:nvPicPr>
        <p:blipFill>
          <a:blip r:embed="rId2"/>
          <a:srcRect l="26921" t="13473" r="26921" b="11546"/>
          <a:stretch/>
        </p:blipFill>
        <p:spPr>
          <a:xfrm>
            <a:off x="1946160" y="3967200"/>
            <a:ext cx="621000" cy="669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Ð ÐµÐ·ÑÐ»ÑÑÐ°Ñ Ð¿Ð¾ÑÑÐºÑ Ð·Ð¾Ð±ÑÐ°Ð¶ÐµÐ½Ñ Ð·Ð° Ð·Ð°Ð¿Ð¸ÑÐ¾Ð¼ &quot;ÐµÐºÐ¾Ð»Ð¾Ð³ÑÑÐ½Ð° Ð¾ÑÐ²ÑÑÐ°&quot;"/>
          <p:cNvPicPr/>
          <p:nvPr/>
        </p:nvPicPr>
        <p:blipFill>
          <a:blip r:embed="rId3"/>
          <a:stretch/>
        </p:blipFill>
        <p:spPr>
          <a:xfrm>
            <a:off x="1139760" y="1662120"/>
            <a:ext cx="768240" cy="7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ÐÐ¾Ð²âÑÐ·Ð°Ð½Ðµ Ð·Ð¾Ð±ÑÐ°Ð¶ÐµÐ½Ð½Ñ"/>
          <p:cNvPicPr/>
          <p:nvPr/>
        </p:nvPicPr>
        <p:blipFill>
          <a:blip r:embed="rId4"/>
          <a:stretch/>
        </p:blipFill>
        <p:spPr>
          <a:xfrm>
            <a:off x="1042920" y="471960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Ð ÐµÐ·ÑÐ»ÑÑÐ°Ñ Ð¿Ð¾ÑÑÐºÑ Ð·Ð¾Ð±ÑÐ°Ð¶ÐµÐ½Ñ Ð·Ð° Ð·Ð°Ð¿Ð¸ÑÐ¾Ð¼ &quot;Ð·Ð±ÐµÑÐµÐ¶ÐµÐ½Ð½Ñ Ð±ÑÐ¾ÑÑÐ·Ð½Ð¾Ð¼Ð°Ð½ÑÑÑÑ&quot;"/>
          <p:cNvPicPr/>
          <p:nvPr/>
        </p:nvPicPr>
        <p:blipFill>
          <a:blip r:embed="rId5"/>
          <a:stretch/>
        </p:blipFill>
        <p:spPr>
          <a:xfrm>
            <a:off x="1897200" y="2381400"/>
            <a:ext cx="718920" cy="709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2"/>
          <p:cNvSpPr/>
          <p:nvPr/>
        </p:nvSpPr>
        <p:spPr>
          <a:xfrm>
            <a:off x="2013120" y="18367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ання екологічної свідомості насел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2771640" y="2424240"/>
            <a:ext cx="57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ок територій та об’єктів мережі природно-заповідного фо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8"/>
          <p:cNvSpPr/>
          <p:nvPr/>
        </p:nvSpPr>
        <p:spPr>
          <a:xfrm>
            <a:off x="2013120" y="3382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пшення стану водних об’є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2771640" y="4118040"/>
            <a:ext cx="57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забруднення повітряного басе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0"/>
          <p:cNvSpPr/>
          <p:nvPr/>
        </p:nvSpPr>
        <p:spPr>
          <a:xfrm>
            <a:off x="1978200" y="47196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вадження європейських стандартів у поводженні з від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6"/>
          <p:cNvSpPr/>
          <p:nvPr/>
        </p:nvSpPr>
        <p:spPr>
          <a:xfrm>
            <a:off x="307800" y="5638680"/>
            <a:ext cx="86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ходи екопроектів відповідають Постанові Кабінету Міністрів Украї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 17.09.1996 № 1147 «Про затвердження переліку видів діяльності, щ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ежить до природоохоронних зах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Ð ÐµÐ·ÑÐ»ÑÑÐ°Ñ Ð¿Ð¾ÑÑÐºÑ Ð·Ð¾Ð±ÑÐ°Ð¶ÐµÐ½Ñ Ð·Ð° Ð·Ð°Ð¿Ð¸ÑÐ¾Ð¼ &quot;Ð·Ð½Ð°Ðº Ð¾ÐºÐ»Ð¸ÐºÑ&quot;"/>
          <p:cNvPicPr/>
          <p:nvPr/>
        </p:nvPicPr>
        <p:blipFill>
          <a:blip r:embed="rId6"/>
          <a:stretch/>
        </p:blipFill>
        <p:spPr>
          <a:xfrm>
            <a:off x="295200" y="5732640"/>
            <a:ext cx="3128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3203640" y="584280"/>
            <a:ext cx="58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 КОНКУРСУ 1000,0 тис. гри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 rot="19744800">
            <a:off x="5734080" y="3153960"/>
            <a:ext cx="278460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ÐÐ¾Ð²âÑÐ·Ð°Ð½Ðµ Ð·Ð¾Ð±ÑÐ°Ð¶ÐµÐ½Ð½Ñ"/>
          <p:cNvPicPr/>
          <p:nvPr/>
        </p:nvPicPr>
        <p:blipFill>
          <a:blip r:embed="rId2"/>
          <a:srcRect l="20368" t="-1812" r="20368" b="0"/>
          <a:stretch/>
        </p:blipFill>
        <p:spPr>
          <a:xfrm rot="19792200">
            <a:off x="520200" y="499680"/>
            <a:ext cx="2786040" cy="283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3780000" y="1341360"/>
            <a:ext cx="525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Максимальний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розмір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фінансової підтримки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з о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бласного природоохоронного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фонду на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реалізацію екопроекту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стано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 тис.  грив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565200" y="3851280"/>
            <a:ext cx="456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бов’язкова умова отримання гранту обласного фонду ОНПС –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сний внесок Апліканта, не менший ніж 15% від запитуваної суми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, в тому числі кошти з інших джерел, не заборонених законодавством України та /або нефінансовий еквівалент: робота, матеріали,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3"/>
          <a:srcRect l="6008" t="3779" r="-5911" b="-3704"/>
          <a:stretch/>
        </p:blipFill>
        <p:spPr>
          <a:xfrm rot="19477800">
            <a:off x="2014560" y="2309400"/>
            <a:ext cx="17784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4"/>
          <a:stretch/>
        </p:blipFill>
        <p:spPr>
          <a:xfrm rot="20359800">
            <a:off x="1655280" y="2362320"/>
            <a:ext cx="513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2478240" y="189000"/>
            <a:ext cx="41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 ВЗЯТИ У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5508720" y="1262160"/>
            <a:ext cx="3024000" cy="3176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1384200" y="1020600"/>
            <a:ext cx="1873440" cy="20955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262080" y="62064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1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Підготувати проектну пропозиц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311040" y="3216240"/>
            <a:ext cx="37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3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Долучити дод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57640" y="6206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2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Заповнити аплікаційну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453960" y="4835520"/>
            <a:ext cx="3987720" cy="181152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низ 4"/>
          <p:cNvSpPr/>
          <p:nvPr/>
        </p:nvSpPr>
        <p:spPr>
          <a:xfrm rot="3552600">
            <a:off x="2743920" y="5728680"/>
            <a:ext cx="426960" cy="9399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93a35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07880" y="3790800"/>
            <a:ext cx="4100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голошення, дедлайн, документи для завантаження та додаткова інформація доступні за посиланням: </a:t>
            </a:r>
            <a:r>
              <a:rPr b="0" i="1" lang="pl-PL" sz="1600" spc="-1" strike="noStrike" u="sng">
                <a:solidFill>
                  <a:srgbClr val="e68200"/>
                </a:solidFill>
                <a:uFillTx/>
                <a:latin typeface="Trebuchet MS"/>
                <a:ea typeface="Times New Roman"/>
                <a:hlinkClick r:id="rId4"/>
              </a:rPr>
              <a:t>www.deplv.go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057640" y="4653000"/>
            <a:ext cx="39243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4. Подати підготовлений пакет документів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 у департамент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екології та природних ресурсів Львівської обласної державної адміністрац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3a35"/>
                </a:solidFill>
                <a:latin typeface="Times New Roman"/>
                <a:ea typeface="Times New Roman"/>
              </a:rPr>
              <a:t>79026 м. Львів, вул. Стрийська,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5508720" y="414972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Контак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м.Львів, вул. Стрийська, 98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тел.(032) 238-73-8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e-mail: envir@loda.go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https://deplv.go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Users\user\Desktop\md_5aa7b9f63e400.png"/>
          <p:cNvPicPr/>
          <p:nvPr/>
        </p:nvPicPr>
        <p:blipFill>
          <a:blip r:embed="rId1"/>
          <a:stretch/>
        </p:blipFill>
        <p:spPr>
          <a:xfrm>
            <a:off x="5656320" y="5680080"/>
            <a:ext cx="228600" cy="227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Users\user\Desktop\2362135-instagram-photo-round-social_85523.png"/>
          <p:cNvPicPr/>
          <p:nvPr/>
        </p:nvPicPr>
        <p:blipFill>
          <a:blip r:embed="rId2"/>
          <a:stretch/>
        </p:blipFill>
        <p:spPr>
          <a:xfrm>
            <a:off x="5668920" y="60530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6058080" y="5553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@ekologial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6160680" y="59342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ekologial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425680" y="1700280"/>
            <a:ext cx="41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7:11:59Z</dcterms:created>
  <dc:creator>Alex</dc:creator>
  <dc:description/>
  <dc:language>en-US</dc:language>
  <cp:lastModifiedBy>1</cp:lastModifiedBy>
  <cp:lastPrinted>2019-01-10T17:23:17Z</cp:lastPrinted>
  <dcterms:modified xsi:type="dcterms:W3CDTF">2019-01-14T13:34:51Z</dcterms:modified>
  <cp:revision>578</cp:revision>
  <dc:subject/>
  <dc:title>Львівська обласна державна адміністрація Департамент екології та природних ресурсів</dc:title>
</cp:coreProperties>
</file>