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B58-0373-4FBC-B72E-FF00E778C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98B-C45D-40D3-B508-FD3BBA684D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5E3-5467-40BE-AC45-8D4EF5A041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AA3E-7052-443A-9F07-23BCDBD18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F76-BCBF-4C2F-A8BF-9F174F294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E68-EFD7-4345-84FD-DD9AA2A51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5C42-EE53-4F46-B12C-709AE822B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E1A-393D-424E-8D8F-009732B7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182-CA92-4F75-8A9A-6C6CFB9A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39D-2088-4E8F-BFED-E15587FF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8DA-63B9-4765-86FD-951A8C61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0B68-CFFE-4180-B0E5-DF0CDB1C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679-06B1-440D-BDE1-A9AFEA7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9E3-9D90-421E-BF42-071FE7A0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602-243E-4843-BD10-D65E73A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9D4A-53D9-48E6-88DE-FB7F5DA2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6F9B-7F53-4193-8B44-868A3A5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F14-45DD-460C-AB21-222C905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9CB-2565-42B9-A3D8-9F934C5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F9E8-373C-4731-8675-7F9047E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384-3418-4BB7-8477-E704BB0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DDF-9A29-4149-9E47-D3E6ED9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8E83-5187-4852-8BF2-5223A124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0CF-E579-42AE-88D3-8FA084C7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EC1A-4C9B-489C-9580-CC231D40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BF42-C9B2-4771-A164-B655C1A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B24E-7F4D-4EAA-8560-604D6D97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159B-20B9-4FF8-9A17-AA8A977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51E8-9BA9-4B2D-814D-BB1875F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D3A-92C1-49FF-9F8C-FA9CB39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BCBA-904C-4DBC-8CE1-7A0154D1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67A9-2D61-4AF6-A70D-F24A7C1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8741-D4AE-417A-88F0-F8BBA02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7577-FAAE-4564-9A23-6B146D0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50C2-BD97-4148-9332-E5603EB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7161-4A96-40E9-AFBD-D11D657D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359E-66A3-45A0-81CB-0AEC8645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CFF6-801F-4E16-A08C-387C9B28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63D4-0838-4601-A945-93401B5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33C1-70EE-4B76-8BFA-5B1F01D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903-490E-45D2-A21F-E8432E6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F37A-9831-4104-8867-9CA85F04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E585-CE63-47CA-8A37-446A0AA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5E8C-5718-4815-A3D7-3D4AFDC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779D-5B0A-41F0-A8B7-E724A87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BCB2-8224-4762-9384-0CEB8B57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5181-47BF-43EA-B325-AD470D3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AF6C-6614-465B-BCF1-84CE1B82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9D9F-2D4B-4C01-B0F5-5B579580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ED0F-9F28-442E-9361-9E8EBD87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00D-1D10-4F80-A0F3-6130B641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4C5-F06B-47F0-B144-9A51BD1C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89D-4F3B-4681-9DD0-AC17A21F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054-DC98-49F8-991E-2350336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497-5488-44DC-A1F9-B111852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7092-D0E0-43D8-BD61-6BA0BC9D19B2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85E-421E-43EF-9554-248A60E6A622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A2C-BA85-4C42-8ACD-0B0AF441AB92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830-7480-4470-B134-F70D3F4AE2E3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840" y="1897200"/>
            <a:ext cx="9622080" cy="38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900" spc="-1" strike="noStrike">
                <a:solidFill>
                  <a:srgbClr val="000000"/>
                </a:solidFill>
                <a:latin typeface="Trebuchet MS"/>
              </a:rPr>
              <a:t>ПІЛОТНИЙ ПРОЕКТ</a:t>
            </a:r>
            <a:br>
              <a:rPr sz="4900"/>
            </a:br>
            <a:r>
              <a:rPr b="0" lang="uk-UA" sz="4900" spc="-1" strike="noStrike">
                <a:solidFill>
                  <a:srgbClr val="000000"/>
                </a:solidFill>
                <a:latin typeface="Trebuchet MS"/>
              </a:rPr>
              <a:t>із залучення до роботи членів малозабезпечених сімей та внутрішньо переміщених осіб</a:t>
            </a:r>
            <a:br>
              <a:rPr sz="4900"/>
            </a:br>
            <a:r>
              <a:rPr b="0" lang="uk-UA" sz="4900" spc="-1" strike="noStrike">
                <a:solidFill>
                  <a:srgbClr val="000000"/>
                </a:solidFill>
                <a:latin typeface="Trebuchet MS"/>
              </a:rPr>
              <a:t>«Рука допомоги»</a:t>
            </a:r>
            <a:endParaRPr b="0" lang="en-US" sz="49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20" name="Рисунок 4" descr=""/>
          <p:cNvPicPr/>
          <p:nvPr/>
        </p:nvPicPr>
        <p:blipFill>
          <a:blip r:embed="rId1"/>
          <a:stretch/>
        </p:blipFill>
        <p:spPr>
          <a:xfrm>
            <a:off x="9702720" y="5678640"/>
            <a:ext cx="208116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2"/>
          <a:stretch/>
        </p:blipFill>
        <p:spPr>
          <a:xfrm>
            <a:off x="7399440" y="154080"/>
            <a:ext cx="146664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"/>
          <p:cNvPicPr/>
          <p:nvPr/>
        </p:nvPicPr>
        <p:blipFill>
          <a:blip r:embed="rId3"/>
          <a:stretch/>
        </p:blipFill>
        <p:spPr>
          <a:xfrm>
            <a:off x="704880" y="0"/>
            <a:ext cx="3132000" cy="19288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9" descr=""/>
          <p:cNvPicPr/>
          <p:nvPr/>
        </p:nvPicPr>
        <p:blipFill>
          <a:blip r:embed="rId4"/>
          <a:stretch/>
        </p:blipFill>
        <p:spPr>
          <a:xfrm>
            <a:off x="4241880" y="328680"/>
            <a:ext cx="2357280" cy="1068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5"/>
          <a:stretch/>
        </p:blipFill>
        <p:spPr>
          <a:xfrm>
            <a:off x="10161720" y="250920"/>
            <a:ext cx="1520640" cy="14256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"/>
          <p:cNvPicPr/>
          <p:nvPr/>
        </p:nvPicPr>
        <p:blipFill>
          <a:blip r:embed="rId6"/>
          <a:stretch/>
        </p:blipFill>
        <p:spPr>
          <a:xfrm>
            <a:off x="325440" y="4905360"/>
            <a:ext cx="19447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08080" y="31320"/>
            <a:ext cx="971712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Успішні історії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35" name="Рисунок 2" descr=""/>
          <p:cNvPicPr/>
          <p:nvPr/>
        </p:nvPicPr>
        <p:blipFill>
          <a:blip r:embed="rId1"/>
          <a:stretch/>
        </p:blipFill>
        <p:spPr>
          <a:xfrm>
            <a:off x="9815400" y="417600"/>
            <a:ext cx="2079720" cy="10857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8" descr=""/>
          <p:cNvPicPr/>
          <p:nvPr/>
        </p:nvPicPr>
        <p:blipFill>
          <a:blip r:embed="rId2"/>
          <a:stretch/>
        </p:blipFill>
        <p:spPr>
          <a:xfrm>
            <a:off x="112680" y="1457280"/>
            <a:ext cx="3324240" cy="238608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"/>
          <p:cNvPicPr/>
          <p:nvPr/>
        </p:nvPicPr>
        <p:blipFill>
          <a:blip r:embed="rId3"/>
          <a:stretch/>
        </p:blipFill>
        <p:spPr>
          <a:xfrm>
            <a:off x="5972040" y="4395960"/>
            <a:ext cx="3700440" cy="24620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2" descr=""/>
          <p:cNvPicPr/>
          <p:nvPr/>
        </p:nvPicPr>
        <p:blipFill>
          <a:blip r:embed="rId4"/>
          <a:stretch/>
        </p:blipFill>
        <p:spPr>
          <a:xfrm>
            <a:off x="9215280" y="3362400"/>
            <a:ext cx="2721240" cy="22510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4"/>
          <p:cNvSpPr/>
          <p:nvPr/>
        </p:nvSpPr>
        <p:spPr>
          <a:xfrm>
            <a:off x="3581280" y="1433520"/>
            <a:ext cx="6091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rebuchet MS"/>
              </a:rPr>
              <a:t>Ільків Катерина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с. Тухля, Скоівський р-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рганізувала козячу міні-ферму, займається виготовленням твердих сирів, реалізує козяче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рганізовує дитячі екскурсії на міні-ферму.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За кошти проекту придбала мінітра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112680" y="4638600"/>
            <a:ext cx="58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rebuchet MS"/>
              </a:rPr>
              <a:t>Чаплик Іван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м. Рудки, Самбірський р-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аймається вирощуванням яблук, персиків, ягід та різноманітних овочів. За кошти проекту придбав мототра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5" descr=""/>
          <p:cNvPicPr/>
          <p:nvPr/>
        </p:nvPicPr>
        <p:blipFill>
          <a:blip r:embed="rId5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08080" y="31320"/>
            <a:ext cx="971712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Учасники, які організували власну справу     завдяки проекту «Рука допомоги»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>
            <a:off x="9228240" y="1120680"/>
            <a:ext cx="2757240" cy="29275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6" descr=""/>
          <p:cNvPicPr/>
          <p:nvPr/>
        </p:nvPicPr>
        <p:blipFill>
          <a:blip r:embed="rId2"/>
          <a:stretch/>
        </p:blipFill>
        <p:spPr>
          <a:xfrm>
            <a:off x="219240" y="3957480"/>
            <a:ext cx="3989160" cy="27702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3"/>
          <a:stretch/>
        </p:blipFill>
        <p:spPr>
          <a:xfrm>
            <a:off x="8712360" y="4524480"/>
            <a:ext cx="3273120" cy="170820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9" descr=""/>
          <p:cNvPicPr/>
          <p:nvPr/>
        </p:nvPicPr>
        <p:blipFill>
          <a:blip r:embed="rId4"/>
          <a:stretch/>
        </p:blipFill>
        <p:spPr>
          <a:xfrm>
            <a:off x="219240" y="1457280"/>
            <a:ext cx="3787560" cy="2368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0" descr=""/>
          <p:cNvPicPr/>
          <p:nvPr/>
        </p:nvPicPr>
        <p:blipFill>
          <a:blip r:embed="rId5"/>
          <a:stretch/>
        </p:blipFill>
        <p:spPr>
          <a:xfrm>
            <a:off x="5043600" y="3686040"/>
            <a:ext cx="3497040" cy="31305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1" descr=""/>
          <p:cNvPicPr/>
          <p:nvPr/>
        </p:nvPicPr>
        <p:blipFill>
          <a:blip r:embed="rId6"/>
          <a:stretch/>
        </p:blipFill>
        <p:spPr>
          <a:xfrm>
            <a:off x="4687920" y="1125360"/>
            <a:ext cx="4043160" cy="3032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"/>
          <p:cNvPicPr/>
          <p:nvPr/>
        </p:nvPicPr>
        <p:blipFill>
          <a:blip r:embed="rId7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920" y="284040"/>
            <a:ext cx="105156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Опис проекту «Рука допомоги»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27040" y="181116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Мета проек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887640" y="1525680"/>
            <a:ext cx="685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ироблення ефективних механізмів залучення (повернення) на ринок праці працездатних безробітних отримувачів державних соціальних допом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27040" y="262260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Тривал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970440" y="2684520"/>
            <a:ext cx="49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01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2016 року –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1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2018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527040" y="319896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Фінанс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924360" y="314784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шти для реалізації проекту передбачені у Державному бюджеті на 201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рік у сумі 20 млн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527040" y="4105440"/>
            <a:ext cx="3044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Виконав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Центральний рів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3941640" y="4610160"/>
            <a:ext cx="61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Міністерство соціальної політики Украї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rebuchet MS"/>
              </a:rPr>
              <a:t>Консорціум у складі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S GROUP s.r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527040" y="541800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Обласний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рівень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924360" y="5418000"/>
            <a:ext cx="81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Львівська обласна державна адміністрація (департамент соціального захисту насел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Львівський обласний центр зайнятості, базові центри зайнят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1"/>
          <a:stretch/>
        </p:blipFill>
        <p:spPr>
          <a:xfrm>
            <a:off x="10526760" y="176040"/>
            <a:ext cx="1665360" cy="8686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11120" y="272880"/>
            <a:ext cx="740556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Учасники пілотного проекту </a:t>
            </a:r>
            <a:br>
              <a:rPr sz="3200"/>
            </a:b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та форми участі </a:t>
            </a:r>
            <a:br>
              <a:rPr sz="3200"/>
            </a:b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04720" y="1630440"/>
            <a:ext cx="1121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rebuchet MS"/>
              </a:rPr>
              <a:t>До проекту залучаю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9826560" y="200160"/>
            <a:ext cx="2111400" cy="11491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7"/>
          <p:cNvSpPr/>
          <p:nvPr/>
        </p:nvSpPr>
        <p:spPr>
          <a:xfrm>
            <a:off x="593640" y="2098800"/>
            <a:ext cx="3673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непрацюючі працездатні особи з числа </a:t>
            </a: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членів малозабезпечених сімей, які отримують державну соціальну допомогу малозабезпеченим сім’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4687920" y="2176560"/>
            <a:ext cx="28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непрацюючі працездатні особи з числа внутрішньо переміщених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9"/>
          <p:cNvSpPr/>
          <p:nvPr/>
        </p:nvSpPr>
        <p:spPr>
          <a:xfrm>
            <a:off x="7839000" y="2095560"/>
            <a:ext cx="39006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суб’єкти господарювання, які  працевлаштують не менше як 2-ох осіб з числа ВПО, членів малозабезпечених сімей, учасників АТО, терміном не менше як на 2 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3460680" y="4465800"/>
            <a:ext cx="5145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rebuchet MS"/>
              </a:rPr>
              <a:t>Форми участі у проек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1"/>
          <p:cNvSpPr/>
          <p:nvPr/>
        </p:nvSpPr>
        <p:spPr>
          <a:xfrm>
            <a:off x="619200" y="5040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працевлаштування, в тому числі на нові робочі місц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2"/>
          <p:cNvSpPr/>
          <p:nvPr/>
        </p:nvSpPr>
        <p:spPr>
          <a:xfrm>
            <a:off x="4686480" y="507852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участь в громадських роботах та інших роботах тимчасового 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8001000" y="5057640"/>
            <a:ext cx="332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дання безвідсоткової фінансової допомоги на поворотній основі для організації підприємницьк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8520" y="147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e84c22"/>
                </a:solidFill>
                <a:latin typeface="Trebuchet MS"/>
              </a:rPr>
              <a:t>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Механізм реалізації проекту </a:t>
            </a:r>
            <a:br>
              <a:rPr sz="3600"/>
            </a:b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«Рука допомоги»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51" name="Объект 3" descr=""/>
          <p:cNvPicPr/>
          <p:nvPr/>
        </p:nvPicPr>
        <p:blipFill>
          <a:blip r:embed="rId1"/>
          <a:stretch/>
        </p:blipFill>
        <p:spPr>
          <a:xfrm>
            <a:off x="-98280" y="3041640"/>
            <a:ext cx="1296720" cy="1407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730080" y="3500280"/>
            <a:ext cx="21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одання учасником до органів соц. захисту за місцем прожив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-заяви на участь у проек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-довідки, що підтверджує статус МЗС чи В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428920" y="170352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9" descr=""/>
          <p:cNvPicPr/>
          <p:nvPr/>
        </p:nvPicPr>
        <p:blipFill>
          <a:blip r:embed="rId2"/>
          <a:stretch/>
        </p:blipFill>
        <p:spPr>
          <a:xfrm>
            <a:off x="2801880" y="2671920"/>
            <a:ext cx="1590840" cy="12142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3429000" y="1754280"/>
            <a:ext cx="180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rebuchet MS"/>
              </a:rPr>
              <a:t>Визначення форми уча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001960" y="2098800"/>
            <a:ext cx="139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рацевлаштування та/або участь у громадських робо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862440" y="2327400"/>
            <a:ext cx="132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тримання фінансової допомоги для започаткування власної спра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6242040" y="168768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15" descr=""/>
          <p:cNvPicPr/>
          <p:nvPr/>
        </p:nvPicPr>
        <p:blipFill>
          <a:blip r:embed="rId3"/>
          <a:stretch/>
        </p:blipFill>
        <p:spPr>
          <a:xfrm>
            <a:off x="5241960" y="2457360"/>
            <a:ext cx="1533600" cy="1197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6"/>
          <p:cNvSpPr/>
          <p:nvPr/>
        </p:nvSpPr>
        <p:spPr>
          <a:xfrm>
            <a:off x="6462720" y="205740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Навчання (за бажанням учасника), консультування учасника з питань провадження підприємницько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8"/>
          <p:cNvSpPr/>
          <p:nvPr/>
        </p:nvSpPr>
        <p:spPr>
          <a:xfrm>
            <a:off x="9005760" y="2209680"/>
            <a:ext cx="119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ідготовка бізнес-п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9" descr=""/>
          <p:cNvPicPr/>
          <p:nvPr/>
        </p:nvPicPr>
        <p:blipFill>
          <a:blip r:embed="rId4"/>
          <a:stretch/>
        </p:blipFill>
        <p:spPr>
          <a:xfrm>
            <a:off x="7978680" y="2057400"/>
            <a:ext cx="1571760" cy="14079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0" descr=""/>
          <p:cNvPicPr/>
          <p:nvPr/>
        </p:nvPicPr>
        <p:blipFill>
          <a:blip r:embed="rId5"/>
          <a:stretch/>
        </p:blipFill>
        <p:spPr>
          <a:xfrm>
            <a:off x="10372680" y="2098800"/>
            <a:ext cx="1646280" cy="1158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3"/>
          <p:cNvSpPr/>
          <p:nvPr/>
        </p:nvSpPr>
        <p:spPr>
          <a:xfrm>
            <a:off x="8461440" y="170352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10002960" y="2959200"/>
            <a:ext cx="21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Розгляд бізнес-планів Комісією Л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0"/>
          <p:cNvSpPr/>
          <p:nvPr/>
        </p:nvSpPr>
        <p:spPr>
          <a:xfrm>
            <a:off x="10533240" y="16225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РОК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31" descr=""/>
          <p:cNvPicPr/>
          <p:nvPr/>
        </p:nvPicPr>
        <p:blipFill>
          <a:blip r:embed="rId6"/>
          <a:stretch/>
        </p:blipFill>
        <p:spPr>
          <a:xfrm>
            <a:off x="10291680" y="4005360"/>
            <a:ext cx="1390680" cy="8492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2"/>
          <p:cNvSpPr/>
          <p:nvPr/>
        </p:nvSpPr>
        <p:spPr>
          <a:xfrm>
            <a:off x="10520280" y="35416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9005760" y="4048200"/>
            <a:ext cx="171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овідомлення про рішення Коміс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34" descr=""/>
          <p:cNvPicPr/>
          <p:nvPr/>
        </p:nvPicPr>
        <p:blipFill>
          <a:blip r:embed="rId7"/>
          <a:stretch/>
        </p:blipFill>
        <p:spPr>
          <a:xfrm>
            <a:off x="10452240" y="5235480"/>
            <a:ext cx="1230120" cy="1219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6"/>
          <p:cNvSpPr/>
          <p:nvPr/>
        </p:nvSpPr>
        <p:spPr>
          <a:xfrm rot="5400000">
            <a:off x="11222280" y="5396040"/>
            <a:ext cx="9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7"/>
          <p:cNvSpPr/>
          <p:nvPr/>
        </p:nvSpPr>
        <p:spPr>
          <a:xfrm>
            <a:off x="9578880" y="5402160"/>
            <a:ext cx="114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Реєстрація Учасника як Ф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38" descr=""/>
          <p:cNvPicPr/>
          <p:nvPr/>
        </p:nvPicPr>
        <p:blipFill>
          <a:blip r:embed="rId8"/>
          <a:stretch/>
        </p:blipFill>
        <p:spPr>
          <a:xfrm>
            <a:off x="8331120" y="4946760"/>
            <a:ext cx="1495440" cy="1244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2"/>
          <p:cNvSpPr/>
          <p:nvPr/>
        </p:nvSpPr>
        <p:spPr>
          <a:xfrm>
            <a:off x="8661240" y="630864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7477200" y="5092560"/>
            <a:ext cx="1184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Укладання договору про надання фін. допом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44" descr=""/>
          <p:cNvPicPr/>
          <p:nvPr/>
        </p:nvPicPr>
        <p:blipFill>
          <a:blip r:embed="rId9"/>
          <a:stretch/>
        </p:blipFill>
        <p:spPr>
          <a:xfrm>
            <a:off x="5684760" y="5235480"/>
            <a:ext cx="1560600" cy="617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5"/>
          <p:cNvSpPr/>
          <p:nvPr/>
        </p:nvSpPr>
        <p:spPr>
          <a:xfrm>
            <a:off x="6102360" y="6327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7"/>
          <p:cNvSpPr/>
          <p:nvPr/>
        </p:nvSpPr>
        <p:spPr>
          <a:xfrm>
            <a:off x="4716360" y="5106960"/>
            <a:ext cx="13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плата витрат на закупівлю матеріалів /облад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9"/>
          <p:cNvSpPr/>
          <p:nvPr/>
        </p:nvSpPr>
        <p:spPr>
          <a:xfrm>
            <a:off x="3735360" y="62611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50" descr=""/>
          <p:cNvPicPr/>
          <p:nvPr/>
        </p:nvPicPr>
        <p:blipFill>
          <a:blip r:embed="rId10"/>
          <a:stretch/>
        </p:blipFill>
        <p:spPr>
          <a:xfrm>
            <a:off x="2717640" y="4898880"/>
            <a:ext cx="1525680" cy="14558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1"/>
          <p:cNvSpPr/>
          <p:nvPr/>
        </p:nvSpPr>
        <p:spPr>
          <a:xfrm>
            <a:off x="3052800" y="437976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Успішне ведення бізн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2" descr=""/>
          <p:cNvPicPr/>
          <p:nvPr/>
        </p:nvPicPr>
        <p:blipFill>
          <a:blip r:embed="rId11"/>
          <a:stretch/>
        </p:blipFill>
        <p:spPr>
          <a:xfrm>
            <a:off x="10002960" y="152280"/>
            <a:ext cx="2079360" cy="108612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100080" y="2671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5" descr=""/>
          <p:cNvPicPr/>
          <p:nvPr/>
        </p:nvPicPr>
        <p:blipFill>
          <a:blip r:embed="rId1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72960" y="193680"/>
            <a:ext cx="10515600" cy="13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Підтримка підприємницьких </a:t>
            </a:r>
            <a:br>
              <a:rPr sz="3600"/>
            </a:b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ініціатив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557760" y="2495520"/>
            <a:ext cx="511956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Arial"/>
              </a:rPr>
              <a:t>Фінансова допомога не повертається, якщо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9840960" y="193680"/>
            <a:ext cx="1923840" cy="10843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587520" y="1650960"/>
            <a:ext cx="1160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Arial"/>
              </a:rPr>
              <a:t>Розмір безвідсоткової фінансової допомоги – до 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70 480 </a:t>
            </a:r>
            <a:r>
              <a:rPr b="0" sz="3000" spc="-1" strike="noStrike">
                <a:solidFill>
                  <a:srgbClr val="000000"/>
                </a:solidFill>
                <a:latin typeface="Arial"/>
              </a:rPr>
              <a:t>грив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500040" y="2460600"/>
            <a:ext cx="51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Термін повернення – упродовж  3-ьох ро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Сума фінансової допомоги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що повертається,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зменшується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на суму сплачених учасником проекту податків, зборів і ЄСВ або на суму єдиного внеску, сплаченого СГ за працевлаштованих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6431040" y="3529080"/>
            <a:ext cx="53258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ник проект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цевлаштову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перший рі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менш як двох осіб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з числа осіб малозабезпечених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О або АТО, строком не менш як на два 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6520" y="434520"/>
            <a:ext cx="10515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Результати реалізації проекту </a:t>
            </a:r>
            <a:br>
              <a:rPr sz="3200"/>
            </a:b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«Рука допомоги» </a:t>
            </a:r>
            <a:br>
              <a:rPr sz="3200"/>
            </a:b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станом на 31.07.2018</a:t>
            </a:r>
            <a:endParaRPr b="0" lang="en-US" sz="20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93" name="Рисунок 25" descr=""/>
          <p:cNvPicPr/>
          <p:nvPr/>
        </p:nvPicPr>
        <p:blipFill>
          <a:blip r:embed="rId1"/>
          <a:stretch/>
        </p:blipFill>
        <p:spPr>
          <a:xfrm>
            <a:off x="9837720" y="74520"/>
            <a:ext cx="2077920" cy="1084320"/>
          </a:xfrm>
          <a:prstGeom prst="rect">
            <a:avLst/>
          </a:prstGeom>
          <a:ln w="0">
            <a:noFill/>
          </a:ln>
        </p:spPr>
      </p:pic>
      <p:sp>
        <p:nvSpPr>
          <p:cNvPr id="294" name="Блок-схема: альтернативный процесс 2"/>
          <p:cNvSpPr/>
          <p:nvPr/>
        </p:nvSpPr>
        <p:spPr>
          <a:xfrm>
            <a:off x="1346040" y="2138400"/>
            <a:ext cx="9448920" cy="84780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Кількість учасників проекту у Львівській обла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966 ос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Блок-схема: альтернативный процесс 9"/>
          <p:cNvSpPr/>
          <p:nvPr/>
        </p:nvSpPr>
        <p:spPr>
          <a:xfrm>
            <a:off x="863640" y="3468600"/>
            <a:ext cx="3048120" cy="75564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719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працевлаш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лок-схема: альтернативный процесс 27"/>
          <p:cNvSpPr/>
          <p:nvPr/>
        </p:nvSpPr>
        <p:spPr>
          <a:xfrm>
            <a:off x="4361040" y="3468600"/>
            <a:ext cx="3208320" cy="79236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79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громадські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Блок-схема: альтернативный процесс 28"/>
          <p:cNvSpPr/>
          <p:nvPr/>
        </p:nvSpPr>
        <p:spPr>
          <a:xfrm>
            <a:off x="7826400" y="3503520"/>
            <a:ext cx="3797280" cy="75744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70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фінансову допо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Блок-схема: альтернативный процесс 29"/>
          <p:cNvSpPr/>
          <p:nvPr/>
        </p:nvSpPr>
        <p:spPr>
          <a:xfrm>
            <a:off x="824040" y="477216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399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працевлаштовано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Блок-схема: альтернативный процесс 30"/>
          <p:cNvSpPr/>
          <p:nvPr/>
        </p:nvSpPr>
        <p:spPr>
          <a:xfrm>
            <a:off x="4321080" y="477216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38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беруть участь у громадських роб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Блок-схема: альтернативный процесс 31"/>
          <p:cNvSpPr/>
          <p:nvPr/>
        </p:nvSpPr>
        <p:spPr>
          <a:xfrm>
            <a:off x="7786800" y="477216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прийнято 105 рішень про надання фінансової допом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трелка вниз 36"/>
          <p:cNvSpPr/>
          <p:nvPr/>
        </p:nvSpPr>
        <p:spPr>
          <a:xfrm>
            <a:off x="2352600" y="3076560"/>
            <a:ext cx="436680" cy="420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2da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43" descr=""/>
          <p:cNvPicPr/>
          <p:nvPr/>
        </p:nvPicPr>
        <p:blipFill>
          <a:blip r:embed="rId2"/>
          <a:stretch/>
        </p:blipFill>
        <p:spPr>
          <a:xfrm>
            <a:off x="5999040" y="3059280"/>
            <a:ext cx="487440" cy="4442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4" descr=""/>
          <p:cNvPicPr/>
          <p:nvPr/>
        </p:nvPicPr>
        <p:blipFill>
          <a:blip r:embed="rId3"/>
          <a:stretch/>
        </p:blipFill>
        <p:spPr>
          <a:xfrm>
            <a:off x="9550440" y="3070080"/>
            <a:ext cx="522360" cy="47628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45" descr=""/>
          <p:cNvPicPr/>
          <p:nvPr/>
        </p:nvPicPr>
        <p:blipFill>
          <a:blip r:embed="rId4"/>
          <a:stretch/>
        </p:blipFill>
        <p:spPr>
          <a:xfrm>
            <a:off x="2300400" y="4260960"/>
            <a:ext cx="523800" cy="4744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6" descr=""/>
          <p:cNvPicPr/>
          <p:nvPr/>
        </p:nvPicPr>
        <p:blipFill>
          <a:blip r:embed="rId5"/>
          <a:stretch/>
        </p:blipFill>
        <p:spPr>
          <a:xfrm>
            <a:off x="9559800" y="4299120"/>
            <a:ext cx="525600" cy="475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7" descr=""/>
          <p:cNvPicPr/>
          <p:nvPr/>
        </p:nvPicPr>
        <p:blipFill>
          <a:blip r:embed="rId6"/>
          <a:stretch/>
        </p:blipFill>
        <p:spPr>
          <a:xfrm>
            <a:off x="5962680" y="4246560"/>
            <a:ext cx="523800" cy="476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"/>
          <p:cNvPicPr/>
          <p:nvPr/>
        </p:nvPicPr>
        <p:blipFill>
          <a:blip r:embed="rId7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  <p:cxnSp>
        <p:nvCxnSpPr>
          <p:cNvPr id="308" name="Прямая со стрелкой 21"/>
          <p:cNvCxnSpPr/>
          <p:nvPr/>
        </p:nvCxnSpPr>
        <p:spPr>
          <a:xfrm flipH="1">
            <a:off x="8373240" y="5825160"/>
            <a:ext cx="561240" cy="222840"/>
          </a:xfrm>
          <a:prstGeom prst="straightConnector1">
            <a:avLst/>
          </a:prstGeom>
          <a:ln cap="rnd"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Прямоугольник 24"/>
          <p:cNvSpPr/>
          <p:nvPr/>
        </p:nvSpPr>
        <p:spPr>
          <a:xfrm>
            <a:off x="5878440" y="604512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рківська область – 71 ріш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тавська область – 50 рі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6520" y="130320"/>
            <a:ext cx="105156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-538200" y="4387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25" descr=""/>
          <p:cNvPicPr/>
          <p:nvPr/>
        </p:nvPicPr>
        <p:blipFill>
          <a:blip r:embed="rId1"/>
          <a:stretch/>
        </p:blipFill>
        <p:spPr>
          <a:xfrm>
            <a:off x="10586880" y="74520"/>
            <a:ext cx="1328760" cy="10843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33"/>
          <p:cNvSpPr/>
          <p:nvPr/>
        </p:nvSpPr>
        <p:spPr>
          <a:xfrm flipV="1" rot="10800000">
            <a:off x="6791040" y="4503240"/>
            <a:ext cx="20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 стрелкой 74"/>
          <p:cNvCxnSpPr/>
          <p:nvPr/>
        </p:nvCxnSpPr>
        <p:spPr>
          <a:xfrm>
            <a:off x="10937880" y="6014880"/>
            <a:ext cx="915120" cy="915120"/>
          </a:xfrm>
          <a:prstGeom prst="straightConnector1">
            <a:avLst/>
          </a:prstGeom>
          <a:ln cap="rnd" w="12600">
            <a:solidFill>
              <a:srgbClr val="e84c22"/>
            </a:solidFill>
            <a:miter/>
            <a:tailEnd len="med" type="triangle" w="med"/>
          </a:ln>
        </p:spPr>
      </p:cxnSp>
      <p:sp>
        <p:nvSpPr>
          <p:cNvPr id="315" name="TextBox 9"/>
          <p:cNvSpPr/>
          <p:nvPr/>
        </p:nvSpPr>
        <p:spPr>
          <a:xfrm>
            <a:off x="1463760" y="204840"/>
            <a:ext cx="926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Структура учасників пілотного проекту, щодо яких прийнято рішення надати фіндопо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Диаграмма 10" descr=""/>
          <p:cNvPicPr/>
          <p:nvPr/>
        </p:nvPicPr>
        <p:blipFill>
          <a:blip r:embed="rId2"/>
          <a:stretch/>
        </p:blipFill>
        <p:spPr>
          <a:xfrm>
            <a:off x="212760" y="1801800"/>
            <a:ext cx="9688320" cy="5418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"/>
          <p:cNvPicPr/>
          <p:nvPr/>
        </p:nvPicPr>
        <p:blipFill>
          <a:blip r:embed="rId3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07720" y="31320"/>
            <a:ext cx="103726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Сфери діяльності учасників проекту, щодо яких прийнято рішення надати фіндопомогу 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10113840" y="5772240"/>
            <a:ext cx="2078280" cy="1085760"/>
          </a:xfrm>
          <a:prstGeom prst="rect">
            <a:avLst/>
          </a:prstGeom>
          <a:ln w="0">
            <a:noFill/>
          </a:ln>
        </p:spPr>
      </p:pic>
      <p:pic>
        <p:nvPicPr>
          <p:cNvPr id="320" name="Объект 11" descr=""/>
          <p:cNvPicPr/>
          <p:nvPr/>
        </p:nvPicPr>
        <p:blipFill>
          <a:blip r:embed="rId2"/>
          <a:stretch/>
        </p:blipFill>
        <p:spPr>
          <a:xfrm>
            <a:off x="-2766960" y="1163520"/>
            <a:ext cx="12999960" cy="56944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"/>
          <p:cNvPicPr/>
          <p:nvPr/>
        </p:nvPicPr>
        <p:blipFill>
          <a:blip r:embed="rId3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1037268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0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000" spc="-1" strike="noStrike">
                <a:solidFill>
                  <a:srgbClr val="e84c22"/>
                </a:solidFill>
                <a:latin typeface="Trebuchet MS"/>
              </a:rPr>
              <a:t>Сфери діяльності учасників проекту, щодо яких прийнято рішення надати фіндопомогу в галузі сільського господарства</a:t>
            </a:r>
            <a:endParaRPr b="0" lang="en-US" sz="30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10113840" y="5772240"/>
            <a:ext cx="2078280" cy="1085760"/>
          </a:xfrm>
          <a:prstGeom prst="rect">
            <a:avLst/>
          </a:prstGeom>
          <a:ln w="0">
            <a:noFill/>
          </a:ln>
        </p:spPr>
      </p:pic>
      <p:sp>
        <p:nvSpPr>
          <p:cNvPr id="324" name="Блок-схема: альтернативный процесс 8"/>
          <p:cNvSpPr/>
          <p:nvPr/>
        </p:nvSpPr>
        <p:spPr>
          <a:xfrm>
            <a:off x="849240" y="1911240"/>
            <a:ext cx="3221280" cy="10321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бництво си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Придбання пастеризатора, камери для визріванн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альтернативный процесс 9"/>
          <p:cNvSpPr/>
          <p:nvPr/>
        </p:nvSpPr>
        <p:spPr>
          <a:xfrm>
            <a:off x="4346640" y="1911240"/>
            <a:ext cx="3208320" cy="10321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курей-несу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Обладнання (лампа, вентилятор, сітка, корм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Блок-схема: альтернативный процесс 10"/>
          <p:cNvSpPr/>
          <p:nvPr/>
        </p:nvSpPr>
        <p:spPr>
          <a:xfrm>
            <a:off x="7812000" y="1911240"/>
            <a:ext cx="3797280" cy="102888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ирощування с/г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Міндобрива, насіння, гербіци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Блок-схема: альтернативный процесс 11"/>
          <p:cNvSpPr/>
          <p:nvPr/>
        </p:nvSpPr>
        <p:spPr>
          <a:xfrm>
            <a:off x="858960" y="337032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Міні ферми по розведенні п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Інкубатор, вентилятор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альтернативный процесс 12"/>
          <p:cNvSpPr/>
          <p:nvPr/>
        </p:nvSpPr>
        <p:spPr>
          <a:xfrm>
            <a:off x="4356000" y="337032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ма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Матеріали для виготовлення теплиц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альтернативный процесс 13"/>
          <p:cNvSpPr/>
          <p:nvPr/>
        </p:nvSpPr>
        <p:spPr>
          <a:xfrm>
            <a:off x="7821720" y="337032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епличне госпо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Розсада овочів, квітів та зеле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альтернативный процесс 14"/>
          <p:cNvSpPr/>
          <p:nvPr/>
        </p:nvSpPr>
        <p:spPr>
          <a:xfrm>
            <a:off x="866880" y="481500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Надання послуг по обробці зем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Розсіювач міндобрив, борона, культив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Блок-схема: альтернативный процесс 15"/>
          <p:cNvSpPr/>
          <p:nvPr/>
        </p:nvSpPr>
        <p:spPr>
          <a:xfrm>
            <a:off x="4363920" y="481500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зернових сільськогосподарськи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лок-схема: альтернативный процесс 16"/>
          <p:cNvSpPr/>
          <p:nvPr/>
        </p:nvSpPr>
        <p:spPr>
          <a:xfrm>
            <a:off x="7829640" y="481500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Розвиток підприємства ландшафтного диза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5:04:55Z</dcterms:created>
  <dc:creator>Paranko</dc:creator>
  <dc:description/>
  <dc:language>en-US</dc:language>
  <cp:lastModifiedBy>Наталя Угляр</cp:lastModifiedBy>
  <dcterms:modified xsi:type="dcterms:W3CDTF">2018-07-31T09:08:43Z</dcterms:modified>
  <cp:revision>100</cp:revision>
  <dc:subject/>
  <dc:title>ПІЛОТНИЙ ПРОЕКТ із залучення до роботи членів малозабезпечених сімей та внутрішньо переміщених осіб «Рука допомоги»</dc:title>
</cp:coreProperties>
</file>