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6.jpeg" ContentType="image/jpe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E1E-C1E2-4A7D-AA3A-E72E6FE339A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F17E-5ADB-453C-B51D-E6A3311B88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92C9-B421-4E6A-BF3C-9734FBD763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31D8-99F5-4463-9466-27DFCE40AF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3A8C-1D24-4223-9CD7-E24B5A63E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CDC1-87CC-4F77-B4C4-AFEF306A8C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0BD5-CD35-46F4-93EB-0FF58FD014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7719-9578-404B-8FC5-B6CE78396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F08-F999-4502-AEBA-10D745B5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EDC7-91FB-4B55-A029-9EABADB0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B312-2E65-4068-9569-49CBFCE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6F7E-D6A0-4E2B-AE8C-2EA98B6D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F595-E67D-495F-A33A-58F1D7A7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D57A-2C2E-4A01-816F-0952264E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09BF-FE61-4AEF-BD7E-F8A9FF63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6E28-9017-4083-A8E1-01C1EF7A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3546-531F-4F11-9995-71BAEFDC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492B-1299-4E13-8609-2CD03BD7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B8F-1C30-4F2E-BFAF-5E187EFC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4BCB-FBB1-4E9F-BAF0-23A5EB95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47B8-CA66-46A0-A8C0-482D1D11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C9BA-DC92-4227-B943-3869AE7A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31AD-F532-42AE-9BD8-2665D485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6387-0032-4037-8394-A07BB9C41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26DE5-CA6F-48DF-BC1D-37BD42F1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E8E7E-3226-40E9-96DF-4341746F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41EE-476E-40BE-B71E-8E37369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FA5B-783E-4214-BC0A-F8D46275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96689-6590-437F-AB41-FDFB454F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24EF-0FAE-4626-B1F8-19755022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282AB-5A60-4770-8900-35D187D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6EFA6-5633-4C58-A72F-2F0EB9F1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62C52-D8A4-4305-BD81-C996ACE4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94187-3D7C-4EDC-8E86-D72ABB1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C84D-6057-4E9B-BA36-D552EEC0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E7A0-5F43-44C0-B090-81A335EC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DF73-9BBC-4AAB-A41D-B8A764EB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55D08-E430-47B7-BB41-15AF1AC8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B915C-AB9A-4BBB-ADC1-BC379614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01571-7C3C-4B7E-8780-F9845BB5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BA9-27B9-427E-AA30-320D3D61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8068D-A29D-4DEF-8E5C-9623907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29AEA-D09D-41F5-9914-84657A66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7A88-A644-40FC-A2FD-A6D6442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1AEF6-3D22-470A-A0D2-3D5C4D0B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A7CA-8A78-4254-9563-1C91682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0188D-21E7-4134-80D7-9925C2F4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4540-F130-4FDF-917A-2E09EBC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8CC7-5C0B-4818-8AA0-7C67951B8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EB5BD-A6E5-44DB-BD14-24FA92D2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4FE-4049-46B0-A57D-45687923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1FD-FF34-4B73-AA12-8A971A42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33E-B3C6-4E26-8345-63004CC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3DB-C22F-4A3D-BBA6-B904756B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338E-6850-4037-867D-7F7CAE75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3AF1-3B5F-44CC-82E2-3C157F1341BF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3A16-705F-4323-AEF1-5058D6BEFBA4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0A6-F693-42B9-B8C1-C9C62A0E6678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prstGeom prst="pie">
              <a:avLst/>
            </a:prstGeom>
            <a:solidFill>
              <a:srgbClr val="e84c2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prstGeom prst="pie">
              <a:avLst/>
            </a:prstGeom>
            <a:solidFill>
              <a:srgbClr val="e84c2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ffbd47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prstGeom prst="pie">
              <a:avLst/>
            </a:prstGeom>
            <a:solidFill>
              <a:srgbClr val="f49d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prstGeom prst="pie">
              <a:avLst/>
            </a:prstGeom>
            <a:solidFill>
              <a:srgbClr val="f1947a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prstGeom prst="pie">
              <a:avLst/>
            </a:prstGeom>
            <a:solidFill>
              <a:srgbClr val="e84c22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e84c2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e84c22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1947a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84c22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68520" indent="-25704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2852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4000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51480" indent="-205560"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51480" indent="-20556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e84c2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0809-33F9-428F-AF21-7BF0C8B84D8D}" type="slidenum">
              <a:rPr b="0" lang="ru-RU" sz="900" spc="-1" strike="noStrike">
                <a:solidFill>
                  <a:srgbClr val="e84c22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7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840" y="1897200"/>
            <a:ext cx="9622080" cy="3868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900" spc="-1" strike="noStrike">
                <a:solidFill>
                  <a:srgbClr val="000000"/>
                </a:solidFill>
                <a:latin typeface="Trebuchet MS"/>
              </a:rPr>
              <a:t>ПІЛОТНИЙ ПРОЕКТ</a:t>
            </a:r>
            <a:br>
              <a:rPr sz="4900"/>
            </a:br>
            <a:r>
              <a:rPr b="0" lang="uk-UA" sz="4900" spc="-1" strike="noStrike">
                <a:solidFill>
                  <a:srgbClr val="000000"/>
                </a:solidFill>
                <a:latin typeface="Trebuchet MS"/>
              </a:rPr>
              <a:t>із залучення до роботи членів малозабезпечених сімей та внутрішньо переміщених осіб</a:t>
            </a:r>
            <a:br>
              <a:rPr sz="4900"/>
            </a:br>
            <a:r>
              <a:rPr b="0" lang="uk-UA" sz="4900" spc="-1" strike="noStrike">
                <a:solidFill>
                  <a:srgbClr val="000000"/>
                </a:solidFill>
                <a:latin typeface="Trebuchet MS"/>
              </a:rPr>
              <a:t>«Рука допомоги»</a:t>
            </a:r>
            <a:endParaRPr b="0" lang="en-US" sz="49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20" name="Рисунок 4" descr=""/>
          <p:cNvPicPr/>
          <p:nvPr/>
        </p:nvPicPr>
        <p:blipFill>
          <a:blip r:embed="rId1"/>
          <a:stretch/>
        </p:blipFill>
        <p:spPr>
          <a:xfrm>
            <a:off x="9702720" y="5678640"/>
            <a:ext cx="2081160" cy="1089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5" descr=""/>
          <p:cNvPicPr/>
          <p:nvPr/>
        </p:nvPicPr>
        <p:blipFill>
          <a:blip r:embed="rId2"/>
          <a:stretch/>
        </p:blipFill>
        <p:spPr>
          <a:xfrm>
            <a:off x="7399440" y="154080"/>
            <a:ext cx="1466640" cy="16858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"/>
          <p:cNvPicPr/>
          <p:nvPr/>
        </p:nvPicPr>
        <p:blipFill>
          <a:blip r:embed="rId3"/>
          <a:stretch/>
        </p:blipFill>
        <p:spPr>
          <a:xfrm>
            <a:off x="704880" y="0"/>
            <a:ext cx="3132000" cy="192888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9" descr=""/>
          <p:cNvPicPr/>
          <p:nvPr/>
        </p:nvPicPr>
        <p:blipFill>
          <a:blip r:embed="rId4"/>
          <a:stretch/>
        </p:blipFill>
        <p:spPr>
          <a:xfrm>
            <a:off x="4241880" y="328680"/>
            <a:ext cx="2357280" cy="10684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2" descr=""/>
          <p:cNvPicPr/>
          <p:nvPr/>
        </p:nvPicPr>
        <p:blipFill>
          <a:blip r:embed="rId5"/>
          <a:stretch/>
        </p:blipFill>
        <p:spPr>
          <a:xfrm>
            <a:off x="10161720" y="250920"/>
            <a:ext cx="1520640" cy="14256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7" descr=""/>
          <p:cNvPicPr/>
          <p:nvPr/>
        </p:nvPicPr>
        <p:blipFill>
          <a:blip r:embed="rId6"/>
          <a:stretch/>
        </p:blipFill>
        <p:spPr>
          <a:xfrm>
            <a:off x="325440" y="4905360"/>
            <a:ext cx="19447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08080" y="31320"/>
            <a:ext cx="971712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Успішні історії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35" name="Рисунок 2" descr=""/>
          <p:cNvPicPr/>
          <p:nvPr/>
        </p:nvPicPr>
        <p:blipFill>
          <a:blip r:embed="rId1"/>
          <a:stretch/>
        </p:blipFill>
        <p:spPr>
          <a:xfrm>
            <a:off x="9815400" y="417600"/>
            <a:ext cx="2079720" cy="10857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8" descr=""/>
          <p:cNvPicPr/>
          <p:nvPr/>
        </p:nvPicPr>
        <p:blipFill>
          <a:blip r:embed="rId2"/>
          <a:stretch/>
        </p:blipFill>
        <p:spPr>
          <a:xfrm>
            <a:off x="112680" y="1457280"/>
            <a:ext cx="3324240" cy="238608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11" descr=""/>
          <p:cNvPicPr/>
          <p:nvPr/>
        </p:nvPicPr>
        <p:blipFill>
          <a:blip r:embed="rId3"/>
          <a:stretch/>
        </p:blipFill>
        <p:spPr>
          <a:xfrm>
            <a:off x="5972040" y="4395960"/>
            <a:ext cx="3700440" cy="24620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2" descr=""/>
          <p:cNvPicPr/>
          <p:nvPr/>
        </p:nvPicPr>
        <p:blipFill>
          <a:blip r:embed="rId4"/>
          <a:stretch/>
        </p:blipFill>
        <p:spPr>
          <a:xfrm>
            <a:off x="9215280" y="3362400"/>
            <a:ext cx="2721240" cy="22510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14"/>
          <p:cNvSpPr/>
          <p:nvPr/>
        </p:nvSpPr>
        <p:spPr>
          <a:xfrm>
            <a:off x="3581280" y="1433520"/>
            <a:ext cx="60912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rebuchet MS"/>
              </a:rPr>
              <a:t>Ільків Катерина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с. Тухля, Скоівський р-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рганізувала козячу міні-ферму, займається виготовленням твердих сирів, реалізує козяче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Організовує дитячі екскурсії на міні-ферму.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За кошти проекту придбала мінітра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112680" y="4638600"/>
            <a:ext cx="585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Trebuchet MS"/>
              </a:rPr>
              <a:t>Чаплик Іван 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(м. Рудки, Самбірський р-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Займається вирощуванням яблук, персиків, ягід та різноманітних овочів. За кошти проекту придбав мототрак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Рисунок 5" descr=""/>
          <p:cNvPicPr/>
          <p:nvPr/>
        </p:nvPicPr>
        <p:blipFill>
          <a:blip r:embed="rId5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08080" y="31320"/>
            <a:ext cx="971712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Учасники, які організували власну справу     завдяки проекту «Рука допомоги»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43" name="Рисунок 4" descr=""/>
          <p:cNvPicPr/>
          <p:nvPr/>
        </p:nvPicPr>
        <p:blipFill>
          <a:blip r:embed="rId1"/>
          <a:stretch/>
        </p:blipFill>
        <p:spPr>
          <a:xfrm>
            <a:off x="9228240" y="1120680"/>
            <a:ext cx="2757240" cy="29275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6" descr=""/>
          <p:cNvPicPr/>
          <p:nvPr/>
        </p:nvPicPr>
        <p:blipFill>
          <a:blip r:embed="rId2"/>
          <a:stretch/>
        </p:blipFill>
        <p:spPr>
          <a:xfrm>
            <a:off x="219240" y="3957480"/>
            <a:ext cx="3989160" cy="2770200"/>
          </a:xfrm>
          <a:prstGeom prst="rect">
            <a:avLst/>
          </a:prstGeom>
          <a:ln w="0">
            <a:noFill/>
          </a:ln>
        </p:spPr>
      </p:pic>
      <p:pic>
        <p:nvPicPr>
          <p:cNvPr id="345" name="Рисунок 2" descr=""/>
          <p:cNvPicPr/>
          <p:nvPr/>
        </p:nvPicPr>
        <p:blipFill>
          <a:blip r:embed="rId3"/>
          <a:stretch/>
        </p:blipFill>
        <p:spPr>
          <a:xfrm>
            <a:off x="8712360" y="4524480"/>
            <a:ext cx="3273120" cy="1708200"/>
          </a:xfrm>
          <a:prstGeom prst="rect">
            <a:avLst/>
          </a:prstGeom>
          <a:ln w="0">
            <a:noFill/>
          </a:ln>
        </p:spPr>
      </p:pic>
      <p:pic>
        <p:nvPicPr>
          <p:cNvPr id="346" name="Объект 9" descr=""/>
          <p:cNvPicPr/>
          <p:nvPr/>
        </p:nvPicPr>
        <p:blipFill>
          <a:blip r:embed="rId4"/>
          <a:stretch/>
        </p:blipFill>
        <p:spPr>
          <a:xfrm>
            <a:off x="219240" y="1457280"/>
            <a:ext cx="3787560" cy="236844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10" descr=""/>
          <p:cNvPicPr/>
          <p:nvPr/>
        </p:nvPicPr>
        <p:blipFill>
          <a:blip r:embed="rId5"/>
          <a:stretch/>
        </p:blipFill>
        <p:spPr>
          <a:xfrm>
            <a:off x="5043600" y="3686040"/>
            <a:ext cx="3497040" cy="313056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11" descr=""/>
          <p:cNvPicPr/>
          <p:nvPr/>
        </p:nvPicPr>
        <p:blipFill>
          <a:blip r:embed="rId6"/>
          <a:stretch/>
        </p:blipFill>
        <p:spPr>
          <a:xfrm>
            <a:off x="4687920" y="1125360"/>
            <a:ext cx="4043160" cy="3032280"/>
          </a:xfrm>
          <a:prstGeom prst="rect">
            <a:avLst/>
          </a:prstGeom>
          <a:ln w="0">
            <a:noFill/>
          </a:ln>
        </p:spPr>
      </p:pic>
      <p:pic>
        <p:nvPicPr>
          <p:cNvPr id="349" name="Рисунок 5" descr=""/>
          <p:cNvPicPr/>
          <p:nvPr/>
        </p:nvPicPr>
        <p:blipFill>
          <a:blip r:embed="rId7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7920" y="284040"/>
            <a:ext cx="10515600" cy="10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Опис проекту «Рука допомоги»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27" name="TextBox 3"/>
          <p:cNvSpPr/>
          <p:nvPr/>
        </p:nvSpPr>
        <p:spPr>
          <a:xfrm>
            <a:off x="527040" y="1811160"/>
            <a:ext cx="27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Мета проект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3887640" y="1525680"/>
            <a:ext cx="6851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вироблення ефективних механізмів залучення (повернення) на ринок праці працездатних безробітних отримувачів державних соціальних допом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27040" y="2622600"/>
            <a:ext cx="25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Тривалі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970440" y="2684520"/>
            <a:ext cx="494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З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01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2016 року –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31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12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.2018 ро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9"/>
          <p:cNvSpPr/>
          <p:nvPr/>
        </p:nvSpPr>
        <p:spPr>
          <a:xfrm>
            <a:off x="527040" y="319896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Фінансув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0"/>
          <p:cNvSpPr/>
          <p:nvPr/>
        </p:nvSpPr>
        <p:spPr>
          <a:xfrm>
            <a:off x="3924360" y="314784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Кошти для реалізації проекту передбачені у Державному бюджеті на 201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8</a:t>
            </a: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 рік у сумі 20 млн. гр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1"/>
          <p:cNvSpPr/>
          <p:nvPr/>
        </p:nvSpPr>
        <p:spPr>
          <a:xfrm>
            <a:off x="527040" y="4105440"/>
            <a:ext cx="30448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rebuchet MS"/>
              </a:rPr>
              <a:t>Виконавці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Центральний ріве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3"/>
          <p:cNvSpPr/>
          <p:nvPr/>
        </p:nvSpPr>
        <p:spPr>
          <a:xfrm>
            <a:off x="3941640" y="4610160"/>
            <a:ext cx="615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Міністерство соціальної політики Україн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rebuchet MS"/>
              </a:rPr>
              <a:t>Консорціум у складі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SS GROUP s.r.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4"/>
          <p:cNvSpPr/>
          <p:nvPr/>
        </p:nvSpPr>
        <p:spPr>
          <a:xfrm>
            <a:off x="527040" y="541800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Обласний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Trebuchet MS"/>
              </a:rPr>
              <a:t>рівень</a:t>
            </a:r>
            <a:r>
              <a:rPr b="0" lang="uk-UA" sz="24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6"/>
          <p:cNvSpPr/>
          <p:nvPr/>
        </p:nvSpPr>
        <p:spPr>
          <a:xfrm>
            <a:off x="3924360" y="5418000"/>
            <a:ext cx="8156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Львівська обласна державна адміністрація (департамент соціального захисту населе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Львівський обласний центр зайнятості, базові центри зайнятос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1"/>
          <a:stretch/>
        </p:blipFill>
        <p:spPr>
          <a:xfrm>
            <a:off x="10526760" y="176040"/>
            <a:ext cx="1665360" cy="8686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11120" y="272880"/>
            <a:ext cx="740556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Учасники пілотного проекту </a:t>
            </a:r>
            <a:br>
              <a:rPr sz="3200"/>
            </a:b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та форми участі </a:t>
            </a:r>
            <a:br>
              <a:rPr sz="3200"/>
            </a:b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04720" y="1630440"/>
            <a:ext cx="112143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rebuchet MS"/>
              </a:rPr>
              <a:t>До проекту залучаю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2" descr=""/>
          <p:cNvPicPr/>
          <p:nvPr/>
        </p:nvPicPr>
        <p:blipFill>
          <a:blip r:embed="rId1"/>
          <a:stretch/>
        </p:blipFill>
        <p:spPr>
          <a:xfrm>
            <a:off x="9826560" y="200160"/>
            <a:ext cx="2111400" cy="114912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7"/>
          <p:cNvSpPr/>
          <p:nvPr/>
        </p:nvSpPr>
        <p:spPr>
          <a:xfrm>
            <a:off x="593640" y="2098800"/>
            <a:ext cx="367344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непрацюючі працездатні особи з числа </a:t>
            </a: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членів малозабезпечених сімей, які отримують державну соціальну допомогу малозабезпеченим сім’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8"/>
          <p:cNvSpPr/>
          <p:nvPr/>
        </p:nvSpPr>
        <p:spPr>
          <a:xfrm>
            <a:off x="4687920" y="2176560"/>
            <a:ext cx="285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непрацюючі працездатні особи з числа внутрішньо переміщених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9"/>
          <p:cNvSpPr/>
          <p:nvPr/>
        </p:nvSpPr>
        <p:spPr>
          <a:xfrm>
            <a:off x="7839000" y="2095560"/>
            <a:ext cx="3900600" cy="18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суб’єкти господарювання, які  працевлаштують не менше як 2-ох осіб з числа ВПО, членів малозабезпечених сімей, учасників АТО, терміном не менше як на 2 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3460680" y="4465800"/>
            <a:ext cx="51451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rebuchet MS"/>
              </a:rPr>
              <a:t>Форми участі у проек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11"/>
          <p:cNvSpPr/>
          <p:nvPr/>
        </p:nvSpPr>
        <p:spPr>
          <a:xfrm>
            <a:off x="619200" y="504036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працевлаштування, в тому числі на нові робочі місц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12"/>
          <p:cNvSpPr/>
          <p:nvPr/>
        </p:nvSpPr>
        <p:spPr>
          <a:xfrm>
            <a:off x="4686480" y="507852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участь в громадських роботах та інших роботах тимчасового характ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14"/>
          <p:cNvSpPr/>
          <p:nvPr/>
        </p:nvSpPr>
        <p:spPr>
          <a:xfrm>
            <a:off x="8001000" y="5057640"/>
            <a:ext cx="332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дання безвідсоткової фінансової допомоги на поворотній основі для організації підприємницьк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8520" y="147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3600" spc="-1" strike="noStrike">
                <a:solidFill>
                  <a:srgbClr val="e84c22"/>
                </a:solidFill>
                <a:latin typeface="Trebuchet MS"/>
              </a:rPr>
              <a:t>     </a:t>
            </a: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Механізм реалізації проекту </a:t>
            </a:r>
            <a:br>
              <a:rPr sz="3600"/>
            </a:b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 «Рука допомоги»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51" name="Объект 3" descr=""/>
          <p:cNvPicPr/>
          <p:nvPr/>
        </p:nvPicPr>
        <p:blipFill>
          <a:blip r:embed="rId1"/>
          <a:stretch/>
        </p:blipFill>
        <p:spPr>
          <a:xfrm>
            <a:off x="-98280" y="3041640"/>
            <a:ext cx="1296720" cy="14079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730080" y="3500280"/>
            <a:ext cx="21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одання учасником до органів соц. захисту за місцем проживанн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-заяви на участь у проекті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-довідки, що підтверджує статус МЗС чи ВП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2428920" y="1703520"/>
            <a:ext cx="14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Рисунок 9" descr=""/>
          <p:cNvPicPr/>
          <p:nvPr/>
        </p:nvPicPr>
        <p:blipFill>
          <a:blip r:embed="rId2"/>
          <a:stretch/>
        </p:blipFill>
        <p:spPr>
          <a:xfrm>
            <a:off x="2801880" y="2671920"/>
            <a:ext cx="1590840" cy="1214280"/>
          </a:xfrm>
          <a:prstGeom prst="rect">
            <a:avLst/>
          </a:prstGeom>
          <a:ln w="0">
            <a:noFill/>
          </a:ln>
        </p:spPr>
      </p:pic>
      <p:sp>
        <p:nvSpPr>
          <p:cNvPr id="255" name="TextBox 11"/>
          <p:cNvSpPr/>
          <p:nvPr/>
        </p:nvSpPr>
        <p:spPr>
          <a:xfrm>
            <a:off x="3429000" y="1754280"/>
            <a:ext cx="180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rebuchet MS"/>
              </a:rPr>
              <a:t>Визначення форми уча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001960" y="2098800"/>
            <a:ext cx="139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рацевлаштування та/або участь у громадських робот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862440" y="2327400"/>
            <a:ext cx="1324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тримання фінансової допомоги для започаткування власної спра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6242040" y="1687680"/>
            <a:ext cx="10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Рисунок 15" descr=""/>
          <p:cNvPicPr/>
          <p:nvPr/>
        </p:nvPicPr>
        <p:blipFill>
          <a:blip r:embed="rId3"/>
          <a:stretch/>
        </p:blipFill>
        <p:spPr>
          <a:xfrm>
            <a:off x="5241960" y="2457360"/>
            <a:ext cx="1533600" cy="1197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16"/>
          <p:cNvSpPr/>
          <p:nvPr/>
        </p:nvSpPr>
        <p:spPr>
          <a:xfrm>
            <a:off x="6462720" y="2057400"/>
            <a:ext cx="17082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Навчання (за бажанням учасника), консультування учасника з питань провадження підприємницько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діяльност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8"/>
          <p:cNvSpPr/>
          <p:nvPr/>
        </p:nvSpPr>
        <p:spPr>
          <a:xfrm>
            <a:off x="9005760" y="2209680"/>
            <a:ext cx="119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ідготовка бізнес-п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Рисунок 19" descr=""/>
          <p:cNvPicPr/>
          <p:nvPr/>
        </p:nvPicPr>
        <p:blipFill>
          <a:blip r:embed="rId4"/>
          <a:stretch/>
        </p:blipFill>
        <p:spPr>
          <a:xfrm>
            <a:off x="7978680" y="2057400"/>
            <a:ext cx="1571760" cy="140796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20" descr=""/>
          <p:cNvPicPr/>
          <p:nvPr/>
        </p:nvPicPr>
        <p:blipFill>
          <a:blip r:embed="rId5"/>
          <a:stretch/>
        </p:blipFill>
        <p:spPr>
          <a:xfrm>
            <a:off x="10372680" y="2098800"/>
            <a:ext cx="1646280" cy="1158840"/>
          </a:xfrm>
          <a:prstGeom prst="rect">
            <a:avLst/>
          </a:prstGeom>
          <a:ln w="0">
            <a:noFill/>
          </a:ln>
        </p:spPr>
      </p:pic>
      <p:sp>
        <p:nvSpPr>
          <p:cNvPr id="264" name="TextBox 23"/>
          <p:cNvSpPr/>
          <p:nvPr/>
        </p:nvSpPr>
        <p:spPr>
          <a:xfrm>
            <a:off x="8461440" y="1703520"/>
            <a:ext cx="11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6"/>
          <p:cNvSpPr/>
          <p:nvPr/>
        </p:nvSpPr>
        <p:spPr>
          <a:xfrm>
            <a:off x="10002960" y="2959200"/>
            <a:ext cx="21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Розгляд бізнес-планів Комісією Л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0"/>
          <p:cNvSpPr/>
          <p:nvPr/>
        </p:nvSpPr>
        <p:spPr>
          <a:xfrm>
            <a:off x="10533240" y="1622520"/>
            <a:ext cx="99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КРОК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31" descr=""/>
          <p:cNvPicPr/>
          <p:nvPr/>
        </p:nvPicPr>
        <p:blipFill>
          <a:blip r:embed="rId6"/>
          <a:stretch/>
        </p:blipFill>
        <p:spPr>
          <a:xfrm>
            <a:off x="10291680" y="4005360"/>
            <a:ext cx="1390680" cy="8492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2"/>
          <p:cNvSpPr/>
          <p:nvPr/>
        </p:nvSpPr>
        <p:spPr>
          <a:xfrm>
            <a:off x="10520280" y="3541680"/>
            <a:ext cx="11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3"/>
          <p:cNvSpPr/>
          <p:nvPr/>
        </p:nvSpPr>
        <p:spPr>
          <a:xfrm>
            <a:off x="9005760" y="4048200"/>
            <a:ext cx="171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Повідомлення про рішення Комісі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34" descr=""/>
          <p:cNvPicPr/>
          <p:nvPr/>
        </p:nvPicPr>
        <p:blipFill>
          <a:blip r:embed="rId7"/>
          <a:stretch/>
        </p:blipFill>
        <p:spPr>
          <a:xfrm>
            <a:off x="10452240" y="5235480"/>
            <a:ext cx="1230120" cy="1219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6"/>
          <p:cNvSpPr/>
          <p:nvPr/>
        </p:nvSpPr>
        <p:spPr>
          <a:xfrm rot="5400000">
            <a:off x="11222280" y="5396040"/>
            <a:ext cx="94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КРОК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7"/>
          <p:cNvSpPr/>
          <p:nvPr/>
        </p:nvSpPr>
        <p:spPr>
          <a:xfrm>
            <a:off x="9578880" y="5402160"/>
            <a:ext cx="1144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Реєстрація Учасника як Ф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Рисунок 38" descr=""/>
          <p:cNvPicPr/>
          <p:nvPr/>
        </p:nvPicPr>
        <p:blipFill>
          <a:blip r:embed="rId8"/>
          <a:stretch/>
        </p:blipFill>
        <p:spPr>
          <a:xfrm>
            <a:off x="8331120" y="4946760"/>
            <a:ext cx="1495440" cy="124452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2"/>
          <p:cNvSpPr/>
          <p:nvPr/>
        </p:nvSpPr>
        <p:spPr>
          <a:xfrm>
            <a:off x="8661240" y="630864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3"/>
          <p:cNvSpPr/>
          <p:nvPr/>
        </p:nvSpPr>
        <p:spPr>
          <a:xfrm>
            <a:off x="7477200" y="5092560"/>
            <a:ext cx="1184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Укладання договору про надання фін. допомо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Рисунок 44" descr=""/>
          <p:cNvPicPr/>
          <p:nvPr/>
        </p:nvPicPr>
        <p:blipFill>
          <a:blip r:embed="rId9"/>
          <a:stretch/>
        </p:blipFill>
        <p:spPr>
          <a:xfrm>
            <a:off x="5684760" y="5235480"/>
            <a:ext cx="1560600" cy="6177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45"/>
          <p:cNvSpPr/>
          <p:nvPr/>
        </p:nvSpPr>
        <p:spPr>
          <a:xfrm>
            <a:off x="6102360" y="6327720"/>
            <a:ext cx="12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7"/>
          <p:cNvSpPr/>
          <p:nvPr/>
        </p:nvSpPr>
        <p:spPr>
          <a:xfrm>
            <a:off x="4716360" y="5106960"/>
            <a:ext cx="1324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rebuchet MS"/>
              </a:rPr>
              <a:t>Оплата витрат на закупівлю матеріалів /обладнан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9"/>
          <p:cNvSpPr/>
          <p:nvPr/>
        </p:nvSpPr>
        <p:spPr>
          <a:xfrm>
            <a:off x="3735360" y="6261120"/>
            <a:ext cx="11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Рисунок 50" descr=""/>
          <p:cNvPicPr/>
          <p:nvPr/>
        </p:nvPicPr>
        <p:blipFill>
          <a:blip r:embed="rId10"/>
          <a:stretch/>
        </p:blipFill>
        <p:spPr>
          <a:xfrm>
            <a:off x="2717640" y="4898880"/>
            <a:ext cx="1525680" cy="14558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51"/>
          <p:cNvSpPr/>
          <p:nvPr/>
        </p:nvSpPr>
        <p:spPr>
          <a:xfrm>
            <a:off x="3052800" y="437976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Trebuchet MS"/>
              </a:rPr>
              <a:t>Успішне ведення бізн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Рисунок 2" descr=""/>
          <p:cNvPicPr/>
          <p:nvPr/>
        </p:nvPicPr>
        <p:blipFill>
          <a:blip r:embed="rId11"/>
          <a:stretch/>
        </p:blipFill>
        <p:spPr>
          <a:xfrm>
            <a:off x="10002960" y="152280"/>
            <a:ext cx="2079360" cy="108612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6"/>
          <p:cNvSpPr/>
          <p:nvPr/>
        </p:nvSpPr>
        <p:spPr>
          <a:xfrm>
            <a:off x="100080" y="2671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КРОК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Рисунок 5" descr=""/>
          <p:cNvPicPr/>
          <p:nvPr/>
        </p:nvPicPr>
        <p:blipFill>
          <a:blip r:embed="rId1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72960" y="193680"/>
            <a:ext cx="10515600" cy="13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Підтримка підприємницьких </a:t>
            </a:r>
            <a:br>
              <a:rPr sz="3600"/>
            </a:b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ініціатив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557760" y="2495520"/>
            <a:ext cx="5119560" cy="10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  <a:ea typeface="Arial"/>
              </a:rPr>
              <a:t>Фінансова допомога не повертається, якщо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84c22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Рисунок 3" descr=""/>
          <p:cNvPicPr/>
          <p:nvPr/>
        </p:nvPicPr>
        <p:blipFill>
          <a:blip r:embed="rId1"/>
          <a:stretch/>
        </p:blipFill>
        <p:spPr>
          <a:xfrm>
            <a:off x="9840960" y="193680"/>
            <a:ext cx="1923840" cy="108432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5"/>
          <p:cNvSpPr/>
          <p:nvPr/>
        </p:nvSpPr>
        <p:spPr>
          <a:xfrm>
            <a:off x="587520" y="1650960"/>
            <a:ext cx="11604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000000"/>
                </a:solidFill>
                <a:latin typeface="Arial"/>
              </a:rPr>
              <a:t>Розмір безвідсоткової фінансової допомоги – до </a:t>
            </a:r>
            <a:r>
              <a:rPr b="1" sz="3000" spc="-1" strike="noStrike">
                <a:solidFill>
                  <a:srgbClr val="000000"/>
                </a:solidFill>
                <a:latin typeface="Arial"/>
              </a:rPr>
              <a:t>70 480 </a:t>
            </a:r>
            <a:r>
              <a:rPr b="0" sz="3000" spc="-1" strike="noStrike">
                <a:solidFill>
                  <a:srgbClr val="000000"/>
                </a:solidFill>
                <a:latin typeface="Arial"/>
              </a:rPr>
              <a:t>гривен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6"/>
          <p:cNvSpPr/>
          <p:nvPr/>
        </p:nvSpPr>
        <p:spPr>
          <a:xfrm>
            <a:off x="500040" y="2460600"/>
            <a:ext cx="519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Термін повернення – упродовж  3-ьох ро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Arial"/>
              </a:rPr>
              <a:t>Сума фінансової допомоги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, що повертається, </a:t>
            </a:r>
            <a:r>
              <a:rPr b="1" sz="1800" spc="-1" strike="noStrike">
                <a:solidFill>
                  <a:srgbClr val="000000"/>
                </a:solidFill>
                <a:latin typeface="Arial"/>
              </a:rPr>
              <a:t>зменшується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 на суму сплачених учасником проекту податків, зборів і ЄСВ або на суму єдиного внеску, сплаченого СГ за працевлаштованих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7"/>
          <p:cNvSpPr/>
          <p:nvPr/>
        </p:nvSpPr>
        <p:spPr>
          <a:xfrm>
            <a:off x="6431040" y="3529080"/>
            <a:ext cx="53258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часник проекту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цевлаштовує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в перший рік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менш як двох осіб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із числа осіб малозабезпечених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ПО або АТО, строком не менш як на два ро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6520" y="434520"/>
            <a:ext cx="105156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Результати реалізації проекту </a:t>
            </a:r>
            <a:br>
              <a:rPr sz="3200"/>
            </a:b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«Рука допомоги» </a:t>
            </a:r>
            <a:br>
              <a:rPr sz="3200"/>
            </a:br>
            <a:r>
              <a:rPr b="1" lang="uk-UA" sz="2000" spc="-1" strike="noStrike">
                <a:solidFill>
                  <a:srgbClr val="000000"/>
                </a:solidFill>
                <a:latin typeface="Trebuchet MS"/>
              </a:rPr>
              <a:t>станом на 31.07.2018</a:t>
            </a:r>
            <a:endParaRPr b="0" lang="en-US" sz="20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293" name="Рисунок 25" descr=""/>
          <p:cNvPicPr/>
          <p:nvPr/>
        </p:nvPicPr>
        <p:blipFill>
          <a:blip r:embed="rId1"/>
          <a:stretch/>
        </p:blipFill>
        <p:spPr>
          <a:xfrm>
            <a:off x="9837720" y="74520"/>
            <a:ext cx="2077920" cy="1084320"/>
          </a:xfrm>
          <a:prstGeom prst="rect">
            <a:avLst/>
          </a:prstGeom>
          <a:ln w="0">
            <a:noFill/>
          </a:ln>
        </p:spPr>
      </p:pic>
      <p:sp>
        <p:nvSpPr>
          <p:cNvPr id="294" name="Блок-схема: альтернативный процесс 2"/>
          <p:cNvSpPr/>
          <p:nvPr/>
        </p:nvSpPr>
        <p:spPr>
          <a:xfrm>
            <a:off x="1346040" y="2138400"/>
            <a:ext cx="9448920" cy="84780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Кількість учасників проекту у Львівській обла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rebuchet MS"/>
              </a:rPr>
              <a:t>966 осі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Блок-схема: альтернативный процесс 9"/>
          <p:cNvSpPr/>
          <p:nvPr/>
        </p:nvSpPr>
        <p:spPr>
          <a:xfrm>
            <a:off x="863640" y="3468600"/>
            <a:ext cx="3048120" cy="75564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719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працевлаш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Блок-схема: альтернативный процесс 27"/>
          <p:cNvSpPr/>
          <p:nvPr/>
        </p:nvSpPr>
        <p:spPr>
          <a:xfrm>
            <a:off x="4361040" y="3468600"/>
            <a:ext cx="3208320" cy="79236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79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громадські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Блок-схема: альтернативный процесс 28"/>
          <p:cNvSpPr/>
          <p:nvPr/>
        </p:nvSpPr>
        <p:spPr>
          <a:xfrm>
            <a:off x="7826400" y="3503520"/>
            <a:ext cx="3797280" cy="757440"/>
          </a:xfrm>
          <a:prstGeom prst="flowChartAlternateProcess">
            <a:avLst/>
          </a:prstGeom>
          <a:solidFill>
            <a:srgbClr val="f6b7a7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170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на фінансову допомо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Блок-схема: альтернативный процесс 29"/>
          <p:cNvSpPr/>
          <p:nvPr/>
        </p:nvSpPr>
        <p:spPr>
          <a:xfrm>
            <a:off x="824040" y="477216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399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rebuchet MS"/>
              </a:rPr>
              <a:t>працевлаштовано</a:t>
            </a: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Блок-схема: альтернативный процесс 30"/>
          <p:cNvSpPr/>
          <p:nvPr/>
        </p:nvSpPr>
        <p:spPr>
          <a:xfrm>
            <a:off x="4321080" y="477216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38 осі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rebuchet MS"/>
              </a:rPr>
              <a:t>беруть участь у громадських робо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Блок-схема: альтернативный процесс 31"/>
          <p:cNvSpPr/>
          <p:nvPr/>
        </p:nvSpPr>
        <p:spPr>
          <a:xfrm>
            <a:off x="7786800" y="477216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прийнято 105 рішень про надання фінансової допом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Стрелка вниз 36"/>
          <p:cNvSpPr/>
          <p:nvPr/>
        </p:nvSpPr>
        <p:spPr>
          <a:xfrm>
            <a:off x="2352600" y="3076560"/>
            <a:ext cx="436680" cy="420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2da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Рисунок 43" descr=""/>
          <p:cNvPicPr/>
          <p:nvPr/>
        </p:nvPicPr>
        <p:blipFill>
          <a:blip r:embed="rId2"/>
          <a:stretch/>
        </p:blipFill>
        <p:spPr>
          <a:xfrm>
            <a:off x="5999040" y="3059280"/>
            <a:ext cx="487440" cy="444240"/>
          </a:xfrm>
          <a:prstGeom prst="rect">
            <a:avLst/>
          </a:prstGeom>
          <a:ln w="0">
            <a:noFill/>
          </a:ln>
        </p:spPr>
      </p:pic>
      <p:pic>
        <p:nvPicPr>
          <p:cNvPr id="303" name="Рисунок 44" descr=""/>
          <p:cNvPicPr/>
          <p:nvPr/>
        </p:nvPicPr>
        <p:blipFill>
          <a:blip r:embed="rId3"/>
          <a:stretch/>
        </p:blipFill>
        <p:spPr>
          <a:xfrm>
            <a:off x="9550440" y="3070080"/>
            <a:ext cx="522360" cy="47628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45" descr=""/>
          <p:cNvPicPr/>
          <p:nvPr/>
        </p:nvPicPr>
        <p:blipFill>
          <a:blip r:embed="rId4"/>
          <a:stretch/>
        </p:blipFill>
        <p:spPr>
          <a:xfrm>
            <a:off x="2300400" y="4260960"/>
            <a:ext cx="523800" cy="474480"/>
          </a:xfrm>
          <a:prstGeom prst="rect">
            <a:avLst/>
          </a:prstGeom>
          <a:ln w="0">
            <a:noFill/>
          </a:ln>
        </p:spPr>
      </p:pic>
      <p:pic>
        <p:nvPicPr>
          <p:cNvPr id="305" name="Рисунок 46" descr=""/>
          <p:cNvPicPr/>
          <p:nvPr/>
        </p:nvPicPr>
        <p:blipFill>
          <a:blip r:embed="rId5"/>
          <a:stretch/>
        </p:blipFill>
        <p:spPr>
          <a:xfrm>
            <a:off x="9559800" y="4299120"/>
            <a:ext cx="525600" cy="47592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7" descr=""/>
          <p:cNvPicPr/>
          <p:nvPr/>
        </p:nvPicPr>
        <p:blipFill>
          <a:blip r:embed="rId6"/>
          <a:stretch/>
        </p:blipFill>
        <p:spPr>
          <a:xfrm>
            <a:off x="5962680" y="4246560"/>
            <a:ext cx="523800" cy="476280"/>
          </a:xfrm>
          <a:prstGeom prst="rect">
            <a:avLst/>
          </a:prstGeom>
          <a:ln w="0">
            <a:noFill/>
          </a:ln>
        </p:spPr>
      </p:pic>
      <p:pic>
        <p:nvPicPr>
          <p:cNvPr id="307" name="Рисунок 5" descr=""/>
          <p:cNvPicPr/>
          <p:nvPr/>
        </p:nvPicPr>
        <p:blipFill>
          <a:blip r:embed="rId7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  <p:cxnSp>
        <p:nvCxnSpPr>
          <p:cNvPr id="308" name="Прямая со стрелкой 21"/>
          <p:cNvCxnSpPr/>
          <p:nvPr/>
        </p:nvCxnSpPr>
        <p:spPr>
          <a:xfrm flipH="1">
            <a:off x="8373240" y="5825160"/>
            <a:ext cx="561240" cy="222840"/>
          </a:xfrm>
          <a:prstGeom prst="straightConnector1">
            <a:avLst/>
          </a:prstGeom>
          <a:ln cap="rnd"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Прямоугольник 24"/>
          <p:cNvSpPr/>
          <p:nvPr/>
        </p:nvSpPr>
        <p:spPr>
          <a:xfrm>
            <a:off x="5878440" y="604512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арківська область – 71 ріш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лтавська область – 50 ріш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6520" y="130320"/>
            <a:ext cx="1051560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600" spc="-1" strike="noStrike">
                <a:solidFill>
                  <a:srgbClr val="e84c22"/>
                </a:solidFill>
                <a:latin typeface="Trebuchet MS"/>
              </a:rPr>
              <a:t>    </a:t>
            </a:r>
            <a:endParaRPr b="0" lang="en-US" sz="3600" spc="-1" strike="noStrike">
              <a:solidFill>
                <a:srgbClr val="e84c22"/>
              </a:solidFill>
              <a:latin typeface="Trebuchet MS"/>
            </a:endParaRPr>
          </a:p>
        </p:txBody>
      </p:sp>
      <p:sp>
        <p:nvSpPr>
          <p:cNvPr id="311" name="TextBox 20"/>
          <p:cNvSpPr/>
          <p:nvPr/>
        </p:nvSpPr>
        <p:spPr>
          <a:xfrm>
            <a:off x="-538200" y="43876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Рисунок 25" descr=""/>
          <p:cNvPicPr/>
          <p:nvPr/>
        </p:nvPicPr>
        <p:blipFill>
          <a:blip r:embed="rId1"/>
          <a:stretch/>
        </p:blipFill>
        <p:spPr>
          <a:xfrm>
            <a:off x="10586880" y="74520"/>
            <a:ext cx="1328760" cy="1084320"/>
          </a:xfrm>
          <a:prstGeom prst="rect">
            <a:avLst/>
          </a:prstGeom>
          <a:ln w="0">
            <a:noFill/>
          </a:ln>
        </p:spPr>
      </p:pic>
      <p:sp>
        <p:nvSpPr>
          <p:cNvPr id="313" name="Прямоугольник 33"/>
          <p:cNvSpPr/>
          <p:nvPr/>
        </p:nvSpPr>
        <p:spPr>
          <a:xfrm flipV="1" rot="10800000">
            <a:off x="6791040" y="4503240"/>
            <a:ext cx="208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604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4" name="Прямая со стрелкой 74"/>
          <p:cNvCxnSpPr/>
          <p:nvPr/>
        </p:nvCxnSpPr>
        <p:spPr>
          <a:xfrm>
            <a:off x="10937880" y="6014880"/>
            <a:ext cx="915120" cy="915120"/>
          </a:xfrm>
          <a:prstGeom prst="straightConnector1">
            <a:avLst/>
          </a:prstGeom>
          <a:ln cap="rnd" w="12600">
            <a:solidFill>
              <a:srgbClr val="e84c22"/>
            </a:solidFill>
            <a:miter/>
            <a:tailEnd len="med" type="triangle" w="med"/>
          </a:ln>
        </p:spPr>
      </p:cxnSp>
      <p:sp>
        <p:nvSpPr>
          <p:cNvPr id="315" name="TextBox 9"/>
          <p:cNvSpPr/>
          <p:nvPr/>
        </p:nvSpPr>
        <p:spPr>
          <a:xfrm>
            <a:off x="1463760" y="204840"/>
            <a:ext cx="926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Trebuchet MS"/>
              </a:rPr>
              <a:t>Структура учасників пілотного проекту, щодо яких прийнято рішення надати фіндопомог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Диаграмма 10" descr=""/>
          <p:cNvPicPr/>
          <p:nvPr/>
        </p:nvPicPr>
        <p:blipFill>
          <a:blip r:embed="rId2"/>
          <a:stretch/>
        </p:blipFill>
        <p:spPr>
          <a:xfrm>
            <a:off x="212760" y="1801800"/>
            <a:ext cx="9688320" cy="5418000"/>
          </a:xfrm>
          <a:prstGeom prst="rect">
            <a:avLst/>
          </a:prstGeom>
          <a:ln w="0">
            <a:noFill/>
          </a:ln>
        </p:spPr>
      </p:pic>
      <p:pic>
        <p:nvPicPr>
          <p:cNvPr id="317" name="Рисунок 5" descr=""/>
          <p:cNvPicPr/>
          <p:nvPr/>
        </p:nvPicPr>
        <p:blipFill>
          <a:blip r:embed="rId3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07720" y="31320"/>
            <a:ext cx="10372680" cy="11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200" spc="-1" strike="noStrike">
                <a:solidFill>
                  <a:srgbClr val="e84c22"/>
                </a:solidFill>
                <a:latin typeface="Trebuchet MS"/>
              </a:rPr>
              <a:t>Сфери діяльності учасників проекту, щодо яких прийнято рішення надати фіндопомогу </a:t>
            </a:r>
            <a:endParaRPr b="0" lang="en-US" sz="32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19" name="Рисунок 2" descr=""/>
          <p:cNvPicPr/>
          <p:nvPr/>
        </p:nvPicPr>
        <p:blipFill>
          <a:blip r:embed="rId1"/>
          <a:stretch/>
        </p:blipFill>
        <p:spPr>
          <a:xfrm>
            <a:off x="10113840" y="5772240"/>
            <a:ext cx="2078280" cy="1085760"/>
          </a:xfrm>
          <a:prstGeom prst="rect">
            <a:avLst/>
          </a:prstGeom>
          <a:ln w="0">
            <a:noFill/>
          </a:ln>
        </p:spPr>
      </p:pic>
      <p:pic>
        <p:nvPicPr>
          <p:cNvPr id="320" name="Объект 11" descr=""/>
          <p:cNvPicPr/>
          <p:nvPr/>
        </p:nvPicPr>
        <p:blipFill>
          <a:blip r:embed="rId2"/>
          <a:stretch/>
        </p:blipFill>
        <p:spPr>
          <a:xfrm>
            <a:off x="-2766960" y="1163520"/>
            <a:ext cx="12999960" cy="569448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5" descr=""/>
          <p:cNvPicPr/>
          <p:nvPr/>
        </p:nvPicPr>
        <p:blipFill>
          <a:blip r:embed="rId3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47560" y="0"/>
            <a:ext cx="1037268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3000" spc="-1" strike="noStrike">
                <a:solidFill>
                  <a:srgbClr val="e84c22"/>
                </a:solidFill>
                <a:latin typeface="Trebuchet MS"/>
              </a:rPr>
              <a:t>       </a:t>
            </a:r>
            <a:r>
              <a:rPr b="1" lang="uk-UA" sz="3000" spc="-1" strike="noStrike">
                <a:solidFill>
                  <a:srgbClr val="e84c22"/>
                </a:solidFill>
                <a:latin typeface="Trebuchet MS"/>
              </a:rPr>
              <a:t>Сфери діяльності учасників проекту, щодо яких прийнято рішення надати фіндопомогу в галузі сільського господарства</a:t>
            </a:r>
            <a:endParaRPr b="0" lang="en-US" sz="3000" spc="-1" strike="noStrike">
              <a:solidFill>
                <a:srgbClr val="e84c22"/>
              </a:solidFill>
              <a:latin typeface="Trebuchet MS"/>
            </a:endParaRPr>
          </a:p>
        </p:txBody>
      </p:sp>
      <p:pic>
        <p:nvPicPr>
          <p:cNvPr id="323" name="Рисунок 2" descr=""/>
          <p:cNvPicPr/>
          <p:nvPr/>
        </p:nvPicPr>
        <p:blipFill>
          <a:blip r:embed="rId1"/>
          <a:stretch/>
        </p:blipFill>
        <p:spPr>
          <a:xfrm>
            <a:off x="10113840" y="5772240"/>
            <a:ext cx="2078280" cy="1085760"/>
          </a:xfrm>
          <a:prstGeom prst="rect">
            <a:avLst/>
          </a:prstGeom>
          <a:ln w="0">
            <a:noFill/>
          </a:ln>
        </p:spPr>
      </p:pic>
      <p:sp>
        <p:nvSpPr>
          <p:cNvPr id="324" name="Блок-схема: альтернативный процесс 8"/>
          <p:cNvSpPr/>
          <p:nvPr/>
        </p:nvSpPr>
        <p:spPr>
          <a:xfrm>
            <a:off x="849240" y="1911240"/>
            <a:ext cx="3221280" cy="10321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бництво си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Придбання пастеризатора, камери для визріванн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альтернативный процесс 9"/>
          <p:cNvSpPr/>
          <p:nvPr/>
        </p:nvSpPr>
        <p:spPr>
          <a:xfrm>
            <a:off x="4346640" y="1911240"/>
            <a:ext cx="3208320" cy="10321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курей-несуч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Обладнання (лампа, вентилятор, сітка, корм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Блок-схема: альтернативный процесс 10"/>
          <p:cNvSpPr/>
          <p:nvPr/>
        </p:nvSpPr>
        <p:spPr>
          <a:xfrm>
            <a:off x="7812000" y="1911240"/>
            <a:ext cx="3797280" cy="102888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ирощування с/г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Міндобрива, насіння, гербіци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Блок-схема: альтернативный процесс 11"/>
          <p:cNvSpPr/>
          <p:nvPr/>
        </p:nvSpPr>
        <p:spPr>
          <a:xfrm>
            <a:off x="858960" y="337032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Міні ферми по розведенні птиц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Інкубатор, вентилятор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Блок-схема: альтернативный процесс 12"/>
          <p:cNvSpPr/>
          <p:nvPr/>
        </p:nvSpPr>
        <p:spPr>
          <a:xfrm>
            <a:off x="4356000" y="337032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ма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Матеріали для виготовлення теплиц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Блок-схема: альтернативный процесс 13"/>
          <p:cNvSpPr/>
          <p:nvPr/>
        </p:nvSpPr>
        <p:spPr>
          <a:xfrm>
            <a:off x="7821720" y="337032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Тепличне госпо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Розсада овочів, квітів та зеле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Блок-схема: альтернативный процесс 14"/>
          <p:cNvSpPr/>
          <p:nvPr/>
        </p:nvSpPr>
        <p:spPr>
          <a:xfrm>
            <a:off x="866880" y="4815000"/>
            <a:ext cx="32209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Надання послуг по обробці земл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rebuchet MS"/>
              </a:rPr>
              <a:t>Розсіювач міндобрив, борона, культив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Блок-схема: альтернативный процесс 15"/>
          <p:cNvSpPr/>
          <p:nvPr/>
        </p:nvSpPr>
        <p:spPr>
          <a:xfrm>
            <a:off x="4363920" y="4815000"/>
            <a:ext cx="3208320" cy="103176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Вирощування зернових сільськогосподарських куль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Блок-схема: альтернативный процесс 16"/>
          <p:cNvSpPr/>
          <p:nvPr/>
        </p:nvSpPr>
        <p:spPr>
          <a:xfrm>
            <a:off x="7829640" y="4815000"/>
            <a:ext cx="3797280" cy="1028520"/>
          </a:xfrm>
          <a:prstGeom prst="flowChartAlternateProcess">
            <a:avLst/>
          </a:prstGeom>
          <a:solidFill>
            <a:srgbClr val="e8dce6"/>
          </a:solidFill>
          <a:ln cap="rnd" w="19080">
            <a:solidFill>
              <a:srgbClr val="aa35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rebuchet MS"/>
              </a:rPr>
              <a:t>Розвиток підприємства ландшафтного дизай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Рисунок 5" descr=""/>
          <p:cNvPicPr/>
          <p:nvPr/>
        </p:nvPicPr>
        <p:blipFill>
          <a:blip r:embed="rId2"/>
          <a:stretch/>
        </p:blipFill>
        <p:spPr>
          <a:xfrm>
            <a:off x="266760" y="166680"/>
            <a:ext cx="14666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15:04:55Z</dcterms:created>
  <dc:creator>Paranko</dc:creator>
  <dc:description/>
  <dc:language>en-US</dc:language>
  <cp:lastModifiedBy>Наталя Угляр</cp:lastModifiedBy>
  <dcterms:modified xsi:type="dcterms:W3CDTF">2018-07-31T09:08:43Z</dcterms:modified>
  <cp:revision>100</cp:revision>
  <dc:subject/>
  <dc:title>ПІЛОТНИЙ ПРОЕКТ із залучення до роботи членів малозабезпечених сімей та внутрішньо переміщених осіб «Рука допомоги»</dc:title>
</cp:coreProperties>
</file>